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5AB-3BCD-4D83-9F4C-09AED71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E69-47EC-45F2-9BE1-9CC03A4D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706-64F8-451C-92D3-DC49899C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508-C339-42EF-8F03-60D46B06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E57-183C-48C3-ADB4-04F5D07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713-38F8-46DE-8CFA-36C8ECD6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367-9D4E-469E-9110-AC8682C1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003-83E8-4D1F-9AE9-2C0E882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2BD-A33E-4487-886C-2462780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04B-B310-4A75-907F-7817690F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68E-DC84-4931-9683-0BB2A7C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3B5-1A54-42D4-8AE4-A3BCBC35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EAF-03B9-4CAB-AC82-B2404F8A4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3ebf1"/>
                </a:solidFill>
                <a:latin typeface="Arial"/>
              </a:rPr>
              <a:t>Lesson 9.6</a:t>
            </a:r>
            <a:br>
              <a:rPr sz="7500"/>
            </a:br>
            <a:endParaRPr b="0" lang="en-US" sz="75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dering of elements such that the order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n!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(n-r)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lculate these permutations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7240" y="1751040"/>
            <a:ext cx="982800" cy="571320"/>
          </a:xfrm>
          <a:custGeom>
            <a:avLst/>
            <a:gdLst/>
            <a:ahLst/>
            <a:rect l="l" t="t" r="r" b="b"/>
            <a:pathLst>
              <a:path w="2729" h="1588">
                <a:moveTo>
                  <a:pt x="8434" y="5234"/>
                </a:moveTo>
                <a:cubicBezTo>
                  <a:pt x="8401" y="5179"/>
                  <a:pt x="8406" y="5189"/>
                  <a:pt x="8434" y="5135"/>
                </a:cubicBezTo>
                <a:cubicBezTo>
                  <a:pt x="8462" y="5081"/>
                  <a:pt x="8551" y="4993"/>
                  <a:pt x="8607" y="4961"/>
                </a:cubicBezTo>
                <a:cubicBezTo>
                  <a:pt x="8682" y="4919"/>
                  <a:pt x="8869" y="4848"/>
                  <a:pt x="8954" y="4862"/>
                </a:cubicBezTo>
                <a:cubicBezTo>
                  <a:pt x="9054" y="4879"/>
                  <a:pt x="9099" y="4913"/>
                  <a:pt x="9103" y="5011"/>
                </a:cubicBezTo>
                <a:cubicBezTo>
                  <a:pt x="9109" y="5142"/>
                  <a:pt x="9038" y="5236"/>
                  <a:pt x="8954" y="5333"/>
                </a:cubicBezTo>
                <a:cubicBezTo>
                  <a:pt x="8872" y="5428"/>
                  <a:pt x="8805" y="5484"/>
                  <a:pt x="8706" y="5556"/>
                </a:cubicBezTo>
                <a:cubicBezTo>
                  <a:pt x="8682" y="5581"/>
                  <a:pt x="8674" y="5590"/>
                  <a:pt x="8657" y="5606"/>
                </a:cubicBezTo>
                <a:cubicBezTo>
                  <a:pt x="8684" y="5551"/>
                  <a:pt x="8695" y="5518"/>
                  <a:pt x="8756" y="5482"/>
                </a:cubicBezTo>
                <a:cubicBezTo>
                  <a:pt x="8833" y="5437"/>
                  <a:pt x="8893" y="5488"/>
                  <a:pt x="8954" y="5531"/>
                </a:cubicBezTo>
                <a:cubicBezTo>
                  <a:pt x="9042" y="5592"/>
                  <a:pt x="9107" y="5680"/>
                  <a:pt x="9153" y="5779"/>
                </a:cubicBezTo>
                <a:cubicBezTo>
                  <a:pt x="9186" y="5850"/>
                  <a:pt x="9200" y="5961"/>
                  <a:pt x="9153" y="6028"/>
                </a:cubicBezTo>
                <a:cubicBezTo>
                  <a:pt x="9102" y="6102"/>
                  <a:pt x="8988" y="6175"/>
                  <a:pt x="8905" y="6201"/>
                </a:cubicBezTo>
                <a:cubicBezTo>
                  <a:pt x="8794" y="6236"/>
                  <a:pt x="8666" y="6254"/>
                  <a:pt x="8582" y="6152"/>
                </a:cubicBezTo>
                <a:cubicBezTo>
                  <a:pt x="8560" y="6085"/>
                  <a:pt x="8549" y="6067"/>
                  <a:pt x="8582" y="6028"/>
                </a:cubicBezTo>
              </a:path>
              <a:path w="2729" h="1588">
                <a:moveTo>
                  <a:pt x="9451" y="5184"/>
                </a:moveTo>
                <a:cubicBezTo>
                  <a:pt x="9482" y="5153"/>
                  <a:pt x="9494" y="5107"/>
                  <a:pt x="9525" y="5085"/>
                </a:cubicBezTo>
                <a:cubicBezTo>
                  <a:pt x="9559" y="5060"/>
                  <a:pt x="9640" y="4975"/>
                  <a:pt x="9674" y="4961"/>
                </a:cubicBezTo>
                <a:cubicBezTo>
                  <a:pt x="9740" y="4934"/>
                  <a:pt x="9807" y="4932"/>
                  <a:pt x="9872" y="4961"/>
                </a:cubicBezTo>
                <a:cubicBezTo>
                  <a:pt x="9944" y="4993"/>
                  <a:pt x="9984" y="5078"/>
                  <a:pt x="9971" y="5159"/>
                </a:cubicBezTo>
                <a:cubicBezTo>
                  <a:pt x="9955" y="5259"/>
                  <a:pt x="9872" y="5412"/>
                  <a:pt x="9798" y="5482"/>
                </a:cubicBezTo>
                <a:cubicBezTo>
                  <a:pt x="9734" y="5543"/>
                  <a:pt x="9645" y="5590"/>
                  <a:pt x="9575" y="5631"/>
                </a:cubicBezTo>
                <a:cubicBezTo>
                  <a:pt x="9630" y="5552"/>
                  <a:pt x="9674" y="5516"/>
                  <a:pt x="9773" y="5507"/>
                </a:cubicBezTo>
                <a:cubicBezTo>
                  <a:pt x="9919" y="5493"/>
                  <a:pt x="10017" y="5612"/>
                  <a:pt x="10071" y="5730"/>
                </a:cubicBezTo>
                <a:cubicBezTo>
                  <a:pt x="10110" y="5817"/>
                  <a:pt x="10124" y="5941"/>
                  <a:pt x="10096" y="6028"/>
                </a:cubicBezTo>
                <a:cubicBezTo>
                  <a:pt x="10073" y="6101"/>
                  <a:pt x="9990" y="6212"/>
                  <a:pt x="9922" y="6251"/>
                </a:cubicBezTo>
                <a:cubicBezTo>
                  <a:pt x="9815" y="6312"/>
                  <a:pt x="9699" y="6321"/>
                  <a:pt x="9599" y="6251"/>
                </a:cubicBezTo>
                <a:cubicBezTo>
                  <a:pt x="9553" y="6205"/>
                  <a:pt x="9539" y="6192"/>
                  <a:pt x="9525" y="6152"/>
                </a:cubicBezTo>
              </a:path>
              <a:path w="2729" h="1588">
                <a:moveTo>
                  <a:pt x="10418" y="5011"/>
                </a:moveTo>
                <a:cubicBezTo>
                  <a:pt x="10388" y="5141"/>
                  <a:pt x="10376" y="5274"/>
                  <a:pt x="10344" y="5407"/>
                </a:cubicBezTo>
                <a:cubicBezTo>
                  <a:pt x="10314" y="5531"/>
                  <a:pt x="10270" y="5633"/>
                  <a:pt x="10319" y="5755"/>
                </a:cubicBezTo>
                <a:cubicBezTo>
                  <a:pt x="10363" y="5863"/>
                  <a:pt x="10391" y="5914"/>
                  <a:pt x="10492" y="5978"/>
                </a:cubicBezTo>
                <a:cubicBezTo>
                  <a:pt x="10599" y="6046"/>
                  <a:pt x="10699" y="6085"/>
                  <a:pt x="10815" y="6052"/>
                </a:cubicBezTo>
                <a:cubicBezTo>
                  <a:pt x="10933" y="6018"/>
                  <a:pt x="11028" y="5938"/>
                  <a:pt x="11088" y="5829"/>
                </a:cubicBezTo>
                <a:cubicBezTo>
                  <a:pt x="11118" y="5774"/>
                  <a:pt x="11152" y="5671"/>
                  <a:pt x="11137" y="5606"/>
                </a:cubicBezTo>
                <a:cubicBezTo>
                  <a:pt x="11124" y="5550"/>
                  <a:pt x="11030" y="5544"/>
                  <a:pt x="10988" y="5556"/>
                </a:cubicBezTo>
                <a:cubicBezTo>
                  <a:pt x="10869" y="5589"/>
                  <a:pt x="10811" y="5700"/>
                  <a:pt x="10765" y="5804"/>
                </a:cubicBezTo>
                <a:cubicBezTo>
                  <a:pt x="10706" y="5936"/>
                  <a:pt x="10630" y="6132"/>
                  <a:pt x="10616" y="6276"/>
                </a:cubicBezTo>
                <a:cubicBezTo>
                  <a:pt x="10616" y="6334"/>
                  <a:pt x="10616" y="6391"/>
                  <a:pt x="10616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0240" y="2901960"/>
            <a:ext cx="1044720" cy="571320"/>
          </a:xfrm>
          <a:custGeom>
            <a:avLst/>
            <a:gdLst/>
            <a:ahLst/>
            <a:rect l="l" t="t" r="r" b="b"/>
            <a:pathLst>
              <a:path w="2904" h="1588">
                <a:moveTo>
                  <a:pt x="8979" y="8384"/>
                </a:moveTo>
                <a:cubicBezTo>
                  <a:pt x="8991" y="8407"/>
                  <a:pt x="9022" y="8458"/>
                  <a:pt x="9029" y="8483"/>
                </a:cubicBezTo>
                <a:cubicBezTo>
                  <a:pt x="9035" y="8507"/>
                  <a:pt x="9018" y="8486"/>
                  <a:pt x="9029" y="8508"/>
                </a:cubicBezTo>
                <a:cubicBezTo>
                  <a:pt x="9023" y="8453"/>
                  <a:pt x="9029" y="8440"/>
                  <a:pt x="9004" y="8384"/>
                </a:cubicBezTo>
                <a:cubicBezTo>
                  <a:pt x="8986" y="8343"/>
                  <a:pt x="8992" y="8304"/>
                  <a:pt x="8979" y="8260"/>
                </a:cubicBezTo>
                <a:cubicBezTo>
                  <a:pt x="8968" y="8224"/>
                  <a:pt x="8926" y="8142"/>
                  <a:pt x="8905" y="8111"/>
                </a:cubicBezTo>
                <a:cubicBezTo>
                  <a:pt x="8885" y="8083"/>
                  <a:pt x="8836" y="8069"/>
                  <a:pt x="8806" y="8062"/>
                </a:cubicBezTo>
                <a:cubicBezTo>
                  <a:pt x="8764" y="8053"/>
                  <a:pt x="8690" y="8067"/>
                  <a:pt x="8657" y="8086"/>
                </a:cubicBezTo>
                <a:cubicBezTo>
                  <a:pt x="8571" y="8136"/>
                  <a:pt x="8523" y="8211"/>
                  <a:pt x="8458" y="8285"/>
                </a:cubicBezTo>
                <a:cubicBezTo>
                  <a:pt x="8401" y="8350"/>
                  <a:pt x="8351" y="8419"/>
                  <a:pt x="8334" y="8508"/>
                </a:cubicBezTo>
                <a:cubicBezTo>
                  <a:pt x="8319" y="8584"/>
                  <a:pt x="8323" y="8688"/>
                  <a:pt x="8359" y="8756"/>
                </a:cubicBezTo>
                <a:cubicBezTo>
                  <a:pt x="8378" y="8791"/>
                  <a:pt x="8446" y="8846"/>
                  <a:pt x="8483" y="8855"/>
                </a:cubicBezTo>
                <a:cubicBezTo>
                  <a:pt x="8533" y="8867"/>
                  <a:pt x="8614" y="8844"/>
                  <a:pt x="8657" y="8830"/>
                </a:cubicBezTo>
                <a:cubicBezTo>
                  <a:pt x="8721" y="8809"/>
                  <a:pt x="8834" y="8759"/>
                  <a:pt x="8880" y="8706"/>
                </a:cubicBezTo>
                <a:cubicBezTo>
                  <a:pt x="8915" y="8666"/>
                  <a:pt x="8951" y="8593"/>
                  <a:pt x="8979" y="8558"/>
                </a:cubicBezTo>
                <a:cubicBezTo>
                  <a:pt x="8997" y="8536"/>
                  <a:pt x="9051" y="8489"/>
                  <a:pt x="9054" y="8483"/>
                </a:cubicBezTo>
                <a:cubicBezTo>
                  <a:pt x="9054" y="8475"/>
                  <a:pt x="9054" y="8466"/>
                  <a:pt x="9054" y="8458"/>
                </a:cubicBezTo>
                <a:cubicBezTo>
                  <a:pt x="9049" y="8515"/>
                  <a:pt x="9037" y="8555"/>
                  <a:pt x="9029" y="8607"/>
                </a:cubicBezTo>
                <a:cubicBezTo>
                  <a:pt x="9018" y="8679"/>
                  <a:pt x="9012" y="8762"/>
                  <a:pt x="9004" y="8830"/>
                </a:cubicBezTo>
                <a:cubicBezTo>
                  <a:pt x="8990" y="8943"/>
                  <a:pt x="8984" y="9065"/>
                  <a:pt x="8979" y="9178"/>
                </a:cubicBezTo>
                <a:cubicBezTo>
                  <a:pt x="8976" y="9243"/>
                  <a:pt x="8963" y="9290"/>
                  <a:pt x="8954" y="9351"/>
                </a:cubicBezTo>
                <a:cubicBezTo>
                  <a:pt x="8954" y="9376"/>
                  <a:pt x="8954" y="9384"/>
                  <a:pt x="8954" y="9401"/>
                </a:cubicBezTo>
                <a:cubicBezTo>
                  <a:pt x="9015" y="9432"/>
                  <a:pt x="8995" y="9391"/>
                  <a:pt x="9029" y="9376"/>
                </a:cubicBezTo>
                <a:cubicBezTo>
                  <a:pt x="9037" y="9376"/>
                  <a:pt x="9046" y="9376"/>
                  <a:pt x="9054" y="9376"/>
                </a:cubicBezTo>
              </a:path>
              <a:path w="2904" h="1588">
                <a:moveTo>
                  <a:pt x="9401" y="9376"/>
                </a:moveTo>
                <a:cubicBezTo>
                  <a:pt x="9421" y="9410"/>
                  <a:pt x="9448" y="9480"/>
                  <a:pt x="9426" y="9525"/>
                </a:cubicBezTo>
                <a:cubicBezTo>
                  <a:pt x="9407" y="9563"/>
                  <a:pt x="9364" y="9585"/>
                  <a:pt x="9351" y="9624"/>
                </a:cubicBezTo>
                <a:cubicBezTo>
                  <a:pt x="9351" y="9632"/>
                  <a:pt x="9351" y="9641"/>
                  <a:pt x="9351" y="9649"/>
                </a:cubicBezTo>
              </a:path>
              <a:path w="2904" h="1588">
                <a:moveTo>
                  <a:pt x="9773" y="8260"/>
                </a:moveTo>
                <a:cubicBezTo>
                  <a:pt x="9766" y="8311"/>
                  <a:pt x="9751" y="8332"/>
                  <a:pt x="9748" y="8384"/>
                </a:cubicBezTo>
                <a:cubicBezTo>
                  <a:pt x="9743" y="8468"/>
                  <a:pt x="9687" y="8524"/>
                  <a:pt x="9674" y="8607"/>
                </a:cubicBezTo>
                <a:cubicBezTo>
                  <a:pt x="9660" y="8697"/>
                  <a:pt x="9634" y="8790"/>
                  <a:pt x="9624" y="8880"/>
                </a:cubicBezTo>
                <a:cubicBezTo>
                  <a:pt x="9614" y="8964"/>
                  <a:pt x="9626" y="9075"/>
                  <a:pt x="9649" y="9153"/>
                </a:cubicBezTo>
                <a:cubicBezTo>
                  <a:pt x="9672" y="9234"/>
                  <a:pt x="9713" y="9257"/>
                  <a:pt x="9773" y="9302"/>
                </a:cubicBezTo>
                <a:cubicBezTo>
                  <a:pt x="9825" y="9341"/>
                  <a:pt x="9877" y="9370"/>
                  <a:pt x="9947" y="9351"/>
                </a:cubicBezTo>
                <a:cubicBezTo>
                  <a:pt x="10022" y="9331"/>
                  <a:pt x="10091" y="9278"/>
                  <a:pt x="10145" y="9227"/>
                </a:cubicBezTo>
                <a:cubicBezTo>
                  <a:pt x="10239" y="9139"/>
                  <a:pt x="10250" y="9071"/>
                  <a:pt x="10294" y="8954"/>
                </a:cubicBezTo>
                <a:cubicBezTo>
                  <a:pt x="10321" y="8881"/>
                  <a:pt x="10336" y="8786"/>
                  <a:pt x="10319" y="8706"/>
                </a:cubicBezTo>
                <a:cubicBezTo>
                  <a:pt x="10305" y="8639"/>
                  <a:pt x="10264" y="8533"/>
                  <a:pt x="10220" y="8483"/>
                </a:cubicBezTo>
                <a:cubicBezTo>
                  <a:pt x="10151" y="8404"/>
                  <a:pt x="10048" y="8369"/>
                  <a:pt x="9947" y="8359"/>
                </a:cubicBezTo>
                <a:cubicBezTo>
                  <a:pt x="9891" y="8354"/>
                  <a:pt x="9838" y="8377"/>
                  <a:pt x="9798" y="8409"/>
                </a:cubicBezTo>
                <a:cubicBezTo>
                  <a:pt x="9790" y="8417"/>
                  <a:pt x="9781" y="8426"/>
                  <a:pt x="9773" y="8434"/>
                </a:cubicBezTo>
              </a:path>
              <a:path w="2904" h="1588">
                <a:moveTo>
                  <a:pt x="10716" y="8434"/>
                </a:moveTo>
                <a:cubicBezTo>
                  <a:pt x="10758" y="8411"/>
                  <a:pt x="10861" y="8322"/>
                  <a:pt x="10914" y="8310"/>
                </a:cubicBezTo>
                <a:cubicBezTo>
                  <a:pt x="10961" y="8299"/>
                  <a:pt x="11037" y="8270"/>
                  <a:pt x="11088" y="8285"/>
                </a:cubicBezTo>
                <a:cubicBezTo>
                  <a:pt x="11159" y="8306"/>
                  <a:pt x="11191" y="8341"/>
                  <a:pt x="11212" y="8409"/>
                </a:cubicBezTo>
                <a:cubicBezTo>
                  <a:pt x="11231" y="8472"/>
                  <a:pt x="11163" y="8577"/>
                  <a:pt x="11137" y="8632"/>
                </a:cubicBezTo>
                <a:cubicBezTo>
                  <a:pt x="11112" y="8684"/>
                  <a:pt x="11077" y="8740"/>
                  <a:pt x="11038" y="8781"/>
                </a:cubicBezTo>
                <a:cubicBezTo>
                  <a:pt x="10992" y="8830"/>
                  <a:pt x="10957" y="8842"/>
                  <a:pt x="10914" y="8880"/>
                </a:cubicBezTo>
                <a:cubicBezTo>
                  <a:pt x="10906" y="8888"/>
                  <a:pt x="10897" y="8897"/>
                  <a:pt x="10889" y="8905"/>
                </a:cubicBezTo>
                <a:cubicBezTo>
                  <a:pt x="10902" y="8894"/>
                  <a:pt x="10936" y="8863"/>
                  <a:pt x="10964" y="8855"/>
                </a:cubicBezTo>
                <a:cubicBezTo>
                  <a:pt x="10981" y="8850"/>
                  <a:pt x="11076" y="8828"/>
                  <a:pt x="11088" y="8830"/>
                </a:cubicBezTo>
                <a:cubicBezTo>
                  <a:pt x="11112" y="8834"/>
                  <a:pt x="11171" y="8881"/>
                  <a:pt x="11187" y="8905"/>
                </a:cubicBezTo>
                <a:cubicBezTo>
                  <a:pt x="11232" y="8974"/>
                  <a:pt x="11249" y="9045"/>
                  <a:pt x="11237" y="9128"/>
                </a:cubicBezTo>
                <a:cubicBezTo>
                  <a:pt x="11228" y="9188"/>
                  <a:pt x="11222" y="9308"/>
                  <a:pt x="11162" y="9351"/>
                </a:cubicBezTo>
                <a:cubicBezTo>
                  <a:pt x="11105" y="9391"/>
                  <a:pt x="11058" y="9422"/>
                  <a:pt x="10988" y="9426"/>
                </a:cubicBezTo>
                <a:cubicBezTo>
                  <a:pt x="10914" y="9430"/>
                  <a:pt x="10850" y="9413"/>
                  <a:pt x="10790" y="9401"/>
                </a:cubicBezTo>
                <a:cubicBezTo>
                  <a:pt x="10770" y="9397"/>
                  <a:pt x="10690" y="9417"/>
                  <a:pt x="10691" y="9376"/>
                </a:cubicBezTo>
                <a:cubicBezTo>
                  <a:pt x="10699" y="9376"/>
                  <a:pt x="10708" y="9376"/>
                  <a:pt x="10716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59160" y="3000240"/>
            <a:ext cx="2295720" cy="615960"/>
          </a:xfrm>
          <a:custGeom>
            <a:avLst/>
            <a:gdLst/>
            <a:ahLst/>
            <a:rect l="l" t="t" r="r" b="b"/>
            <a:pathLst>
              <a:path w="6376" h="1713">
                <a:moveTo>
                  <a:pt x="11832" y="8508"/>
                </a:moveTo>
                <a:cubicBezTo>
                  <a:pt x="11931" y="8525"/>
                  <a:pt x="11906" y="8584"/>
                  <a:pt x="11881" y="8706"/>
                </a:cubicBezTo>
                <a:cubicBezTo>
                  <a:pt x="11860" y="8811"/>
                  <a:pt x="11829" y="8803"/>
                  <a:pt x="11857" y="8905"/>
                </a:cubicBezTo>
                <a:cubicBezTo>
                  <a:pt x="11868" y="8946"/>
                  <a:pt x="11884" y="8974"/>
                  <a:pt x="11931" y="8979"/>
                </a:cubicBezTo>
                <a:cubicBezTo>
                  <a:pt x="12012" y="8988"/>
                  <a:pt x="12001" y="8993"/>
                  <a:pt x="12080" y="8979"/>
                </a:cubicBezTo>
                <a:cubicBezTo>
                  <a:pt x="12151" y="8966"/>
                  <a:pt x="12196" y="8951"/>
                  <a:pt x="12254" y="8905"/>
                </a:cubicBezTo>
              </a:path>
              <a:path w="6376" h="1713">
                <a:moveTo>
                  <a:pt x="12328" y="8359"/>
                </a:moveTo>
                <a:cubicBezTo>
                  <a:pt x="12328" y="8294"/>
                  <a:pt x="12308" y="8440"/>
                  <a:pt x="12303" y="8458"/>
                </a:cubicBezTo>
                <a:cubicBezTo>
                  <a:pt x="12274" y="8570"/>
                  <a:pt x="12257" y="8689"/>
                  <a:pt x="12254" y="8806"/>
                </a:cubicBezTo>
                <a:cubicBezTo>
                  <a:pt x="12250" y="8930"/>
                  <a:pt x="12208" y="9052"/>
                  <a:pt x="12229" y="9178"/>
                </a:cubicBezTo>
                <a:cubicBezTo>
                  <a:pt x="12243" y="9265"/>
                  <a:pt x="12254" y="9335"/>
                  <a:pt x="12254" y="9426"/>
                </a:cubicBezTo>
                <a:cubicBezTo>
                  <a:pt x="12254" y="9499"/>
                  <a:pt x="12278" y="9459"/>
                  <a:pt x="12303" y="9426"/>
                </a:cubicBezTo>
              </a:path>
              <a:path w="6376" h="1713">
                <a:moveTo>
                  <a:pt x="12774" y="8483"/>
                </a:moveTo>
                <a:cubicBezTo>
                  <a:pt x="12900" y="8461"/>
                  <a:pt x="13020" y="8425"/>
                  <a:pt x="13146" y="8409"/>
                </a:cubicBezTo>
              </a:path>
              <a:path w="6376" h="1713">
                <a:moveTo>
                  <a:pt x="12774" y="8582"/>
                </a:moveTo>
                <a:cubicBezTo>
                  <a:pt x="12754" y="8668"/>
                  <a:pt x="12725" y="8744"/>
                  <a:pt x="12725" y="8830"/>
                </a:cubicBezTo>
                <a:cubicBezTo>
                  <a:pt x="12725" y="8866"/>
                  <a:pt x="12709" y="8934"/>
                  <a:pt x="12750" y="8954"/>
                </a:cubicBezTo>
                <a:cubicBezTo>
                  <a:pt x="12779" y="8968"/>
                  <a:pt x="12827" y="8939"/>
                  <a:pt x="12849" y="8930"/>
                </a:cubicBezTo>
                <a:cubicBezTo>
                  <a:pt x="12895" y="8910"/>
                  <a:pt x="12931" y="8869"/>
                  <a:pt x="12973" y="8855"/>
                </a:cubicBezTo>
                <a:cubicBezTo>
                  <a:pt x="13022" y="8839"/>
                  <a:pt x="13068" y="8901"/>
                  <a:pt x="13097" y="8930"/>
                </a:cubicBezTo>
                <a:cubicBezTo>
                  <a:pt x="13181" y="9014"/>
                  <a:pt x="13171" y="9090"/>
                  <a:pt x="13171" y="9203"/>
                </a:cubicBezTo>
                <a:cubicBezTo>
                  <a:pt x="13171" y="9287"/>
                  <a:pt x="13134" y="9353"/>
                  <a:pt x="13097" y="9426"/>
                </a:cubicBezTo>
                <a:cubicBezTo>
                  <a:pt x="13068" y="9484"/>
                  <a:pt x="12990" y="9535"/>
                  <a:pt x="12923" y="9550"/>
                </a:cubicBezTo>
                <a:cubicBezTo>
                  <a:pt x="12852" y="9566"/>
                  <a:pt x="12789" y="9540"/>
                  <a:pt x="12725" y="9525"/>
                </a:cubicBezTo>
                <a:cubicBezTo>
                  <a:pt x="12675" y="9513"/>
                  <a:pt x="12675" y="9501"/>
                  <a:pt x="12675" y="9451"/>
                </a:cubicBezTo>
              </a:path>
              <a:path w="6376" h="1713">
                <a:moveTo>
                  <a:pt x="13742" y="8458"/>
                </a:moveTo>
                <a:cubicBezTo>
                  <a:pt x="13742" y="8525"/>
                  <a:pt x="13744" y="8623"/>
                  <a:pt x="13717" y="8682"/>
                </a:cubicBezTo>
                <a:cubicBezTo>
                  <a:pt x="13666" y="8792"/>
                  <a:pt x="13624" y="8883"/>
                  <a:pt x="13593" y="9004"/>
                </a:cubicBezTo>
                <a:cubicBezTo>
                  <a:pt x="13564" y="9114"/>
                  <a:pt x="13568" y="9214"/>
                  <a:pt x="13568" y="9327"/>
                </a:cubicBezTo>
                <a:cubicBezTo>
                  <a:pt x="13568" y="9415"/>
                  <a:pt x="13598" y="9470"/>
                  <a:pt x="13667" y="9525"/>
                </a:cubicBezTo>
                <a:cubicBezTo>
                  <a:pt x="13750" y="9591"/>
                  <a:pt x="13831" y="9627"/>
                  <a:pt x="13940" y="9599"/>
                </a:cubicBezTo>
                <a:cubicBezTo>
                  <a:pt x="14006" y="9582"/>
                  <a:pt x="14119" y="9500"/>
                  <a:pt x="14163" y="9451"/>
                </a:cubicBezTo>
                <a:cubicBezTo>
                  <a:pt x="14226" y="9381"/>
                  <a:pt x="14284" y="9266"/>
                  <a:pt x="14312" y="9178"/>
                </a:cubicBezTo>
                <a:cubicBezTo>
                  <a:pt x="14349" y="9059"/>
                  <a:pt x="14362" y="8953"/>
                  <a:pt x="14362" y="8830"/>
                </a:cubicBezTo>
                <a:cubicBezTo>
                  <a:pt x="14362" y="8681"/>
                  <a:pt x="14307" y="8576"/>
                  <a:pt x="14188" y="8483"/>
                </a:cubicBezTo>
                <a:cubicBezTo>
                  <a:pt x="14092" y="8408"/>
                  <a:pt x="14032" y="8409"/>
                  <a:pt x="13915" y="8409"/>
                </a:cubicBezTo>
                <a:cubicBezTo>
                  <a:pt x="13866" y="8409"/>
                  <a:pt x="13849" y="8409"/>
                  <a:pt x="13816" y="8409"/>
                </a:cubicBezTo>
              </a:path>
              <a:path w="6376" h="1713">
                <a:moveTo>
                  <a:pt x="14833" y="8483"/>
                </a:moveTo>
                <a:cubicBezTo>
                  <a:pt x="14870" y="8454"/>
                  <a:pt x="14934" y="8393"/>
                  <a:pt x="14982" y="8384"/>
                </a:cubicBezTo>
                <a:cubicBezTo>
                  <a:pt x="15037" y="8374"/>
                  <a:pt x="15163" y="8367"/>
                  <a:pt x="15205" y="8409"/>
                </a:cubicBezTo>
                <a:cubicBezTo>
                  <a:pt x="15307" y="8510"/>
                  <a:pt x="15350" y="8666"/>
                  <a:pt x="15329" y="8806"/>
                </a:cubicBezTo>
                <a:cubicBezTo>
                  <a:pt x="15308" y="8946"/>
                  <a:pt x="15256" y="9073"/>
                  <a:pt x="15205" y="9203"/>
                </a:cubicBezTo>
                <a:cubicBezTo>
                  <a:pt x="15156" y="9327"/>
                  <a:pt x="15086" y="9462"/>
                  <a:pt x="14982" y="9550"/>
                </a:cubicBezTo>
                <a:cubicBezTo>
                  <a:pt x="14943" y="9584"/>
                  <a:pt x="14874" y="9604"/>
                  <a:pt x="14833" y="9624"/>
                </a:cubicBezTo>
                <a:cubicBezTo>
                  <a:pt x="14808" y="9593"/>
                  <a:pt x="14787" y="9561"/>
                  <a:pt x="14784" y="9500"/>
                </a:cubicBezTo>
                <a:cubicBezTo>
                  <a:pt x="14781" y="9436"/>
                  <a:pt x="14801" y="9332"/>
                  <a:pt x="14833" y="9277"/>
                </a:cubicBezTo>
                <a:cubicBezTo>
                  <a:pt x="14849" y="9250"/>
                  <a:pt x="14926" y="9178"/>
                  <a:pt x="14957" y="9178"/>
                </a:cubicBezTo>
                <a:cubicBezTo>
                  <a:pt x="15000" y="9178"/>
                  <a:pt x="15076" y="9225"/>
                  <a:pt x="15106" y="9252"/>
                </a:cubicBezTo>
                <a:cubicBezTo>
                  <a:pt x="15163" y="9303"/>
                  <a:pt x="15184" y="9390"/>
                  <a:pt x="15230" y="9451"/>
                </a:cubicBezTo>
                <a:cubicBezTo>
                  <a:pt x="15263" y="9494"/>
                  <a:pt x="15281" y="9496"/>
                  <a:pt x="15329" y="9500"/>
                </a:cubicBezTo>
                <a:cubicBezTo>
                  <a:pt x="15337" y="9500"/>
                  <a:pt x="15346" y="9500"/>
                  <a:pt x="15354" y="9500"/>
                </a:cubicBezTo>
              </a:path>
              <a:path w="6376" h="1713">
                <a:moveTo>
                  <a:pt x="15726" y="8582"/>
                </a:moveTo>
                <a:cubicBezTo>
                  <a:pt x="15767" y="8637"/>
                  <a:pt x="15729" y="8662"/>
                  <a:pt x="15726" y="8731"/>
                </a:cubicBezTo>
                <a:cubicBezTo>
                  <a:pt x="15723" y="8797"/>
                  <a:pt x="15741" y="8887"/>
                  <a:pt x="15801" y="8930"/>
                </a:cubicBezTo>
                <a:cubicBezTo>
                  <a:pt x="15867" y="8977"/>
                  <a:pt x="15899" y="9036"/>
                  <a:pt x="15999" y="9004"/>
                </a:cubicBezTo>
                <a:cubicBezTo>
                  <a:pt x="16024" y="8979"/>
                  <a:pt x="16032" y="8971"/>
                  <a:pt x="16049" y="8954"/>
                </a:cubicBezTo>
              </a:path>
              <a:path w="6376" h="1713">
                <a:moveTo>
                  <a:pt x="16073" y="8384"/>
                </a:moveTo>
                <a:cubicBezTo>
                  <a:pt x="16063" y="8468"/>
                  <a:pt x="16049" y="8549"/>
                  <a:pt x="16024" y="8632"/>
                </a:cubicBezTo>
                <a:cubicBezTo>
                  <a:pt x="15990" y="8744"/>
                  <a:pt x="15977" y="8862"/>
                  <a:pt x="15974" y="8979"/>
                </a:cubicBezTo>
                <a:cubicBezTo>
                  <a:pt x="15968" y="9185"/>
                  <a:pt x="15974" y="9393"/>
                  <a:pt x="15974" y="9599"/>
                </a:cubicBezTo>
                <a:cubicBezTo>
                  <a:pt x="15991" y="9534"/>
                  <a:pt x="16047" y="9441"/>
                  <a:pt x="16073" y="9376"/>
                </a:cubicBezTo>
              </a:path>
              <a:path w="6376" h="1713">
                <a:moveTo>
                  <a:pt x="16570" y="8558"/>
                </a:moveTo>
                <a:cubicBezTo>
                  <a:pt x="16614" y="8633"/>
                  <a:pt x="16580" y="8671"/>
                  <a:pt x="16570" y="8756"/>
                </a:cubicBezTo>
                <a:cubicBezTo>
                  <a:pt x="16552" y="8916"/>
                  <a:pt x="16520" y="9063"/>
                  <a:pt x="16520" y="9227"/>
                </a:cubicBezTo>
                <a:cubicBezTo>
                  <a:pt x="16520" y="9353"/>
                  <a:pt x="16527" y="9455"/>
                  <a:pt x="16570" y="9575"/>
                </a:cubicBezTo>
                <a:cubicBezTo>
                  <a:pt x="16607" y="9679"/>
                  <a:pt x="16696" y="9735"/>
                  <a:pt x="16793" y="9748"/>
                </a:cubicBezTo>
                <a:cubicBezTo>
                  <a:pt x="16900" y="9763"/>
                  <a:pt x="16972" y="9690"/>
                  <a:pt x="17041" y="9624"/>
                </a:cubicBezTo>
                <a:cubicBezTo>
                  <a:pt x="17120" y="9549"/>
                  <a:pt x="17198" y="9437"/>
                  <a:pt x="17214" y="9327"/>
                </a:cubicBezTo>
                <a:cubicBezTo>
                  <a:pt x="17233" y="9197"/>
                  <a:pt x="17238" y="9060"/>
                  <a:pt x="17214" y="8930"/>
                </a:cubicBezTo>
                <a:cubicBezTo>
                  <a:pt x="17190" y="8805"/>
                  <a:pt x="17128" y="8653"/>
                  <a:pt x="17041" y="8558"/>
                </a:cubicBezTo>
                <a:cubicBezTo>
                  <a:pt x="16995" y="8508"/>
                  <a:pt x="16914" y="8463"/>
                  <a:pt x="16842" y="8483"/>
                </a:cubicBezTo>
                <a:cubicBezTo>
                  <a:pt x="16760" y="8506"/>
                  <a:pt x="16708" y="8561"/>
                  <a:pt x="16669" y="8632"/>
                </a:cubicBezTo>
                <a:cubicBezTo>
                  <a:pt x="16645" y="8680"/>
                  <a:pt x="16637" y="8694"/>
                  <a:pt x="16644" y="8731"/>
                </a:cubicBezTo>
              </a:path>
              <a:path w="6376" h="1713">
                <a:moveTo>
                  <a:pt x="17562" y="8657"/>
                </a:moveTo>
                <a:cubicBezTo>
                  <a:pt x="17562" y="8824"/>
                  <a:pt x="17531" y="8901"/>
                  <a:pt x="17487" y="9054"/>
                </a:cubicBezTo>
                <a:cubicBezTo>
                  <a:pt x="17451" y="9179"/>
                  <a:pt x="17452" y="9307"/>
                  <a:pt x="17512" y="9426"/>
                </a:cubicBezTo>
                <a:cubicBezTo>
                  <a:pt x="17553" y="9506"/>
                  <a:pt x="17615" y="9618"/>
                  <a:pt x="17686" y="9674"/>
                </a:cubicBezTo>
                <a:cubicBezTo>
                  <a:pt x="17736" y="9713"/>
                  <a:pt x="17820" y="9740"/>
                  <a:pt x="17884" y="9723"/>
                </a:cubicBezTo>
                <a:cubicBezTo>
                  <a:pt x="17989" y="9695"/>
                  <a:pt x="18048" y="9608"/>
                  <a:pt x="18107" y="9525"/>
                </a:cubicBezTo>
                <a:cubicBezTo>
                  <a:pt x="18195" y="9401"/>
                  <a:pt x="18203" y="9303"/>
                  <a:pt x="18207" y="9153"/>
                </a:cubicBezTo>
                <a:cubicBezTo>
                  <a:pt x="18212" y="8974"/>
                  <a:pt x="18049" y="8841"/>
                  <a:pt x="17909" y="8756"/>
                </a:cubicBezTo>
                <a:cubicBezTo>
                  <a:pt x="17846" y="8718"/>
                  <a:pt x="17708" y="8701"/>
                  <a:pt x="17636" y="8682"/>
                </a:cubicBezTo>
              </a:path>
              <a:path w="6376" h="1713">
                <a:moveTo>
                  <a:pt x="15627" y="9500"/>
                </a:moveTo>
                <a:cubicBezTo>
                  <a:pt x="15604" y="9653"/>
                  <a:pt x="15600" y="9774"/>
                  <a:pt x="15503" y="9897"/>
                </a:cubicBezTo>
                <a:cubicBezTo>
                  <a:pt x="15446" y="9969"/>
                  <a:pt x="15412" y="10005"/>
                  <a:pt x="15329" y="10046"/>
                </a:cubicBezTo>
              </a:path>
              <a:path w="6376" h="1713">
                <a:moveTo>
                  <a:pt x="12526" y="9351"/>
                </a:moveTo>
                <a:cubicBezTo>
                  <a:pt x="12572" y="9427"/>
                  <a:pt x="12574" y="9531"/>
                  <a:pt x="12576" y="9624"/>
                </a:cubicBezTo>
                <a:cubicBezTo>
                  <a:pt x="12576" y="9757"/>
                  <a:pt x="12580" y="9792"/>
                  <a:pt x="125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ebf1"/>
                </a:solidFill>
                <a:latin typeface="Arial"/>
              </a:rPr>
              <a:t>We have already done combinations from lesson 9.5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0640" y="4545000"/>
            <a:ext cx="527040" cy="527040"/>
          </a:xfrm>
          <a:custGeom>
            <a:avLst/>
            <a:gdLst/>
            <a:ahLst/>
            <a:rect l="l" t="t" r="r" b="b"/>
            <a:pathLst>
              <a:path w="1464" h="1464">
                <a:moveTo>
                  <a:pt x="3274" y="12626"/>
                </a:moveTo>
                <a:cubicBezTo>
                  <a:pt x="3244" y="12714"/>
                  <a:pt x="3233" y="12828"/>
                  <a:pt x="3225" y="12923"/>
                </a:cubicBezTo>
                <a:cubicBezTo>
                  <a:pt x="3203" y="13192"/>
                  <a:pt x="3268" y="13482"/>
                  <a:pt x="3249" y="13742"/>
                </a:cubicBezTo>
                <a:cubicBezTo>
                  <a:pt x="3241" y="13857"/>
                  <a:pt x="3208" y="13792"/>
                  <a:pt x="3249" y="13891"/>
                </a:cubicBezTo>
                <a:cubicBezTo>
                  <a:pt x="3249" y="13937"/>
                  <a:pt x="3265" y="13863"/>
                  <a:pt x="3274" y="13841"/>
                </a:cubicBezTo>
                <a:cubicBezTo>
                  <a:pt x="3282" y="13816"/>
                  <a:pt x="3291" y="13792"/>
                  <a:pt x="3299" y="13767"/>
                </a:cubicBezTo>
              </a:path>
              <a:path w="1464" h="1464">
                <a:moveTo>
                  <a:pt x="3870" y="12774"/>
                </a:moveTo>
                <a:cubicBezTo>
                  <a:pt x="3929" y="12739"/>
                  <a:pt x="3994" y="12729"/>
                  <a:pt x="4068" y="12725"/>
                </a:cubicBezTo>
                <a:cubicBezTo>
                  <a:pt x="4167" y="12720"/>
                  <a:pt x="4246" y="12746"/>
                  <a:pt x="4341" y="12750"/>
                </a:cubicBezTo>
                <a:cubicBezTo>
                  <a:pt x="4382" y="12752"/>
                  <a:pt x="4424" y="12750"/>
                  <a:pt x="4465" y="12750"/>
                </a:cubicBezTo>
              </a:path>
              <a:path w="1464" h="1464">
                <a:moveTo>
                  <a:pt x="3994" y="12774"/>
                </a:moveTo>
                <a:cubicBezTo>
                  <a:pt x="3952" y="12821"/>
                  <a:pt x="3863" y="12907"/>
                  <a:pt x="3845" y="12973"/>
                </a:cubicBezTo>
                <a:cubicBezTo>
                  <a:pt x="3830" y="13028"/>
                  <a:pt x="3838" y="13130"/>
                  <a:pt x="3870" y="13171"/>
                </a:cubicBezTo>
                <a:cubicBezTo>
                  <a:pt x="3885" y="13190"/>
                  <a:pt x="3898" y="13224"/>
                  <a:pt x="3944" y="13221"/>
                </a:cubicBezTo>
                <a:cubicBezTo>
                  <a:pt x="3983" y="13219"/>
                  <a:pt x="4037" y="13196"/>
                  <a:pt x="4068" y="13171"/>
                </a:cubicBezTo>
                <a:cubicBezTo>
                  <a:pt x="4104" y="13142"/>
                  <a:pt x="4135" y="13125"/>
                  <a:pt x="4167" y="13097"/>
                </a:cubicBezTo>
                <a:cubicBezTo>
                  <a:pt x="4209" y="13059"/>
                  <a:pt x="4256" y="13059"/>
                  <a:pt x="4291" y="13072"/>
                </a:cubicBezTo>
                <a:cubicBezTo>
                  <a:pt x="4365" y="13099"/>
                  <a:pt x="4392" y="13106"/>
                  <a:pt x="4440" y="13171"/>
                </a:cubicBezTo>
                <a:cubicBezTo>
                  <a:pt x="4517" y="13276"/>
                  <a:pt x="4593" y="13372"/>
                  <a:pt x="4638" y="13494"/>
                </a:cubicBezTo>
                <a:cubicBezTo>
                  <a:pt x="4679" y="13605"/>
                  <a:pt x="4688" y="13700"/>
                  <a:pt x="4688" y="13816"/>
                </a:cubicBezTo>
                <a:cubicBezTo>
                  <a:pt x="4688" y="13888"/>
                  <a:pt x="4655" y="13997"/>
                  <a:pt x="4589" y="14039"/>
                </a:cubicBezTo>
                <a:cubicBezTo>
                  <a:pt x="4492" y="14102"/>
                  <a:pt x="4441" y="14076"/>
                  <a:pt x="4341" y="14064"/>
                </a:cubicBezTo>
                <a:cubicBezTo>
                  <a:pt x="4246" y="14053"/>
                  <a:pt x="4160" y="14028"/>
                  <a:pt x="4068" y="13990"/>
                </a:cubicBezTo>
                <a:cubicBezTo>
                  <a:pt x="4001" y="13963"/>
                  <a:pt x="3934" y="13883"/>
                  <a:pt x="3870" y="13866"/>
                </a:cubicBezTo>
                <a:cubicBezTo>
                  <a:pt x="3831" y="13856"/>
                  <a:pt x="3782" y="13843"/>
                  <a:pt x="3770" y="13816"/>
                </a:cubicBezTo>
                <a:cubicBezTo>
                  <a:pt x="3770" y="13808"/>
                  <a:pt x="3770" y="13799"/>
                  <a:pt x="3770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A standard poker hand consists of five cards dealt from a deck of 52.  How many different hands are possibl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8880" y="2616120"/>
            <a:ext cx="1179360" cy="1090800"/>
          </a:xfrm>
          <a:custGeom>
            <a:avLst/>
            <a:gdLst/>
            <a:ahLst/>
            <a:rect l="l" t="t" r="r" b="b"/>
            <a:pathLst>
              <a:path w="3276" h="3027">
                <a:moveTo>
                  <a:pt x="2257" y="9426"/>
                </a:moveTo>
                <a:cubicBezTo>
                  <a:pt x="2295" y="9454"/>
                  <a:pt x="2308" y="9451"/>
                  <a:pt x="2356" y="9451"/>
                </a:cubicBezTo>
                <a:cubicBezTo>
                  <a:pt x="2421" y="9451"/>
                  <a:pt x="2446" y="9441"/>
                  <a:pt x="2505" y="9426"/>
                </a:cubicBezTo>
                <a:cubicBezTo>
                  <a:pt x="2534" y="9419"/>
                  <a:pt x="2574" y="9426"/>
                  <a:pt x="2604" y="9426"/>
                </a:cubicBezTo>
              </a:path>
              <a:path w="3276" h="3027">
                <a:moveTo>
                  <a:pt x="2158" y="9500"/>
                </a:moveTo>
                <a:cubicBezTo>
                  <a:pt x="2151" y="9574"/>
                  <a:pt x="2133" y="9601"/>
                  <a:pt x="2133" y="9674"/>
                </a:cubicBezTo>
                <a:cubicBezTo>
                  <a:pt x="2133" y="9706"/>
                  <a:pt x="2116" y="9718"/>
                  <a:pt x="2108" y="9748"/>
                </a:cubicBezTo>
                <a:cubicBezTo>
                  <a:pt x="2140" y="9737"/>
                  <a:pt x="2138" y="9708"/>
                  <a:pt x="2158" y="9699"/>
                </a:cubicBezTo>
                <a:cubicBezTo>
                  <a:pt x="2177" y="9690"/>
                  <a:pt x="2229" y="9659"/>
                  <a:pt x="2257" y="9674"/>
                </a:cubicBezTo>
                <a:cubicBezTo>
                  <a:pt x="2322" y="9710"/>
                  <a:pt x="2325" y="9725"/>
                  <a:pt x="2381" y="9773"/>
                </a:cubicBezTo>
                <a:cubicBezTo>
                  <a:pt x="2423" y="9809"/>
                  <a:pt x="2489" y="9861"/>
                  <a:pt x="2505" y="9922"/>
                </a:cubicBezTo>
                <a:cubicBezTo>
                  <a:pt x="2524" y="9992"/>
                  <a:pt x="2487" y="9997"/>
                  <a:pt x="2456" y="10046"/>
                </a:cubicBezTo>
                <a:cubicBezTo>
                  <a:pt x="2410" y="10119"/>
                  <a:pt x="2387" y="10093"/>
                  <a:pt x="2307" y="10120"/>
                </a:cubicBezTo>
                <a:cubicBezTo>
                  <a:pt x="2232" y="10145"/>
                  <a:pt x="2212" y="10156"/>
                  <a:pt x="2158" y="10096"/>
                </a:cubicBezTo>
                <a:cubicBezTo>
                  <a:pt x="2126" y="10061"/>
                  <a:pt x="2119" y="10059"/>
                  <a:pt x="2158" y="10046"/>
                </a:cubicBezTo>
              </a:path>
              <a:path w="3276" h="3027">
                <a:moveTo>
                  <a:pt x="2778" y="9575"/>
                </a:moveTo>
                <a:cubicBezTo>
                  <a:pt x="2817" y="9541"/>
                  <a:pt x="2851" y="9504"/>
                  <a:pt x="2902" y="9500"/>
                </a:cubicBezTo>
                <a:cubicBezTo>
                  <a:pt x="2951" y="9497"/>
                  <a:pt x="3003" y="9497"/>
                  <a:pt x="3026" y="9550"/>
                </a:cubicBezTo>
                <a:cubicBezTo>
                  <a:pt x="3042" y="9586"/>
                  <a:pt x="3020" y="9716"/>
                  <a:pt x="3001" y="9748"/>
                </a:cubicBezTo>
                <a:cubicBezTo>
                  <a:pt x="2964" y="9810"/>
                  <a:pt x="2894" y="9861"/>
                  <a:pt x="2853" y="9922"/>
                </a:cubicBezTo>
                <a:cubicBezTo>
                  <a:pt x="2825" y="9964"/>
                  <a:pt x="2771" y="10026"/>
                  <a:pt x="2753" y="10071"/>
                </a:cubicBezTo>
                <a:cubicBezTo>
                  <a:pt x="2753" y="10099"/>
                  <a:pt x="2751" y="10109"/>
                  <a:pt x="2729" y="10120"/>
                </a:cubicBezTo>
                <a:cubicBezTo>
                  <a:pt x="2886" y="10120"/>
                  <a:pt x="3043" y="10120"/>
                  <a:pt x="3200" y="10120"/>
                </a:cubicBezTo>
              </a:path>
              <a:path w="3276" h="3027">
                <a:moveTo>
                  <a:pt x="4589" y="7466"/>
                </a:moveTo>
                <a:cubicBezTo>
                  <a:pt x="4589" y="7507"/>
                  <a:pt x="4589" y="7500"/>
                  <a:pt x="4589" y="7541"/>
                </a:cubicBezTo>
                <a:cubicBezTo>
                  <a:pt x="4571" y="7500"/>
                  <a:pt x="4561" y="7427"/>
                  <a:pt x="4539" y="7392"/>
                </a:cubicBezTo>
                <a:cubicBezTo>
                  <a:pt x="4494" y="7321"/>
                  <a:pt x="4421" y="7282"/>
                  <a:pt x="4341" y="7268"/>
                </a:cubicBezTo>
                <a:cubicBezTo>
                  <a:pt x="4272" y="7256"/>
                  <a:pt x="4204" y="7267"/>
                  <a:pt x="4142" y="7293"/>
                </a:cubicBezTo>
                <a:cubicBezTo>
                  <a:pt x="4061" y="7327"/>
                  <a:pt x="3984" y="7383"/>
                  <a:pt x="3919" y="7441"/>
                </a:cubicBezTo>
                <a:cubicBezTo>
                  <a:pt x="3819" y="7530"/>
                  <a:pt x="3734" y="7648"/>
                  <a:pt x="3671" y="7764"/>
                </a:cubicBezTo>
                <a:cubicBezTo>
                  <a:pt x="3575" y="7940"/>
                  <a:pt x="3509" y="8112"/>
                  <a:pt x="3473" y="8310"/>
                </a:cubicBezTo>
                <a:cubicBezTo>
                  <a:pt x="3444" y="8471"/>
                  <a:pt x="3391" y="8667"/>
                  <a:pt x="3398" y="8830"/>
                </a:cubicBezTo>
                <a:cubicBezTo>
                  <a:pt x="3405" y="8995"/>
                  <a:pt x="3458" y="9127"/>
                  <a:pt x="3547" y="9252"/>
                </a:cubicBezTo>
                <a:cubicBezTo>
                  <a:pt x="3641" y="9384"/>
                  <a:pt x="3746" y="9385"/>
                  <a:pt x="3894" y="9426"/>
                </a:cubicBezTo>
                <a:cubicBezTo>
                  <a:pt x="4008" y="9457"/>
                  <a:pt x="4147" y="9468"/>
                  <a:pt x="4266" y="9451"/>
                </a:cubicBezTo>
                <a:cubicBezTo>
                  <a:pt x="4320" y="9444"/>
                  <a:pt x="4394" y="9407"/>
                  <a:pt x="4415" y="9401"/>
                </a:cubicBezTo>
                <a:cubicBezTo>
                  <a:pt x="4423" y="9401"/>
                  <a:pt x="4432" y="9401"/>
                  <a:pt x="4440" y="9401"/>
                </a:cubicBezTo>
                <a:cubicBezTo>
                  <a:pt x="4409" y="9381"/>
                  <a:pt x="4410" y="9407"/>
                  <a:pt x="4390" y="9376"/>
                </a:cubicBezTo>
                <a:cubicBezTo>
                  <a:pt x="4390" y="9368"/>
                  <a:pt x="4390" y="9359"/>
                  <a:pt x="4390" y="9351"/>
                </a:cubicBezTo>
              </a:path>
              <a:path w="3276" h="3027">
                <a:moveTo>
                  <a:pt x="5085" y="9575"/>
                </a:moveTo>
                <a:cubicBezTo>
                  <a:pt x="5142" y="9575"/>
                  <a:pt x="5163" y="9565"/>
                  <a:pt x="5209" y="9550"/>
                </a:cubicBezTo>
                <a:cubicBezTo>
                  <a:pt x="5234" y="9550"/>
                  <a:pt x="5242" y="9550"/>
                  <a:pt x="5259" y="9550"/>
                </a:cubicBezTo>
              </a:path>
              <a:path w="3276" h="3027">
                <a:moveTo>
                  <a:pt x="5060" y="9599"/>
                </a:moveTo>
                <a:cubicBezTo>
                  <a:pt x="5023" y="9662"/>
                  <a:pt x="5004" y="9712"/>
                  <a:pt x="4986" y="9773"/>
                </a:cubicBezTo>
                <a:cubicBezTo>
                  <a:pt x="4986" y="9801"/>
                  <a:pt x="4988" y="9812"/>
                  <a:pt x="5011" y="9823"/>
                </a:cubicBezTo>
                <a:cubicBezTo>
                  <a:pt x="5043" y="9812"/>
                  <a:pt x="5041" y="9783"/>
                  <a:pt x="5060" y="9773"/>
                </a:cubicBezTo>
                <a:cubicBezTo>
                  <a:pt x="5099" y="9754"/>
                  <a:pt x="5136" y="9770"/>
                  <a:pt x="5159" y="9773"/>
                </a:cubicBezTo>
                <a:cubicBezTo>
                  <a:pt x="5256" y="9787"/>
                  <a:pt x="5220" y="9770"/>
                  <a:pt x="5283" y="9847"/>
                </a:cubicBezTo>
                <a:cubicBezTo>
                  <a:pt x="5339" y="9915"/>
                  <a:pt x="5378" y="9956"/>
                  <a:pt x="5383" y="10046"/>
                </a:cubicBezTo>
                <a:cubicBezTo>
                  <a:pt x="5386" y="10105"/>
                  <a:pt x="5333" y="10239"/>
                  <a:pt x="5283" y="10269"/>
                </a:cubicBezTo>
                <a:cubicBezTo>
                  <a:pt x="5229" y="10302"/>
                  <a:pt x="5182" y="10278"/>
                  <a:pt x="5135" y="10269"/>
                </a:cubicBezTo>
                <a:cubicBezTo>
                  <a:pt x="5064" y="10255"/>
                  <a:pt x="5066" y="10275"/>
                  <a:pt x="5011" y="10220"/>
                </a:cubicBezTo>
                <a:cubicBezTo>
                  <a:pt x="4969" y="10178"/>
                  <a:pt x="5036" y="10195"/>
                  <a:pt x="4961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87720" y="3152880"/>
            <a:ext cx="5108400" cy="758880"/>
          </a:xfrm>
          <a:custGeom>
            <a:avLst/>
            <a:gdLst/>
            <a:ahLst/>
            <a:rect l="l" t="t" r="r" b="b"/>
            <a:pathLst>
              <a:path w="14189" h="2109">
                <a:moveTo>
                  <a:pt x="6077" y="9079"/>
                </a:moveTo>
                <a:cubicBezTo>
                  <a:pt x="6155" y="9058"/>
                  <a:pt x="6224" y="9071"/>
                  <a:pt x="6300" y="9054"/>
                </a:cubicBezTo>
                <a:cubicBezTo>
                  <a:pt x="6365" y="9040"/>
                  <a:pt x="6408" y="9029"/>
                  <a:pt x="6474" y="9029"/>
                </a:cubicBezTo>
                <a:cubicBezTo>
                  <a:pt x="6482" y="9029"/>
                  <a:pt x="6491" y="9029"/>
                  <a:pt x="6499" y="9029"/>
                </a:cubicBezTo>
              </a:path>
              <a:path w="14189" h="2109">
                <a:moveTo>
                  <a:pt x="6176" y="9302"/>
                </a:moveTo>
                <a:cubicBezTo>
                  <a:pt x="6242" y="9341"/>
                  <a:pt x="6319" y="9327"/>
                  <a:pt x="6400" y="9327"/>
                </a:cubicBezTo>
                <a:cubicBezTo>
                  <a:pt x="6468" y="9327"/>
                  <a:pt x="6487" y="9330"/>
                  <a:pt x="6524" y="9302"/>
                </a:cubicBezTo>
              </a:path>
              <a:path w="14189" h="2109">
                <a:moveTo>
                  <a:pt x="6945" y="8880"/>
                </a:moveTo>
                <a:cubicBezTo>
                  <a:pt x="7054" y="8816"/>
                  <a:pt x="7121" y="8762"/>
                  <a:pt x="7243" y="8756"/>
                </a:cubicBezTo>
                <a:cubicBezTo>
                  <a:pt x="7323" y="8752"/>
                  <a:pt x="7380" y="8748"/>
                  <a:pt x="7417" y="8830"/>
                </a:cubicBezTo>
                <a:cubicBezTo>
                  <a:pt x="7451" y="8907"/>
                  <a:pt x="7418" y="9010"/>
                  <a:pt x="7367" y="9079"/>
                </a:cubicBezTo>
                <a:cubicBezTo>
                  <a:pt x="7324" y="9137"/>
                  <a:pt x="7269" y="9185"/>
                  <a:pt x="7218" y="9227"/>
                </a:cubicBezTo>
                <a:cubicBezTo>
                  <a:pt x="7196" y="9249"/>
                  <a:pt x="7191" y="9258"/>
                  <a:pt x="7169" y="9252"/>
                </a:cubicBezTo>
                <a:cubicBezTo>
                  <a:pt x="7192" y="9233"/>
                  <a:pt x="7214" y="9214"/>
                  <a:pt x="7268" y="9203"/>
                </a:cubicBezTo>
                <a:cubicBezTo>
                  <a:pt x="7326" y="9192"/>
                  <a:pt x="7423" y="9206"/>
                  <a:pt x="7466" y="9252"/>
                </a:cubicBezTo>
                <a:cubicBezTo>
                  <a:pt x="7535" y="9327"/>
                  <a:pt x="7561" y="9427"/>
                  <a:pt x="7565" y="9525"/>
                </a:cubicBezTo>
                <a:cubicBezTo>
                  <a:pt x="7568" y="9602"/>
                  <a:pt x="7579" y="9713"/>
                  <a:pt x="7516" y="9773"/>
                </a:cubicBezTo>
                <a:cubicBezTo>
                  <a:pt x="7438" y="9847"/>
                  <a:pt x="7349" y="9893"/>
                  <a:pt x="7243" y="9897"/>
                </a:cubicBezTo>
                <a:cubicBezTo>
                  <a:pt x="7170" y="9900"/>
                  <a:pt x="7102" y="9907"/>
                  <a:pt x="7045" y="9872"/>
                </a:cubicBezTo>
              </a:path>
              <a:path w="14189" h="2109">
                <a:moveTo>
                  <a:pt x="8086" y="9004"/>
                </a:moveTo>
                <a:cubicBezTo>
                  <a:pt x="8057" y="9146"/>
                  <a:pt x="8025" y="9304"/>
                  <a:pt x="8012" y="9451"/>
                </a:cubicBezTo>
                <a:cubicBezTo>
                  <a:pt x="8001" y="9582"/>
                  <a:pt x="8032" y="9696"/>
                  <a:pt x="8037" y="9823"/>
                </a:cubicBezTo>
                <a:cubicBezTo>
                  <a:pt x="8039" y="9876"/>
                  <a:pt x="8005" y="10042"/>
                  <a:pt x="8037" y="9947"/>
                </a:cubicBezTo>
                <a:cubicBezTo>
                  <a:pt x="8045" y="9930"/>
                  <a:pt x="8054" y="9914"/>
                  <a:pt x="8062" y="9897"/>
                </a:cubicBezTo>
              </a:path>
              <a:path w="14189" h="2109">
                <a:moveTo>
                  <a:pt x="8483" y="8954"/>
                </a:moveTo>
                <a:cubicBezTo>
                  <a:pt x="8459" y="9144"/>
                  <a:pt x="8447" y="9338"/>
                  <a:pt x="8409" y="9525"/>
                </a:cubicBezTo>
                <a:cubicBezTo>
                  <a:pt x="8386" y="9637"/>
                  <a:pt x="8384" y="9733"/>
                  <a:pt x="8384" y="9847"/>
                </a:cubicBezTo>
                <a:cubicBezTo>
                  <a:pt x="8384" y="9875"/>
                  <a:pt x="8365" y="10037"/>
                  <a:pt x="8409" y="9971"/>
                </a:cubicBezTo>
                <a:cubicBezTo>
                  <a:pt x="8417" y="9955"/>
                  <a:pt x="8426" y="9938"/>
                  <a:pt x="8434" y="9922"/>
                </a:cubicBezTo>
              </a:path>
              <a:path w="14189" h="2109">
                <a:moveTo>
                  <a:pt x="9376" y="9153"/>
                </a:moveTo>
                <a:cubicBezTo>
                  <a:pt x="9235" y="9129"/>
                  <a:pt x="9162" y="9123"/>
                  <a:pt x="9029" y="9178"/>
                </a:cubicBezTo>
                <a:cubicBezTo>
                  <a:pt x="8978" y="9199"/>
                  <a:pt x="8929" y="9228"/>
                  <a:pt x="8880" y="9252"/>
                </a:cubicBezTo>
                <a:cubicBezTo>
                  <a:pt x="8895" y="9326"/>
                  <a:pt x="8937" y="9387"/>
                  <a:pt x="8979" y="9451"/>
                </a:cubicBezTo>
                <a:cubicBezTo>
                  <a:pt x="9067" y="9585"/>
                  <a:pt x="9231" y="9687"/>
                  <a:pt x="9277" y="9847"/>
                </a:cubicBezTo>
                <a:cubicBezTo>
                  <a:pt x="9292" y="9901"/>
                  <a:pt x="9285" y="10005"/>
                  <a:pt x="9252" y="10046"/>
                </a:cubicBezTo>
                <a:cubicBezTo>
                  <a:pt x="9244" y="10054"/>
                  <a:pt x="9235" y="10063"/>
                  <a:pt x="9227" y="10071"/>
                </a:cubicBezTo>
                <a:cubicBezTo>
                  <a:pt x="9177" y="10071"/>
                  <a:pt x="9145" y="10053"/>
                  <a:pt x="9103" y="10021"/>
                </a:cubicBezTo>
                <a:cubicBezTo>
                  <a:pt x="9048" y="9979"/>
                  <a:pt x="9075" y="9918"/>
                  <a:pt x="9079" y="9872"/>
                </a:cubicBezTo>
                <a:cubicBezTo>
                  <a:pt x="9089" y="9767"/>
                  <a:pt x="9162" y="9689"/>
                  <a:pt x="9227" y="9599"/>
                </a:cubicBezTo>
                <a:cubicBezTo>
                  <a:pt x="9300" y="9498"/>
                  <a:pt x="9368" y="9394"/>
                  <a:pt x="9451" y="9302"/>
                </a:cubicBezTo>
              </a:path>
              <a:path w="14189" h="2109">
                <a:moveTo>
                  <a:pt x="9649" y="9054"/>
                </a:moveTo>
                <a:cubicBezTo>
                  <a:pt x="9782" y="9014"/>
                  <a:pt x="9839" y="9004"/>
                  <a:pt x="9971" y="9004"/>
                </a:cubicBezTo>
                <a:cubicBezTo>
                  <a:pt x="10007" y="9004"/>
                  <a:pt x="10130" y="9016"/>
                  <a:pt x="10145" y="9054"/>
                </a:cubicBezTo>
                <a:cubicBezTo>
                  <a:pt x="10163" y="9101"/>
                  <a:pt x="10142" y="9188"/>
                  <a:pt x="10120" y="9227"/>
                </a:cubicBezTo>
                <a:cubicBezTo>
                  <a:pt x="10056" y="9342"/>
                  <a:pt x="10028" y="9446"/>
                  <a:pt x="9996" y="9575"/>
                </a:cubicBezTo>
                <a:cubicBezTo>
                  <a:pt x="9967" y="9689"/>
                  <a:pt x="9966" y="9808"/>
                  <a:pt x="9996" y="9922"/>
                </a:cubicBezTo>
                <a:cubicBezTo>
                  <a:pt x="10004" y="9951"/>
                  <a:pt x="10042" y="10057"/>
                  <a:pt x="10071" y="10071"/>
                </a:cubicBezTo>
                <a:cubicBezTo>
                  <a:pt x="10114" y="10071"/>
                  <a:pt x="10128" y="10054"/>
                  <a:pt x="10120" y="9996"/>
                </a:cubicBezTo>
              </a:path>
              <a:path w="14189" h="2109">
                <a:moveTo>
                  <a:pt x="10840" y="9252"/>
                </a:moveTo>
                <a:cubicBezTo>
                  <a:pt x="10972" y="9230"/>
                  <a:pt x="11006" y="9225"/>
                  <a:pt x="11088" y="9203"/>
                </a:cubicBezTo>
              </a:path>
              <a:path w="14189" h="2109">
                <a:moveTo>
                  <a:pt x="10864" y="9153"/>
                </a:moveTo>
                <a:cubicBezTo>
                  <a:pt x="10651" y="9266"/>
                  <a:pt x="10612" y="9267"/>
                  <a:pt x="10492" y="9426"/>
                </a:cubicBezTo>
                <a:cubicBezTo>
                  <a:pt x="10459" y="9469"/>
                  <a:pt x="10458" y="9498"/>
                  <a:pt x="10492" y="9550"/>
                </a:cubicBezTo>
                <a:cubicBezTo>
                  <a:pt x="10535" y="9615"/>
                  <a:pt x="10660" y="9586"/>
                  <a:pt x="10716" y="9599"/>
                </a:cubicBezTo>
                <a:cubicBezTo>
                  <a:pt x="10787" y="9615"/>
                  <a:pt x="10922" y="9688"/>
                  <a:pt x="10964" y="9748"/>
                </a:cubicBezTo>
                <a:cubicBezTo>
                  <a:pt x="11003" y="9804"/>
                  <a:pt x="11044" y="9914"/>
                  <a:pt x="11013" y="9971"/>
                </a:cubicBezTo>
                <a:cubicBezTo>
                  <a:pt x="10990" y="10014"/>
                  <a:pt x="10909" y="10063"/>
                  <a:pt x="10864" y="10071"/>
                </a:cubicBezTo>
                <a:cubicBezTo>
                  <a:pt x="10787" y="10085"/>
                  <a:pt x="10716" y="10100"/>
                  <a:pt x="10641" y="10071"/>
                </a:cubicBezTo>
                <a:cubicBezTo>
                  <a:pt x="10593" y="10047"/>
                  <a:pt x="10577" y="10040"/>
                  <a:pt x="10592" y="9996"/>
                </a:cubicBezTo>
              </a:path>
              <a:path w="14189" h="2109">
                <a:moveTo>
                  <a:pt x="11336" y="9376"/>
                </a:moveTo>
                <a:cubicBezTo>
                  <a:pt x="11462" y="9320"/>
                  <a:pt x="11534" y="9260"/>
                  <a:pt x="11658" y="9351"/>
                </a:cubicBezTo>
                <a:cubicBezTo>
                  <a:pt x="11753" y="9421"/>
                  <a:pt x="11750" y="9593"/>
                  <a:pt x="11733" y="9699"/>
                </a:cubicBezTo>
                <a:cubicBezTo>
                  <a:pt x="11713" y="9822"/>
                  <a:pt x="11616" y="9896"/>
                  <a:pt x="11534" y="9971"/>
                </a:cubicBezTo>
                <a:cubicBezTo>
                  <a:pt x="11477" y="10023"/>
                  <a:pt x="11442" y="10088"/>
                  <a:pt x="11361" y="10096"/>
                </a:cubicBezTo>
                <a:cubicBezTo>
                  <a:pt x="11353" y="10096"/>
                  <a:pt x="11344" y="10096"/>
                  <a:pt x="11336" y="10096"/>
                </a:cubicBezTo>
                <a:cubicBezTo>
                  <a:pt x="11336" y="10019"/>
                  <a:pt x="11343" y="9973"/>
                  <a:pt x="11410" y="9922"/>
                </a:cubicBezTo>
                <a:cubicBezTo>
                  <a:pt x="11483" y="9867"/>
                  <a:pt x="11580" y="9854"/>
                  <a:pt x="11658" y="9897"/>
                </a:cubicBezTo>
                <a:cubicBezTo>
                  <a:pt x="11721" y="9932"/>
                  <a:pt x="11782" y="9991"/>
                  <a:pt x="11857" y="9996"/>
                </a:cubicBezTo>
                <a:cubicBezTo>
                  <a:pt x="11901" y="9996"/>
                  <a:pt x="11915" y="9999"/>
                  <a:pt x="11931" y="9971"/>
                </a:cubicBezTo>
              </a:path>
              <a:path w="14189" h="2109">
                <a:moveTo>
                  <a:pt x="12229" y="9351"/>
                </a:moveTo>
                <a:cubicBezTo>
                  <a:pt x="12146" y="9517"/>
                  <a:pt x="12061" y="9672"/>
                  <a:pt x="12005" y="9847"/>
                </a:cubicBezTo>
                <a:cubicBezTo>
                  <a:pt x="11962" y="9984"/>
                  <a:pt x="12042" y="10006"/>
                  <a:pt x="12129" y="10071"/>
                </a:cubicBezTo>
                <a:cubicBezTo>
                  <a:pt x="12205" y="10127"/>
                  <a:pt x="12285" y="10146"/>
                  <a:pt x="12378" y="10096"/>
                </a:cubicBezTo>
                <a:cubicBezTo>
                  <a:pt x="12479" y="10041"/>
                  <a:pt x="12560" y="9902"/>
                  <a:pt x="12601" y="9798"/>
                </a:cubicBezTo>
                <a:cubicBezTo>
                  <a:pt x="12642" y="9694"/>
                  <a:pt x="12628" y="9596"/>
                  <a:pt x="12576" y="9500"/>
                </a:cubicBezTo>
                <a:cubicBezTo>
                  <a:pt x="12523" y="9403"/>
                  <a:pt x="12448" y="9352"/>
                  <a:pt x="12353" y="9302"/>
                </a:cubicBezTo>
                <a:cubicBezTo>
                  <a:pt x="12303" y="9276"/>
                  <a:pt x="12256" y="9276"/>
                  <a:pt x="12278" y="9252"/>
                </a:cubicBezTo>
              </a:path>
              <a:path w="14189" h="2109">
                <a:moveTo>
                  <a:pt x="12774" y="9451"/>
                </a:moveTo>
                <a:cubicBezTo>
                  <a:pt x="12743" y="9654"/>
                  <a:pt x="12663" y="9779"/>
                  <a:pt x="12799" y="9922"/>
                </a:cubicBezTo>
                <a:cubicBezTo>
                  <a:pt x="12864" y="9990"/>
                  <a:pt x="12953" y="10014"/>
                  <a:pt x="13047" y="9996"/>
                </a:cubicBezTo>
                <a:cubicBezTo>
                  <a:pt x="13145" y="9977"/>
                  <a:pt x="13235" y="9900"/>
                  <a:pt x="13295" y="9823"/>
                </a:cubicBezTo>
                <a:cubicBezTo>
                  <a:pt x="13321" y="9789"/>
                  <a:pt x="13407" y="9679"/>
                  <a:pt x="13370" y="9624"/>
                </a:cubicBezTo>
                <a:cubicBezTo>
                  <a:pt x="13257" y="9456"/>
                  <a:pt x="13130" y="9438"/>
                  <a:pt x="12948" y="9401"/>
                </a:cubicBezTo>
              </a:path>
              <a:path w="14189" h="2109">
                <a:moveTo>
                  <a:pt x="11112" y="10021"/>
                </a:moveTo>
                <a:cubicBezTo>
                  <a:pt x="11093" y="10172"/>
                  <a:pt x="11095" y="10324"/>
                  <a:pt x="11038" y="10468"/>
                </a:cubicBezTo>
                <a:cubicBezTo>
                  <a:pt x="11030" y="10484"/>
                  <a:pt x="11021" y="10501"/>
                  <a:pt x="11013" y="10517"/>
                </a:cubicBezTo>
              </a:path>
              <a:path w="14189" h="2109">
                <a:moveTo>
                  <a:pt x="8731" y="9947"/>
                </a:moveTo>
                <a:cubicBezTo>
                  <a:pt x="8716" y="10089"/>
                  <a:pt x="8742" y="10328"/>
                  <a:pt x="8632" y="10443"/>
                </a:cubicBezTo>
                <a:cubicBezTo>
                  <a:pt x="8566" y="10512"/>
                  <a:pt x="8494" y="10528"/>
                  <a:pt x="8409" y="10542"/>
                </a:cubicBezTo>
              </a:path>
              <a:path w="14189" h="2109">
                <a:moveTo>
                  <a:pt x="7144" y="8781"/>
                </a:moveTo>
                <a:cubicBezTo>
                  <a:pt x="7172" y="8921"/>
                  <a:pt x="7190" y="9053"/>
                  <a:pt x="7193" y="9203"/>
                </a:cubicBezTo>
                <a:cubicBezTo>
                  <a:pt x="7196" y="9402"/>
                  <a:pt x="7211" y="9577"/>
                  <a:pt x="7243" y="9773"/>
                </a:cubicBezTo>
                <a:cubicBezTo>
                  <a:pt x="7254" y="9843"/>
                  <a:pt x="7257" y="9991"/>
                  <a:pt x="7317" y="10046"/>
                </a:cubicBezTo>
                <a:cubicBezTo>
                  <a:pt x="7385" y="10108"/>
                  <a:pt x="7436" y="10045"/>
                  <a:pt x="7491" y="9996"/>
                </a:cubicBezTo>
                <a:cubicBezTo>
                  <a:pt x="7632" y="9871"/>
                  <a:pt x="7750" y="9698"/>
                  <a:pt x="7838" y="9525"/>
                </a:cubicBezTo>
                <a:cubicBezTo>
                  <a:pt x="7932" y="9340"/>
                  <a:pt x="7986" y="9280"/>
                  <a:pt x="8136" y="9178"/>
                </a:cubicBezTo>
                <a:cubicBezTo>
                  <a:pt x="8187" y="9262"/>
                  <a:pt x="8228" y="9301"/>
                  <a:pt x="8260" y="9401"/>
                </a:cubicBezTo>
                <a:cubicBezTo>
                  <a:pt x="8310" y="9558"/>
                  <a:pt x="8330" y="9937"/>
                  <a:pt x="8533" y="9996"/>
                </a:cubicBezTo>
                <a:cubicBezTo>
                  <a:pt x="8747" y="10058"/>
                  <a:pt x="8903" y="9905"/>
                  <a:pt x="9029" y="9773"/>
                </a:cubicBezTo>
                <a:cubicBezTo>
                  <a:pt x="9147" y="9649"/>
                  <a:pt x="9197" y="9451"/>
                  <a:pt x="9376" y="9401"/>
                </a:cubicBezTo>
                <a:cubicBezTo>
                  <a:pt x="9490" y="9369"/>
                  <a:pt x="9492" y="9413"/>
                  <a:pt x="9550" y="9500"/>
                </a:cubicBezTo>
                <a:cubicBezTo>
                  <a:pt x="9628" y="9616"/>
                  <a:pt x="9628" y="9765"/>
                  <a:pt x="9723" y="9872"/>
                </a:cubicBezTo>
                <a:cubicBezTo>
                  <a:pt x="9810" y="9971"/>
                  <a:pt x="9873" y="9973"/>
                  <a:pt x="9996" y="9971"/>
                </a:cubicBezTo>
                <a:cubicBezTo>
                  <a:pt x="10142" y="9969"/>
                  <a:pt x="10263" y="9858"/>
                  <a:pt x="10368" y="9773"/>
                </a:cubicBezTo>
                <a:cubicBezTo>
                  <a:pt x="10519" y="9652"/>
                  <a:pt x="10648" y="9318"/>
                  <a:pt x="10889" y="9426"/>
                </a:cubicBezTo>
                <a:cubicBezTo>
                  <a:pt x="10952" y="9454"/>
                  <a:pt x="10999" y="9619"/>
                  <a:pt x="11038" y="9674"/>
                </a:cubicBezTo>
                <a:cubicBezTo>
                  <a:pt x="11151" y="9834"/>
                  <a:pt x="11211" y="9852"/>
                  <a:pt x="11410" y="9847"/>
                </a:cubicBezTo>
                <a:cubicBezTo>
                  <a:pt x="11583" y="9843"/>
                  <a:pt x="11673" y="9817"/>
                  <a:pt x="11807" y="9723"/>
                </a:cubicBezTo>
                <a:cubicBezTo>
                  <a:pt x="11920" y="9644"/>
                  <a:pt x="12029" y="9561"/>
                  <a:pt x="12129" y="9500"/>
                </a:cubicBezTo>
                <a:cubicBezTo>
                  <a:pt x="12181" y="9587"/>
                  <a:pt x="12231" y="9688"/>
                  <a:pt x="12278" y="9798"/>
                </a:cubicBezTo>
                <a:cubicBezTo>
                  <a:pt x="12335" y="9931"/>
                  <a:pt x="12338" y="9958"/>
                  <a:pt x="12452" y="10021"/>
                </a:cubicBezTo>
                <a:cubicBezTo>
                  <a:pt x="12580" y="10091"/>
                  <a:pt x="12794" y="10009"/>
                  <a:pt x="12898" y="9922"/>
                </a:cubicBezTo>
                <a:cubicBezTo>
                  <a:pt x="12971" y="9861"/>
                  <a:pt x="13055" y="9744"/>
                  <a:pt x="13122" y="9674"/>
                </a:cubicBezTo>
                <a:cubicBezTo>
                  <a:pt x="13161" y="9726"/>
                  <a:pt x="13206" y="9771"/>
                  <a:pt x="13246" y="9823"/>
                </a:cubicBezTo>
                <a:cubicBezTo>
                  <a:pt x="13323" y="9923"/>
                  <a:pt x="13384" y="9968"/>
                  <a:pt x="13519" y="9971"/>
                </a:cubicBezTo>
                <a:cubicBezTo>
                  <a:pt x="13603" y="9973"/>
                  <a:pt x="13786" y="9866"/>
                  <a:pt x="13866" y="9897"/>
                </a:cubicBezTo>
                <a:cubicBezTo>
                  <a:pt x="13936" y="9924"/>
                  <a:pt x="13909" y="9938"/>
                  <a:pt x="13940" y="9996"/>
                </a:cubicBezTo>
                <a:cubicBezTo>
                  <a:pt x="13957" y="10029"/>
                  <a:pt x="13932" y="10117"/>
                  <a:pt x="13965" y="10145"/>
                </a:cubicBezTo>
                <a:cubicBezTo>
                  <a:pt x="13987" y="10164"/>
                  <a:pt x="14056" y="10191"/>
                  <a:pt x="14089" y="10170"/>
                </a:cubicBezTo>
                <a:cubicBezTo>
                  <a:pt x="14113" y="10155"/>
                  <a:pt x="14041" y="10112"/>
                  <a:pt x="14064" y="10096"/>
                </a:cubicBezTo>
              </a:path>
              <a:path w="14189" h="2109">
                <a:moveTo>
                  <a:pt x="14610" y="9079"/>
                </a:moveTo>
                <a:cubicBezTo>
                  <a:pt x="14711" y="9043"/>
                  <a:pt x="14801" y="9008"/>
                  <a:pt x="14908" y="9004"/>
                </a:cubicBezTo>
                <a:cubicBezTo>
                  <a:pt x="14998" y="9000"/>
                  <a:pt x="15125" y="9024"/>
                  <a:pt x="15180" y="9103"/>
                </a:cubicBezTo>
                <a:cubicBezTo>
                  <a:pt x="15260" y="9216"/>
                  <a:pt x="15317" y="9361"/>
                  <a:pt x="15329" y="9500"/>
                </a:cubicBezTo>
                <a:cubicBezTo>
                  <a:pt x="15348" y="9729"/>
                  <a:pt x="15275" y="9875"/>
                  <a:pt x="15131" y="10046"/>
                </a:cubicBezTo>
                <a:cubicBezTo>
                  <a:pt x="15075" y="10112"/>
                  <a:pt x="15015" y="10147"/>
                  <a:pt x="14957" y="10195"/>
                </a:cubicBezTo>
                <a:cubicBezTo>
                  <a:pt x="14964" y="10136"/>
                  <a:pt x="14970" y="10080"/>
                  <a:pt x="14982" y="10021"/>
                </a:cubicBezTo>
                <a:cubicBezTo>
                  <a:pt x="14997" y="9942"/>
                  <a:pt x="15027" y="9746"/>
                  <a:pt x="15106" y="9699"/>
                </a:cubicBezTo>
                <a:cubicBezTo>
                  <a:pt x="15162" y="9666"/>
                  <a:pt x="15235" y="9765"/>
                  <a:pt x="15255" y="9798"/>
                </a:cubicBezTo>
                <a:cubicBezTo>
                  <a:pt x="15282" y="9843"/>
                  <a:pt x="15311" y="9917"/>
                  <a:pt x="15354" y="9947"/>
                </a:cubicBezTo>
                <a:cubicBezTo>
                  <a:pt x="15392" y="9973"/>
                  <a:pt x="15456" y="10023"/>
                  <a:pt x="15503" y="10021"/>
                </a:cubicBezTo>
                <a:cubicBezTo>
                  <a:pt x="15520" y="10013"/>
                  <a:pt x="15536" y="10004"/>
                  <a:pt x="15553" y="9996"/>
                </a:cubicBezTo>
              </a:path>
              <a:path w="14189" h="2109">
                <a:moveTo>
                  <a:pt x="15875" y="9252"/>
                </a:moveTo>
                <a:cubicBezTo>
                  <a:pt x="15995" y="9252"/>
                  <a:pt x="16086" y="9236"/>
                  <a:pt x="16197" y="9227"/>
                </a:cubicBezTo>
                <a:cubicBezTo>
                  <a:pt x="16225" y="9227"/>
                  <a:pt x="16236" y="9225"/>
                  <a:pt x="16247" y="9203"/>
                </a:cubicBezTo>
              </a:path>
              <a:path w="14189" h="2109">
                <a:moveTo>
                  <a:pt x="15949" y="9227"/>
                </a:moveTo>
                <a:cubicBezTo>
                  <a:pt x="15845" y="9309"/>
                  <a:pt x="15824" y="9331"/>
                  <a:pt x="15776" y="9426"/>
                </a:cubicBezTo>
                <a:cubicBezTo>
                  <a:pt x="15756" y="9467"/>
                  <a:pt x="15765" y="9483"/>
                  <a:pt x="15801" y="9525"/>
                </a:cubicBezTo>
                <a:cubicBezTo>
                  <a:pt x="15850" y="9582"/>
                  <a:pt x="15967" y="9556"/>
                  <a:pt x="16024" y="9550"/>
                </a:cubicBezTo>
                <a:cubicBezTo>
                  <a:pt x="16101" y="9542"/>
                  <a:pt x="16175" y="9548"/>
                  <a:pt x="16247" y="9575"/>
                </a:cubicBezTo>
                <a:cubicBezTo>
                  <a:pt x="16317" y="9601"/>
                  <a:pt x="16360" y="9701"/>
                  <a:pt x="16371" y="9773"/>
                </a:cubicBezTo>
                <a:cubicBezTo>
                  <a:pt x="16387" y="9876"/>
                  <a:pt x="16327" y="10045"/>
                  <a:pt x="16247" y="10120"/>
                </a:cubicBezTo>
                <a:cubicBezTo>
                  <a:pt x="16205" y="10160"/>
                  <a:pt x="16143" y="10181"/>
                  <a:pt x="16098" y="10220"/>
                </a:cubicBezTo>
                <a:cubicBezTo>
                  <a:pt x="16074" y="10241"/>
                  <a:pt x="16009" y="10262"/>
                  <a:pt x="15974" y="10244"/>
                </a:cubicBezTo>
                <a:cubicBezTo>
                  <a:pt x="15928" y="10219"/>
                  <a:pt x="15918" y="10163"/>
                  <a:pt x="15900" y="10120"/>
                </a:cubicBezTo>
              </a:path>
              <a:path w="14189" h="2109">
                <a:moveTo>
                  <a:pt x="16942" y="9426"/>
                </a:moveTo>
                <a:cubicBezTo>
                  <a:pt x="16950" y="9401"/>
                  <a:pt x="16958" y="9376"/>
                  <a:pt x="16966" y="9351"/>
                </a:cubicBezTo>
                <a:cubicBezTo>
                  <a:pt x="16886" y="9359"/>
                  <a:pt x="16820" y="9367"/>
                  <a:pt x="16743" y="9401"/>
                </a:cubicBezTo>
                <a:cubicBezTo>
                  <a:pt x="16666" y="9435"/>
                  <a:pt x="16503" y="9512"/>
                  <a:pt x="16470" y="9599"/>
                </a:cubicBezTo>
                <a:cubicBezTo>
                  <a:pt x="16445" y="9666"/>
                  <a:pt x="16527" y="9700"/>
                  <a:pt x="16570" y="9723"/>
                </a:cubicBezTo>
                <a:cubicBezTo>
                  <a:pt x="16656" y="9768"/>
                  <a:pt x="16714" y="9743"/>
                  <a:pt x="16793" y="9699"/>
                </a:cubicBezTo>
                <a:cubicBezTo>
                  <a:pt x="16902" y="9638"/>
                  <a:pt x="17012" y="9559"/>
                  <a:pt x="17115" y="9500"/>
                </a:cubicBezTo>
                <a:cubicBezTo>
                  <a:pt x="17082" y="9587"/>
                  <a:pt x="17069" y="9681"/>
                  <a:pt x="17041" y="9773"/>
                </a:cubicBezTo>
                <a:cubicBezTo>
                  <a:pt x="17007" y="9886"/>
                  <a:pt x="16978" y="10003"/>
                  <a:pt x="16966" y="10120"/>
                </a:cubicBezTo>
                <a:cubicBezTo>
                  <a:pt x="16955" y="10233"/>
                  <a:pt x="16986" y="10333"/>
                  <a:pt x="16991" y="10443"/>
                </a:cubicBezTo>
                <a:cubicBezTo>
                  <a:pt x="16997" y="10573"/>
                  <a:pt x="17012" y="10478"/>
                  <a:pt x="17041" y="10418"/>
                </a:cubicBezTo>
                <a:cubicBezTo>
                  <a:pt x="17049" y="10401"/>
                  <a:pt x="17058" y="10385"/>
                  <a:pt x="17066" y="10368"/>
                </a:cubicBezTo>
              </a:path>
              <a:path w="14189" h="2109">
                <a:moveTo>
                  <a:pt x="17711" y="9525"/>
                </a:moveTo>
                <a:cubicBezTo>
                  <a:pt x="17601" y="9447"/>
                  <a:pt x="17562" y="9395"/>
                  <a:pt x="17438" y="9475"/>
                </a:cubicBezTo>
                <a:cubicBezTo>
                  <a:pt x="17377" y="9514"/>
                  <a:pt x="17417" y="9648"/>
                  <a:pt x="17438" y="9699"/>
                </a:cubicBezTo>
                <a:cubicBezTo>
                  <a:pt x="17498" y="9848"/>
                  <a:pt x="17570" y="9981"/>
                  <a:pt x="17587" y="10145"/>
                </a:cubicBezTo>
                <a:cubicBezTo>
                  <a:pt x="17597" y="10246"/>
                  <a:pt x="17612" y="10360"/>
                  <a:pt x="17512" y="10418"/>
                </a:cubicBezTo>
                <a:cubicBezTo>
                  <a:pt x="17471" y="10442"/>
                  <a:pt x="17356" y="10429"/>
                  <a:pt x="17338" y="10368"/>
                </a:cubicBezTo>
                <a:cubicBezTo>
                  <a:pt x="17319" y="10301"/>
                  <a:pt x="17301" y="10235"/>
                  <a:pt x="17338" y="10170"/>
                </a:cubicBezTo>
                <a:cubicBezTo>
                  <a:pt x="17409" y="10044"/>
                  <a:pt x="17509" y="9970"/>
                  <a:pt x="17611" y="9872"/>
                </a:cubicBezTo>
                <a:cubicBezTo>
                  <a:pt x="17713" y="9774"/>
                  <a:pt x="17819" y="9658"/>
                  <a:pt x="17934" y="9575"/>
                </a:cubicBezTo>
                <a:cubicBezTo>
                  <a:pt x="17950" y="9567"/>
                  <a:pt x="17967" y="9558"/>
                  <a:pt x="17983" y="9550"/>
                </a:cubicBezTo>
              </a:path>
              <a:path w="14189" h="2109">
                <a:moveTo>
                  <a:pt x="18380" y="9575"/>
                </a:moveTo>
                <a:cubicBezTo>
                  <a:pt x="18344" y="9520"/>
                  <a:pt x="18251" y="9558"/>
                  <a:pt x="18182" y="9575"/>
                </a:cubicBezTo>
                <a:cubicBezTo>
                  <a:pt x="18111" y="9592"/>
                  <a:pt x="17916" y="9623"/>
                  <a:pt x="17934" y="9723"/>
                </a:cubicBezTo>
                <a:cubicBezTo>
                  <a:pt x="17950" y="9811"/>
                  <a:pt x="18013" y="9837"/>
                  <a:pt x="18083" y="9872"/>
                </a:cubicBezTo>
                <a:cubicBezTo>
                  <a:pt x="18151" y="9906"/>
                  <a:pt x="18195" y="9905"/>
                  <a:pt x="18256" y="9872"/>
                </a:cubicBezTo>
                <a:cubicBezTo>
                  <a:pt x="18327" y="9834"/>
                  <a:pt x="18374" y="9787"/>
                  <a:pt x="18430" y="9748"/>
                </a:cubicBezTo>
                <a:cubicBezTo>
                  <a:pt x="18455" y="9748"/>
                  <a:pt x="18463" y="9748"/>
                  <a:pt x="18455" y="9723"/>
                </a:cubicBezTo>
                <a:cubicBezTo>
                  <a:pt x="18455" y="9834"/>
                  <a:pt x="18402" y="9904"/>
                  <a:pt x="18380" y="10021"/>
                </a:cubicBezTo>
                <a:cubicBezTo>
                  <a:pt x="18362" y="10118"/>
                  <a:pt x="18346" y="10249"/>
                  <a:pt x="18380" y="10344"/>
                </a:cubicBezTo>
                <a:cubicBezTo>
                  <a:pt x="18408" y="10421"/>
                  <a:pt x="18422" y="10376"/>
                  <a:pt x="18430" y="10319"/>
                </a:cubicBezTo>
              </a:path>
              <a:path w="14189" h="2109">
                <a:moveTo>
                  <a:pt x="18876" y="9550"/>
                </a:moveTo>
                <a:cubicBezTo>
                  <a:pt x="18866" y="9701"/>
                  <a:pt x="18838" y="9848"/>
                  <a:pt x="18802" y="9996"/>
                </a:cubicBezTo>
                <a:cubicBezTo>
                  <a:pt x="18764" y="10152"/>
                  <a:pt x="18791" y="10182"/>
                  <a:pt x="18852" y="10319"/>
                </a:cubicBezTo>
                <a:cubicBezTo>
                  <a:pt x="18894" y="10413"/>
                  <a:pt x="18915" y="10462"/>
                  <a:pt x="19025" y="10468"/>
                </a:cubicBezTo>
                <a:cubicBezTo>
                  <a:pt x="19131" y="10474"/>
                  <a:pt x="19189" y="10326"/>
                  <a:pt x="19224" y="10244"/>
                </a:cubicBezTo>
                <a:cubicBezTo>
                  <a:pt x="19260" y="10159"/>
                  <a:pt x="19286" y="10068"/>
                  <a:pt x="19273" y="9996"/>
                </a:cubicBezTo>
                <a:cubicBezTo>
                  <a:pt x="19273" y="9988"/>
                  <a:pt x="19273" y="9979"/>
                  <a:pt x="19273" y="9971"/>
                </a:cubicBezTo>
                <a:cubicBezTo>
                  <a:pt x="19213" y="9986"/>
                  <a:pt x="19141" y="10053"/>
                  <a:pt x="19124" y="10120"/>
                </a:cubicBezTo>
                <a:cubicBezTo>
                  <a:pt x="19105" y="10195"/>
                  <a:pt x="19129" y="10307"/>
                  <a:pt x="19174" y="10368"/>
                </a:cubicBezTo>
                <a:cubicBezTo>
                  <a:pt x="19213" y="10407"/>
                  <a:pt x="19214" y="10424"/>
                  <a:pt x="19248" y="10418"/>
                </a:cubicBezTo>
              </a:path>
              <a:path w="14189" h="2109">
                <a:moveTo>
                  <a:pt x="19670" y="9773"/>
                </a:moveTo>
                <a:cubicBezTo>
                  <a:pt x="19597" y="9945"/>
                  <a:pt x="19481" y="10109"/>
                  <a:pt x="19521" y="10294"/>
                </a:cubicBezTo>
                <a:cubicBezTo>
                  <a:pt x="19550" y="10431"/>
                  <a:pt x="19619" y="10506"/>
                  <a:pt x="19745" y="10567"/>
                </a:cubicBezTo>
                <a:cubicBezTo>
                  <a:pt x="19844" y="10615"/>
                  <a:pt x="19963" y="10596"/>
                  <a:pt x="20042" y="10517"/>
                </a:cubicBezTo>
                <a:cubicBezTo>
                  <a:pt x="20187" y="10373"/>
                  <a:pt x="20258" y="10170"/>
                  <a:pt x="20265" y="9971"/>
                </a:cubicBezTo>
                <a:cubicBezTo>
                  <a:pt x="20268" y="9878"/>
                  <a:pt x="20201" y="9792"/>
                  <a:pt x="20117" y="9748"/>
                </a:cubicBezTo>
                <a:cubicBezTo>
                  <a:pt x="19999" y="9687"/>
                  <a:pt x="19843" y="9680"/>
                  <a:pt x="19720" y="9723"/>
                </a:cubicBezTo>
                <a:cubicBezTo>
                  <a:pt x="19687" y="9740"/>
                  <a:pt x="19654" y="9756"/>
                  <a:pt x="19621" y="9773"/>
                </a:cubicBezTo>
              </a:path>
              <a:path w="14189" h="2109">
                <a:moveTo>
                  <a:pt x="18157" y="10244"/>
                </a:moveTo>
                <a:cubicBezTo>
                  <a:pt x="18157" y="10396"/>
                  <a:pt x="18136" y="10540"/>
                  <a:pt x="18132" y="10691"/>
                </a:cubicBezTo>
                <a:cubicBezTo>
                  <a:pt x="18132" y="10783"/>
                  <a:pt x="18134" y="10809"/>
                  <a:pt x="18107" y="10864"/>
                </a:cubicBezTo>
              </a:path>
              <a:path w="14189" h="2109">
                <a:moveTo>
                  <a:pt x="15949" y="10468"/>
                </a:moveTo>
                <a:cubicBezTo>
                  <a:pt x="15869" y="10656"/>
                  <a:pt x="15851" y="10742"/>
                  <a:pt x="15677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4120" y="4724280"/>
            <a:ext cx="5661000" cy="160560"/>
          </a:xfrm>
          <a:custGeom>
            <a:avLst/>
            <a:gdLst/>
            <a:ahLst/>
            <a:rect l="l" t="t" r="r" b="b"/>
            <a:pathLst>
              <a:path w="15727" h="447">
                <a:moveTo>
                  <a:pt x="1067" y="13543"/>
                </a:moveTo>
                <a:cubicBezTo>
                  <a:pt x="1235" y="13543"/>
                  <a:pt x="1397" y="13528"/>
                  <a:pt x="1563" y="13519"/>
                </a:cubicBezTo>
                <a:cubicBezTo>
                  <a:pt x="1942" y="13498"/>
                  <a:pt x="2328" y="13519"/>
                  <a:pt x="2704" y="13543"/>
                </a:cubicBezTo>
                <a:cubicBezTo>
                  <a:pt x="2789" y="13548"/>
                  <a:pt x="2882" y="13549"/>
                  <a:pt x="2927" y="13519"/>
                </a:cubicBezTo>
                <a:cubicBezTo>
                  <a:pt x="2935" y="13511"/>
                  <a:pt x="2944" y="13502"/>
                  <a:pt x="2952" y="13494"/>
                </a:cubicBezTo>
              </a:path>
              <a:path w="15727" h="447">
                <a:moveTo>
                  <a:pt x="4291" y="13568"/>
                </a:moveTo>
                <a:cubicBezTo>
                  <a:pt x="4316" y="13553"/>
                  <a:pt x="4381" y="13525"/>
                  <a:pt x="4440" y="13519"/>
                </a:cubicBezTo>
                <a:cubicBezTo>
                  <a:pt x="5137" y="13454"/>
                  <a:pt x="5857" y="13585"/>
                  <a:pt x="6548" y="13494"/>
                </a:cubicBezTo>
                <a:cubicBezTo>
                  <a:pt x="6601" y="13487"/>
                  <a:pt x="6584" y="13481"/>
                  <a:pt x="6623" y="13469"/>
                </a:cubicBezTo>
                <a:cubicBezTo>
                  <a:pt x="6631" y="13469"/>
                  <a:pt x="6640" y="13469"/>
                  <a:pt x="6648" y="13469"/>
                </a:cubicBezTo>
              </a:path>
              <a:path w="15727" h="447">
                <a:moveTo>
                  <a:pt x="7863" y="13494"/>
                </a:moveTo>
                <a:cubicBezTo>
                  <a:pt x="7976" y="13453"/>
                  <a:pt x="8042" y="13459"/>
                  <a:pt x="8161" y="13444"/>
                </a:cubicBezTo>
                <a:cubicBezTo>
                  <a:pt x="8353" y="13420"/>
                  <a:pt x="8536" y="13419"/>
                  <a:pt x="8731" y="13419"/>
                </a:cubicBezTo>
                <a:cubicBezTo>
                  <a:pt x="9022" y="13419"/>
                  <a:pt x="9312" y="13417"/>
                  <a:pt x="9599" y="13395"/>
                </a:cubicBezTo>
                <a:cubicBezTo>
                  <a:pt x="9685" y="13388"/>
                  <a:pt x="9810" y="13390"/>
                  <a:pt x="9847" y="13320"/>
                </a:cubicBezTo>
                <a:cubicBezTo>
                  <a:pt x="9869" y="13278"/>
                  <a:pt x="9818" y="13261"/>
                  <a:pt x="9872" y="13246"/>
                </a:cubicBezTo>
                <a:cubicBezTo>
                  <a:pt x="9905" y="13246"/>
                  <a:pt x="9922" y="13246"/>
                  <a:pt x="9947" y="13246"/>
                </a:cubicBezTo>
              </a:path>
              <a:path w="15727" h="447">
                <a:moveTo>
                  <a:pt x="11112" y="13320"/>
                </a:moveTo>
                <a:cubicBezTo>
                  <a:pt x="11161" y="13302"/>
                  <a:pt x="11227" y="13276"/>
                  <a:pt x="11286" y="13271"/>
                </a:cubicBezTo>
                <a:cubicBezTo>
                  <a:pt x="11516" y="13252"/>
                  <a:pt x="11749" y="13231"/>
                  <a:pt x="11981" y="13221"/>
                </a:cubicBezTo>
                <a:cubicBezTo>
                  <a:pt x="12297" y="13208"/>
                  <a:pt x="12942" y="13356"/>
                  <a:pt x="13221" y="13196"/>
                </a:cubicBezTo>
                <a:cubicBezTo>
                  <a:pt x="13254" y="13177"/>
                  <a:pt x="13247" y="13170"/>
                  <a:pt x="13271" y="13146"/>
                </a:cubicBezTo>
                <a:cubicBezTo>
                  <a:pt x="13285" y="13132"/>
                  <a:pt x="13258" y="13121"/>
                  <a:pt x="13295" y="13171"/>
                </a:cubicBezTo>
              </a:path>
              <a:path w="15727" h="447">
                <a:moveTo>
                  <a:pt x="14560" y="13271"/>
                </a:moveTo>
                <a:cubicBezTo>
                  <a:pt x="14844" y="13254"/>
                  <a:pt x="15120" y="13246"/>
                  <a:pt x="15404" y="13246"/>
                </a:cubicBezTo>
                <a:cubicBezTo>
                  <a:pt x="15867" y="13246"/>
                  <a:pt x="16330" y="13246"/>
                  <a:pt x="167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Eight horses are in a race.  In how many ways can 1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place be awarde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438280"/>
            <a:ext cx="741240" cy="1089000"/>
          </a:xfrm>
          <a:custGeom>
            <a:avLst/>
            <a:gdLst/>
            <a:ahLst/>
            <a:rect l="l" t="t" r="r" b="b"/>
            <a:pathLst>
              <a:path w="2060" h="3027">
                <a:moveTo>
                  <a:pt x="3944" y="8979"/>
                </a:moveTo>
                <a:cubicBezTo>
                  <a:pt x="3898" y="8964"/>
                  <a:pt x="3920" y="8954"/>
                  <a:pt x="3845" y="8954"/>
                </a:cubicBezTo>
                <a:cubicBezTo>
                  <a:pt x="3787" y="8954"/>
                  <a:pt x="3724" y="8961"/>
                  <a:pt x="3671" y="8979"/>
                </a:cubicBezTo>
                <a:cubicBezTo>
                  <a:pt x="3630" y="8993"/>
                  <a:pt x="3545" y="9013"/>
                  <a:pt x="3522" y="9054"/>
                </a:cubicBezTo>
                <a:cubicBezTo>
                  <a:pt x="3512" y="9072"/>
                  <a:pt x="3482" y="9126"/>
                  <a:pt x="3497" y="9153"/>
                </a:cubicBezTo>
                <a:cubicBezTo>
                  <a:pt x="3521" y="9196"/>
                  <a:pt x="3567" y="9263"/>
                  <a:pt x="3597" y="9302"/>
                </a:cubicBezTo>
                <a:cubicBezTo>
                  <a:pt x="3639" y="9355"/>
                  <a:pt x="3726" y="9437"/>
                  <a:pt x="3746" y="9500"/>
                </a:cubicBezTo>
                <a:cubicBezTo>
                  <a:pt x="3765" y="9560"/>
                  <a:pt x="3732" y="9601"/>
                  <a:pt x="3721" y="9624"/>
                </a:cubicBezTo>
                <a:cubicBezTo>
                  <a:pt x="3721" y="9632"/>
                  <a:pt x="3721" y="9641"/>
                  <a:pt x="3721" y="9649"/>
                </a:cubicBezTo>
                <a:cubicBezTo>
                  <a:pt x="3682" y="9639"/>
                  <a:pt x="3611" y="9594"/>
                  <a:pt x="3597" y="9550"/>
                </a:cubicBezTo>
                <a:cubicBezTo>
                  <a:pt x="3580" y="9499"/>
                  <a:pt x="3648" y="9421"/>
                  <a:pt x="3671" y="9376"/>
                </a:cubicBezTo>
                <a:cubicBezTo>
                  <a:pt x="3711" y="9296"/>
                  <a:pt x="3775" y="9213"/>
                  <a:pt x="3795" y="9128"/>
                </a:cubicBezTo>
                <a:cubicBezTo>
                  <a:pt x="3813" y="9051"/>
                  <a:pt x="3835" y="8980"/>
                  <a:pt x="3870" y="8905"/>
                </a:cubicBezTo>
                <a:cubicBezTo>
                  <a:pt x="3898" y="8846"/>
                  <a:pt x="3922" y="8792"/>
                  <a:pt x="3944" y="8731"/>
                </a:cubicBezTo>
              </a:path>
              <a:path w="2060" h="3027">
                <a:moveTo>
                  <a:pt x="4490" y="7417"/>
                </a:moveTo>
                <a:cubicBezTo>
                  <a:pt x="4524" y="7487"/>
                  <a:pt x="4556" y="7562"/>
                  <a:pt x="4564" y="7640"/>
                </a:cubicBezTo>
                <a:cubicBezTo>
                  <a:pt x="4596" y="7970"/>
                  <a:pt x="4571" y="8331"/>
                  <a:pt x="4539" y="8657"/>
                </a:cubicBezTo>
                <a:cubicBezTo>
                  <a:pt x="4533" y="8715"/>
                  <a:pt x="4534" y="8801"/>
                  <a:pt x="4514" y="8855"/>
                </a:cubicBezTo>
                <a:cubicBezTo>
                  <a:pt x="4514" y="8880"/>
                  <a:pt x="4514" y="8888"/>
                  <a:pt x="4490" y="8880"/>
                </a:cubicBezTo>
                <a:cubicBezTo>
                  <a:pt x="4490" y="8597"/>
                  <a:pt x="4484" y="8317"/>
                  <a:pt x="4465" y="8037"/>
                </a:cubicBezTo>
                <a:cubicBezTo>
                  <a:pt x="4447" y="7778"/>
                  <a:pt x="4435" y="7471"/>
                  <a:pt x="4490" y="7218"/>
                </a:cubicBezTo>
                <a:cubicBezTo>
                  <a:pt x="4516" y="7097"/>
                  <a:pt x="4544" y="6961"/>
                  <a:pt x="4638" y="6871"/>
                </a:cubicBezTo>
                <a:cubicBezTo>
                  <a:pt x="4727" y="6785"/>
                  <a:pt x="4867" y="6754"/>
                  <a:pt x="4986" y="6772"/>
                </a:cubicBezTo>
                <a:cubicBezTo>
                  <a:pt x="5097" y="6789"/>
                  <a:pt x="5223" y="6871"/>
                  <a:pt x="5283" y="6970"/>
                </a:cubicBezTo>
                <a:cubicBezTo>
                  <a:pt x="5343" y="7068"/>
                  <a:pt x="5340" y="7168"/>
                  <a:pt x="5333" y="7268"/>
                </a:cubicBezTo>
                <a:cubicBezTo>
                  <a:pt x="5324" y="7388"/>
                  <a:pt x="5302" y="7501"/>
                  <a:pt x="5209" y="7590"/>
                </a:cubicBezTo>
                <a:cubicBezTo>
                  <a:pt x="5124" y="7672"/>
                  <a:pt x="5015" y="7754"/>
                  <a:pt x="4911" y="7813"/>
                </a:cubicBezTo>
                <a:cubicBezTo>
                  <a:pt x="4806" y="7872"/>
                  <a:pt x="4716" y="7947"/>
                  <a:pt x="4614" y="8012"/>
                </a:cubicBezTo>
                <a:cubicBezTo>
                  <a:pt x="4573" y="8032"/>
                  <a:pt x="4557" y="8030"/>
                  <a:pt x="4564" y="8062"/>
                </a:cubicBezTo>
              </a:path>
              <a:path w="2060" h="3027">
                <a:moveTo>
                  <a:pt x="5184" y="9252"/>
                </a:moveTo>
                <a:cubicBezTo>
                  <a:pt x="5216" y="9228"/>
                  <a:pt x="5254" y="9223"/>
                  <a:pt x="5283" y="9203"/>
                </a:cubicBezTo>
                <a:cubicBezTo>
                  <a:pt x="5313" y="9183"/>
                  <a:pt x="5391" y="9139"/>
                  <a:pt x="5432" y="9153"/>
                </a:cubicBezTo>
                <a:cubicBezTo>
                  <a:pt x="5465" y="9164"/>
                  <a:pt x="5504" y="9190"/>
                  <a:pt x="5507" y="9227"/>
                </a:cubicBezTo>
                <a:cubicBezTo>
                  <a:pt x="5513" y="9306"/>
                  <a:pt x="5459" y="9345"/>
                  <a:pt x="5407" y="9401"/>
                </a:cubicBezTo>
                <a:cubicBezTo>
                  <a:pt x="5383" y="9427"/>
                  <a:pt x="5342" y="9447"/>
                  <a:pt x="5308" y="9451"/>
                </a:cubicBezTo>
                <a:cubicBezTo>
                  <a:pt x="5243" y="9458"/>
                  <a:pt x="5345" y="9446"/>
                  <a:pt x="5358" y="9451"/>
                </a:cubicBezTo>
                <a:cubicBezTo>
                  <a:pt x="5400" y="9466"/>
                  <a:pt x="5482" y="9514"/>
                  <a:pt x="5507" y="9550"/>
                </a:cubicBezTo>
                <a:cubicBezTo>
                  <a:pt x="5538" y="9594"/>
                  <a:pt x="5556" y="9623"/>
                  <a:pt x="5556" y="9674"/>
                </a:cubicBezTo>
                <a:cubicBezTo>
                  <a:pt x="5556" y="9734"/>
                  <a:pt x="5505" y="9744"/>
                  <a:pt x="5457" y="9748"/>
                </a:cubicBezTo>
                <a:cubicBezTo>
                  <a:pt x="5396" y="9753"/>
                  <a:pt x="5349" y="9773"/>
                  <a:pt x="5283" y="9773"/>
                </a:cubicBezTo>
                <a:cubicBezTo>
                  <a:pt x="5225" y="9773"/>
                  <a:pt x="5197" y="9798"/>
                  <a:pt x="5135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768760"/>
            <a:ext cx="1116000" cy="401400"/>
          </a:xfrm>
          <a:custGeom>
            <a:avLst/>
            <a:gdLst/>
            <a:ahLst/>
            <a:rect l="l" t="t" r="r" b="b"/>
            <a:pathLst>
              <a:path w="3102" h="1118">
                <a:moveTo>
                  <a:pt x="6350" y="8210"/>
                </a:moveTo>
                <a:cubicBezTo>
                  <a:pt x="6447" y="8210"/>
                  <a:pt x="6532" y="8200"/>
                  <a:pt x="6623" y="8186"/>
                </a:cubicBezTo>
                <a:cubicBezTo>
                  <a:pt x="6697" y="8175"/>
                  <a:pt x="6684" y="8231"/>
                  <a:pt x="6747" y="8186"/>
                </a:cubicBezTo>
              </a:path>
              <a:path w="3102" h="1118">
                <a:moveTo>
                  <a:pt x="6400" y="8483"/>
                </a:moveTo>
                <a:cubicBezTo>
                  <a:pt x="6489" y="8483"/>
                  <a:pt x="6562" y="8470"/>
                  <a:pt x="6648" y="8458"/>
                </a:cubicBezTo>
                <a:cubicBezTo>
                  <a:pt x="6664" y="8458"/>
                  <a:pt x="6681" y="8458"/>
                  <a:pt x="6697" y="8458"/>
                </a:cubicBezTo>
              </a:path>
              <a:path w="3102" h="1118">
                <a:moveTo>
                  <a:pt x="7218" y="7789"/>
                </a:moveTo>
                <a:cubicBezTo>
                  <a:pt x="7323" y="7713"/>
                  <a:pt x="7345" y="7689"/>
                  <a:pt x="7466" y="7689"/>
                </a:cubicBezTo>
                <a:cubicBezTo>
                  <a:pt x="7547" y="7689"/>
                  <a:pt x="7607" y="7714"/>
                  <a:pt x="7665" y="7764"/>
                </a:cubicBezTo>
                <a:cubicBezTo>
                  <a:pt x="7717" y="7809"/>
                  <a:pt x="7722" y="7907"/>
                  <a:pt x="7689" y="7962"/>
                </a:cubicBezTo>
                <a:cubicBezTo>
                  <a:pt x="7651" y="8025"/>
                  <a:pt x="7581" y="8119"/>
                  <a:pt x="7516" y="8161"/>
                </a:cubicBezTo>
                <a:cubicBezTo>
                  <a:pt x="7479" y="8185"/>
                  <a:pt x="7430" y="8199"/>
                  <a:pt x="7392" y="8210"/>
                </a:cubicBezTo>
                <a:cubicBezTo>
                  <a:pt x="7384" y="8210"/>
                  <a:pt x="7375" y="8210"/>
                  <a:pt x="7367" y="8210"/>
                </a:cubicBezTo>
                <a:cubicBezTo>
                  <a:pt x="7411" y="8168"/>
                  <a:pt x="7455" y="8146"/>
                  <a:pt x="7516" y="8136"/>
                </a:cubicBezTo>
                <a:cubicBezTo>
                  <a:pt x="7576" y="8126"/>
                  <a:pt x="7670" y="8139"/>
                  <a:pt x="7714" y="8186"/>
                </a:cubicBezTo>
                <a:cubicBezTo>
                  <a:pt x="7761" y="8236"/>
                  <a:pt x="7798" y="8368"/>
                  <a:pt x="7789" y="8434"/>
                </a:cubicBezTo>
                <a:cubicBezTo>
                  <a:pt x="7774" y="8553"/>
                  <a:pt x="7722" y="8610"/>
                  <a:pt x="7640" y="8682"/>
                </a:cubicBezTo>
                <a:cubicBezTo>
                  <a:pt x="7575" y="8739"/>
                  <a:pt x="7529" y="8776"/>
                  <a:pt x="7441" y="8781"/>
                </a:cubicBezTo>
                <a:cubicBezTo>
                  <a:pt x="7359" y="8786"/>
                  <a:pt x="7316" y="8767"/>
                  <a:pt x="7243" y="8731"/>
                </a:cubicBezTo>
                <a:cubicBezTo>
                  <a:pt x="7195" y="8707"/>
                  <a:pt x="7178" y="8701"/>
                  <a:pt x="7193" y="8657"/>
                </a:cubicBezTo>
              </a:path>
              <a:path w="3102" h="1118">
                <a:moveTo>
                  <a:pt x="8086" y="7962"/>
                </a:moveTo>
                <a:cubicBezTo>
                  <a:pt x="8154" y="7933"/>
                  <a:pt x="8154" y="7907"/>
                  <a:pt x="8210" y="7888"/>
                </a:cubicBezTo>
                <a:cubicBezTo>
                  <a:pt x="8250" y="7874"/>
                  <a:pt x="8296" y="7841"/>
                  <a:pt x="8334" y="7813"/>
                </a:cubicBezTo>
                <a:cubicBezTo>
                  <a:pt x="8372" y="7785"/>
                  <a:pt x="8472" y="7773"/>
                  <a:pt x="8508" y="7813"/>
                </a:cubicBezTo>
                <a:cubicBezTo>
                  <a:pt x="8553" y="7863"/>
                  <a:pt x="8567" y="7957"/>
                  <a:pt x="8533" y="8012"/>
                </a:cubicBezTo>
                <a:cubicBezTo>
                  <a:pt x="8477" y="8104"/>
                  <a:pt x="8432" y="8158"/>
                  <a:pt x="8334" y="8210"/>
                </a:cubicBezTo>
                <a:cubicBezTo>
                  <a:pt x="8288" y="8234"/>
                  <a:pt x="8256" y="8273"/>
                  <a:pt x="8210" y="8285"/>
                </a:cubicBezTo>
                <a:cubicBezTo>
                  <a:pt x="8245" y="8259"/>
                  <a:pt x="8286" y="8238"/>
                  <a:pt x="8334" y="8235"/>
                </a:cubicBezTo>
                <a:cubicBezTo>
                  <a:pt x="8425" y="8229"/>
                  <a:pt x="8454" y="8310"/>
                  <a:pt x="8483" y="8384"/>
                </a:cubicBezTo>
                <a:cubicBezTo>
                  <a:pt x="8521" y="8482"/>
                  <a:pt x="8519" y="8606"/>
                  <a:pt x="8483" y="8706"/>
                </a:cubicBezTo>
                <a:cubicBezTo>
                  <a:pt x="8472" y="8737"/>
                  <a:pt x="8385" y="8799"/>
                  <a:pt x="8359" y="8806"/>
                </a:cubicBezTo>
                <a:cubicBezTo>
                  <a:pt x="8282" y="8827"/>
                  <a:pt x="8202" y="8787"/>
                  <a:pt x="8136" y="8756"/>
                </a:cubicBezTo>
                <a:cubicBezTo>
                  <a:pt x="8062" y="8721"/>
                  <a:pt x="8057" y="8727"/>
                  <a:pt x="8037" y="8657"/>
                </a:cubicBezTo>
              </a:path>
              <a:path w="3102" h="1118">
                <a:moveTo>
                  <a:pt x="8880" y="7714"/>
                </a:moveTo>
                <a:cubicBezTo>
                  <a:pt x="8932" y="7791"/>
                  <a:pt x="8954" y="7697"/>
                  <a:pt x="8930" y="7888"/>
                </a:cubicBezTo>
                <a:cubicBezTo>
                  <a:pt x="8917" y="7994"/>
                  <a:pt x="8863" y="8108"/>
                  <a:pt x="8830" y="8210"/>
                </a:cubicBezTo>
                <a:cubicBezTo>
                  <a:pt x="8794" y="8319"/>
                  <a:pt x="8793" y="8356"/>
                  <a:pt x="8806" y="8458"/>
                </a:cubicBezTo>
                <a:cubicBezTo>
                  <a:pt x="8818" y="8550"/>
                  <a:pt x="8822" y="8598"/>
                  <a:pt x="8905" y="8657"/>
                </a:cubicBezTo>
                <a:cubicBezTo>
                  <a:pt x="8953" y="8691"/>
                  <a:pt x="9071" y="8715"/>
                  <a:pt x="9128" y="8706"/>
                </a:cubicBezTo>
                <a:cubicBezTo>
                  <a:pt x="9229" y="8691"/>
                  <a:pt x="9317" y="8611"/>
                  <a:pt x="9376" y="8533"/>
                </a:cubicBezTo>
                <a:cubicBezTo>
                  <a:pt x="9418" y="8478"/>
                  <a:pt x="9447" y="8400"/>
                  <a:pt x="9451" y="8334"/>
                </a:cubicBezTo>
                <a:cubicBezTo>
                  <a:pt x="9454" y="8277"/>
                  <a:pt x="9392" y="8206"/>
                  <a:pt x="9327" y="8210"/>
                </a:cubicBezTo>
                <a:cubicBezTo>
                  <a:pt x="9254" y="8214"/>
                  <a:pt x="9179" y="8299"/>
                  <a:pt x="9153" y="8359"/>
                </a:cubicBezTo>
                <a:cubicBezTo>
                  <a:pt x="9096" y="8489"/>
                  <a:pt x="9115" y="8599"/>
                  <a:pt x="912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There are 50 numbers in a state lottery.  To win, you must match six of them.  How many ways can a person select 6 number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6160" y="2919240"/>
            <a:ext cx="1305000" cy="1322640"/>
          </a:xfrm>
          <a:custGeom>
            <a:avLst/>
            <a:gdLst/>
            <a:ahLst/>
            <a:rect l="l" t="t" r="r" b="b"/>
            <a:pathLst>
              <a:path w="3622" h="3672">
                <a:moveTo>
                  <a:pt x="2332" y="10740"/>
                </a:moveTo>
                <a:cubicBezTo>
                  <a:pt x="2439" y="10740"/>
                  <a:pt x="2547" y="10740"/>
                  <a:pt x="2654" y="10740"/>
                </a:cubicBezTo>
              </a:path>
              <a:path w="3622" h="3672">
                <a:moveTo>
                  <a:pt x="2232" y="10815"/>
                </a:moveTo>
                <a:cubicBezTo>
                  <a:pt x="2208" y="10894"/>
                  <a:pt x="2183" y="10936"/>
                  <a:pt x="2183" y="11013"/>
                </a:cubicBezTo>
                <a:cubicBezTo>
                  <a:pt x="2183" y="11067"/>
                  <a:pt x="2168" y="11055"/>
                  <a:pt x="2183" y="11112"/>
                </a:cubicBezTo>
                <a:cubicBezTo>
                  <a:pt x="2217" y="11101"/>
                  <a:pt x="2213" y="11078"/>
                  <a:pt x="2257" y="11063"/>
                </a:cubicBezTo>
                <a:cubicBezTo>
                  <a:pt x="2303" y="11048"/>
                  <a:pt x="2336" y="11003"/>
                  <a:pt x="2381" y="10988"/>
                </a:cubicBezTo>
                <a:cubicBezTo>
                  <a:pt x="2426" y="10973"/>
                  <a:pt x="2471" y="10995"/>
                  <a:pt x="2505" y="11013"/>
                </a:cubicBezTo>
                <a:cubicBezTo>
                  <a:pt x="2566" y="11046"/>
                  <a:pt x="2613" y="11089"/>
                  <a:pt x="2629" y="11162"/>
                </a:cubicBezTo>
                <a:cubicBezTo>
                  <a:pt x="2641" y="11216"/>
                  <a:pt x="2634" y="11290"/>
                  <a:pt x="2604" y="11336"/>
                </a:cubicBezTo>
                <a:cubicBezTo>
                  <a:pt x="2577" y="11378"/>
                  <a:pt x="2504" y="11427"/>
                  <a:pt x="2456" y="11435"/>
                </a:cubicBezTo>
                <a:cubicBezTo>
                  <a:pt x="2403" y="11444"/>
                  <a:pt x="2345" y="11444"/>
                  <a:pt x="2307" y="11410"/>
                </a:cubicBezTo>
                <a:cubicBezTo>
                  <a:pt x="2285" y="11388"/>
                  <a:pt x="2276" y="11383"/>
                  <a:pt x="2282" y="11361"/>
                </a:cubicBezTo>
              </a:path>
              <a:path w="3622" h="3672">
                <a:moveTo>
                  <a:pt x="2952" y="10765"/>
                </a:moveTo>
                <a:cubicBezTo>
                  <a:pt x="2952" y="10876"/>
                  <a:pt x="2917" y="10954"/>
                  <a:pt x="2902" y="11063"/>
                </a:cubicBezTo>
                <a:cubicBezTo>
                  <a:pt x="2890" y="11151"/>
                  <a:pt x="2893" y="11256"/>
                  <a:pt x="2927" y="11336"/>
                </a:cubicBezTo>
                <a:cubicBezTo>
                  <a:pt x="2949" y="11387"/>
                  <a:pt x="2987" y="11450"/>
                  <a:pt x="3051" y="11435"/>
                </a:cubicBezTo>
                <a:cubicBezTo>
                  <a:pt x="3126" y="11417"/>
                  <a:pt x="3197" y="11356"/>
                  <a:pt x="3225" y="11286"/>
                </a:cubicBezTo>
                <a:cubicBezTo>
                  <a:pt x="3282" y="11142"/>
                  <a:pt x="3301" y="11077"/>
                  <a:pt x="3200" y="10964"/>
                </a:cubicBezTo>
                <a:cubicBezTo>
                  <a:pt x="3138" y="10894"/>
                  <a:pt x="3067" y="10831"/>
                  <a:pt x="3001" y="10765"/>
                </a:cubicBezTo>
                <a:cubicBezTo>
                  <a:pt x="2951" y="10715"/>
                  <a:pt x="2934" y="10696"/>
                  <a:pt x="2952" y="10641"/>
                </a:cubicBezTo>
              </a:path>
              <a:path w="3622" h="3672">
                <a:moveTo>
                  <a:pt x="4837" y="8607"/>
                </a:moveTo>
                <a:cubicBezTo>
                  <a:pt x="4876" y="8657"/>
                  <a:pt x="4871" y="8653"/>
                  <a:pt x="4911" y="8682"/>
                </a:cubicBezTo>
                <a:cubicBezTo>
                  <a:pt x="4903" y="8640"/>
                  <a:pt x="4892" y="8599"/>
                  <a:pt x="4887" y="8558"/>
                </a:cubicBezTo>
                <a:cubicBezTo>
                  <a:pt x="4878" y="8474"/>
                  <a:pt x="4860" y="8414"/>
                  <a:pt x="4837" y="8334"/>
                </a:cubicBezTo>
                <a:cubicBezTo>
                  <a:pt x="4816" y="8259"/>
                  <a:pt x="4783" y="8179"/>
                  <a:pt x="4713" y="8136"/>
                </a:cubicBezTo>
                <a:cubicBezTo>
                  <a:pt x="4651" y="8098"/>
                  <a:pt x="4561" y="8103"/>
                  <a:pt x="4490" y="8111"/>
                </a:cubicBezTo>
                <a:cubicBezTo>
                  <a:pt x="4384" y="8123"/>
                  <a:pt x="4232" y="8259"/>
                  <a:pt x="4167" y="8334"/>
                </a:cubicBezTo>
                <a:cubicBezTo>
                  <a:pt x="4031" y="8492"/>
                  <a:pt x="3895" y="8709"/>
                  <a:pt x="3820" y="8905"/>
                </a:cubicBezTo>
                <a:cubicBezTo>
                  <a:pt x="3741" y="9112"/>
                  <a:pt x="3684" y="9333"/>
                  <a:pt x="3646" y="9550"/>
                </a:cubicBezTo>
                <a:cubicBezTo>
                  <a:pt x="3614" y="9732"/>
                  <a:pt x="3608" y="9918"/>
                  <a:pt x="3671" y="10096"/>
                </a:cubicBezTo>
                <a:cubicBezTo>
                  <a:pt x="3723" y="10243"/>
                  <a:pt x="3812" y="10360"/>
                  <a:pt x="3944" y="10443"/>
                </a:cubicBezTo>
                <a:cubicBezTo>
                  <a:pt x="4081" y="10529"/>
                  <a:pt x="4260" y="10532"/>
                  <a:pt x="4415" y="10567"/>
                </a:cubicBezTo>
                <a:cubicBezTo>
                  <a:pt x="4521" y="10591"/>
                  <a:pt x="4652" y="10612"/>
                  <a:pt x="4762" y="10592"/>
                </a:cubicBezTo>
                <a:cubicBezTo>
                  <a:pt x="4769" y="10591"/>
                  <a:pt x="4887" y="10543"/>
                  <a:pt x="4887" y="10542"/>
                </a:cubicBezTo>
                <a:cubicBezTo>
                  <a:pt x="4894" y="10516"/>
                  <a:pt x="4864" y="10455"/>
                  <a:pt x="4837" y="10468"/>
                </a:cubicBezTo>
                <a:cubicBezTo>
                  <a:pt x="4814" y="10490"/>
                  <a:pt x="4806" y="10495"/>
                  <a:pt x="4812" y="10517"/>
                </a:cubicBezTo>
              </a:path>
              <a:path w="3622" h="3672">
                <a:moveTo>
                  <a:pt x="5407" y="11038"/>
                </a:moveTo>
                <a:cubicBezTo>
                  <a:pt x="5440" y="11104"/>
                  <a:pt x="5369" y="11119"/>
                  <a:pt x="5333" y="11187"/>
                </a:cubicBezTo>
                <a:cubicBezTo>
                  <a:pt x="5280" y="11287"/>
                  <a:pt x="5238" y="11396"/>
                  <a:pt x="5234" y="11509"/>
                </a:cubicBezTo>
                <a:cubicBezTo>
                  <a:pt x="5231" y="11576"/>
                  <a:pt x="5219" y="11662"/>
                  <a:pt x="5283" y="11708"/>
                </a:cubicBezTo>
                <a:cubicBezTo>
                  <a:pt x="5378" y="11777"/>
                  <a:pt x="5477" y="11800"/>
                  <a:pt x="5581" y="11757"/>
                </a:cubicBezTo>
                <a:cubicBezTo>
                  <a:pt x="5661" y="11724"/>
                  <a:pt x="5704" y="11695"/>
                  <a:pt x="5755" y="11633"/>
                </a:cubicBezTo>
                <a:cubicBezTo>
                  <a:pt x="5782" y="11600"/>
                  <a:pt x="5779" y="11600"/>
                  <a:pt x="5779" y="11559"/>
                </a:cubicBezTo>
                <a:cubicBezTo>
                  <a:pt x="5731" y="11559"/>
                  <a:pt x="5666" y="11572"/>
                  <a:pt x="5631" y="11609"/>
                </a:cubicBezTo>
                <a:cubicBezTo>
                  <a:pt x="5616" y="11625"/>
                  <a:pt x="5560" y="11703"/>
                  <a:pt x="5581" y="11733"/>
                </a:cubicBezTo>
                <a:cubicBezTo>
                  <a:pt x="5628" y="11798"/>
                  <a:pt x="5661" y="11782"/>
                  <a:pt x="5730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352728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6598" y="9823"/>
                </a:moveTo>
                <a:cubicBezTo>
                  <a:pt x="6792" y="9805"/>
                  <a:pt x="6893" y="9808"/>
                  <a:pt x="7069" y="9823"/>
                </a:cubicBezTo>
              </a:path>
              <a:path w="472" h="348">
                <a:moveTo>
                  <a:pt x="6623" y="10071"/>
                </a:moveTo>
                <a:cubicBezTo>
                  <a:pt x="6739" y="10134"/>
                  <a:pt x="6788" y="10138"/>
                  <a:pt x="6921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3240" y="3276720"/>
            <a:ext cx="2241720" cy="563400"/>
          </a:xfrm>
          <a:custGeom>
            <a:avLst/>
            <a:gdLst/>
            <a:ahLst/>
            <a:rect l="l" t="t" r="r" b="b"/>
            <a:pathLst>
              <a:path w="6227" h="1564">
                <a:moveTo>
                  <a:pt x="8260" y="9153"/>
                </a:moveTo>
                <a:cubicBezTo>
                  <a:pt x="8311" y="9170"/>
                  <a:pt x="8268" y="9201"/>
                  <a:pt x="8285" y="9252"/>
                </a:cubicBezTo>
                <a:cubicBezTo>
                  <a:pt x="8315" y="9343"/>
                  <a:pt x="8310" y="9427"/>
                  <a:pt x="8310" y="9525"/>
                </a:cubicBezTo>
                <a:cubicBezTo>
                  <a:pt x="8310" y="9666"/>
                  <a:pt x="8378" y="10071"/>
                  <a:pt x="8285" y="10195"/>
                </a:cubicBezTo>
                <a:cubicBezTo>
                  <a:pt x="8330" y="10172"/>
                  <a:pt x="8362" y="10103"/>
                  <a:pt x="8384" y="10046"/>
                </a:cubicBezTo>
                <a:cubicBezTo>
                  <a:pt x="8419" y="9957"/>
                  <a:pt x="8457" y="9879"/>
                  <a:pt x="8508" y="9798"/>
                </a:cubicBezTo>
                <a:cubicBezTo>
                  <a:pt x="8564" y="9709"/>
                  <a:pt x="8636" y="9628"/>
                  <a:pt x="8706" y="9550"/>
                </a:cubicBezTo>
              </a:path>
              <a:path w="6227" h="1564">
                <a:moveTo>
                  <a:pt x="9128" y="9153"/>
                </a:moveTo>
                <a:cubicBezTo>
                  <a:pt x="9213" y="9130"/>
                  <a:pt x="9293" y="9148"/>
                  <a:pt x="9376" y="9128"/>
                </a:cubicBezTo>
                <a:cubicBezTo>
                  <a:pt x="9439" y="9113"/>
                  <a:pt x="9481" y="9103"/>
                  <a:pt x="9550" y="9103"/>
                </a:cubicBezTo>
                <a:cubicBezTo>
                  <a:pt x="9575" y="9103"/>
                  <a:pt x="9583" y="9103"/>
                  <a:pt x="9599" y="9103"/>
                </a:cubicBezTo>
              </a:path>
              <a:path w="6227" h="1564">
                <a:moveTo>
                  <a:pt x="9178" y="9302"/>
                </a:moveTo>
                <a:cubicBezTo>
                  <a:pt x="9106" y="9411"/>
                  <a:pt x="9039" y="9426"/>
                  <a:pt x="9103" y="9475"/>
                </a:cubicBezTo>
                <a:cubicBezTo>
                  <a:pt x="9125" y="9492"/>
                  <a:pt x="9170" y="9519"/>
                  <a:pt x="9203" y="9500"/>
                </a:cubicBezTo>
                <a:cubicBezTo>
                  <a:pt x="9238" y="9480"/>
                  <a:pt x="9265" y="9467"/>
                  <a:pt x="9302" y="9451"/>
                </a:cubicBezTo>
                <a:cubicBezTo>
                  <a:pt x="9382" y="9417"/>
                  <a:pt x="9360" y="9429"/>
                  <a:pt x="9426" y="9451"/>
                </a:cubicBezTo>
                <a:cubicBezTo>
                  <a:pt x="9483" y="9470"/>
                  <a:pt x="9526" y="9516"/>
                  <a:pt x="9550" y="9575"/>
                </a:cubicBezTo>
                <a:cubicBezTo>
                  <a:pt x="9584" y="9657"/>
                  <a:pt x="9598" y="9743"/>
                  <a:pt x="9624" y="9823"/>
                </a:cubicBezTo>
                <a:cubicBezTo>
                  <a:pt x="9652" y="9910"/>
                  <a:pt x="9637" y="9921"/>
                  <a:pt x="9575" y="9971"/>
                </a:cubicBezTo>
                <a:cubicBezTo>
                  <a:pt x="9532" y="10006"/>
                  <a:pt x="9512" y="10042"/>
                  <a:pt x="9451" y="10046"/>
                </a:cubicBezTo>
                <a:cubicBezTo>
                  <a:pt x="9396" y="10050"/>
                  <a:pt x="9292" y="10066"/>
                  <a:pt x="9277" y="10021"/>
                </a:cubicBezTo>
              </a:path>
              <a:path w="6227" h="1564">
                <a:moveTo>
                  <a:pt x="10269" y="9302"/>
                </a:moveTo>
                <a:cubicBezTo>
                  <a:pt x="10277" y="9269"/>
                  <a:pt x="10286" y="9236"/>
                  <a:pt x="10294" y="9203"/>
                </a:cubicBezTo>
                <a:cubicBezTo>
                  <a:pt x="10212" y="9186"/>
                  <a:pt x="10177" y="9190"/>
                  <a:pt x="10096" y="9203"/>
                </a:cubicBezTo>
                <a:cubicBezTo>
                  <a:pt x="10052" y="9210"/>
                  <a:pt x="9922" y="9234"/>
                  <a:pt x="9922" y="9302"/>
                </a:cubicBezTo>
                <a:cubicBezTo>
                  <a:pt x="9922" y="9383"/>
                  <a:pt x="9984" y="9480"/>
                  <a:pt x="10021" y="9550"/>
                </a:cubicBezTo>
                <a:cubicBezTo>
                  <a:pt x="10076" y="9653"/>
                  <a:pt x="10149" y="9755"/>
                  <a:pt x="10170" y="9872"/>
                </a:cubicBezTo>
                <a:cubicBezTo>
                  <a:pt x="10178" y="9916"/>
                  <a:pt x="10186" y="9953"/>
                  <a:pt x="10195" y="9996"/>
                </a:cubicBezTo>
                <a:cubicBezTo>
                  <a:pt x="10170" y="10004"/>
                  <a:pt x="10161" y="10038"/>
                  <a:pt x="10120" y="10021"/>
                </a:cubicBezTo>
                <a:cubicBezTo>
                  <a:pt x="10069" y="10000"/>
                  <a:pt x="9970" y="9951"/>
                  <a:pt x="9996" y="9872"/>
                </a:cubicBezTo>
                <a:cubicBezTo>
                  <a:pt x="10009" y="9833"/>
                  <a:pt x="10112" y="9726"/>
                  <a:pt x="10145" y="9699"/>
                </a:cubicBezTo>
                <a:cubicBezTo>
                  <a:pt x="10255" y="9609"/>
                  <a:pt x="10375" y="9529"/>
                  <a:pt x="10492" y="9451"/>
                </a:cubicBezTo>
              </a:path>
              <a:path w="6227" h="1564">
                <a:moveTo>
                  <a:pt x="11063" y="9227"/>
                </a:moveTo>
                <a:cubicBezTo>
                  <a:pt x="11043" y="9189"/>
                  <a:pt x="10967" y="9254"/>
                  <a:pt x="10914" y="9277"/>
                </a:cubicBezTo>
                <a:cubicBezTo>
                  <a:pt x="10829" y="9314"/>
                  <a:pt x="10699" y="9352"/>
                  <a:pt x="10666" y="9451"/>
                </a:cubicBezTo>
                <a:cubicBezTo>
                  <a:pt x="10649" y="9501"/>
                  <a:pt x="10675" y="9549"/>
                  <a:pt x="10716" y="9575"/>
                </a:cubicBezTo>
                <a:cubicBezTo>
                  <a:pt x="10800" y="9628"/>
                  <a:pt x="10874" y="9605"/>
                  <a:pt x="10939" y="9550"/>
                </a:cubicBezTo>
                <a:cubicBezTo>
                  <a:pt x="10991" y="9507"/>
                  <a:pt x="11032" y="9460"/>
                  <a:pt x="11063" y="9401"/>
                </a:cubicBezTo>
                <a:cubicBezTo>
                  <a:pt x="11088" y="9354"/>
                  <a:pt x="11088" y="9348"/>
                  <a:pt x="11088" y="9302"/>
                </a:cubicBezTo>
                <a:cubicBezTo>
                  <a:pt x="11070" y="9374"/>
                  <a:pt x="11075" y="9442"/>
                  <a:pt x="11063" y="9525"/>
                </a:cubicBezTo>
                <a:cubicBezTo>
                  <a:pt x="11047" y="9637"/>
                  <a:pt x="11017" y="9756"/>
                  <a:pt x="11038" y="9872"/>
                </a:cubicBezTo>
                <a:cubicBezTo>
                  <a:pt x="11053" y="9953"/>
                  <a:pt x="11063" y="10012"/>
                  <a:pt x="11063" y="10096"/>
                </a:cubicBezTo>
                <a:cubicBezTo>
                  <a:pt x="11063" y="10134"/>
                  <a:pt x="11070" y="10174"/>
                  <a:pt x="11088" y="10120"/>
                </a:cubicBezTo>
              </a:path>
              <a:path w="6227" h="1564">
                <a:moveTo>
                  <a:pt x="11633" y="9376"/>
                </a:moveTo>
                <a:cubicBezTo>
                  <a:pt x="11603" y="9520"/>
                  <a:pt x="11529" y="9656"/>
                  <a:pt x="11509" y="9798"/>
                </a:cubicBezTo>
                <a:cubicBezTo>
                  <a:pt x="11491" y="9928"/>
                  <a:pt x="11546" y="9977"/>
                  <a:pt x="11609" y="10071"/>
                </a:cubicBezTo>
                <a:cubicBezTo>
                  <a:pt x="11648" y="10130"/>
                  <a:pt x="11775" y="10216"/>
                  <a:pt x="11857" y="10170"/>
                </a:cubicBezTo>
                <a:cubicBezTo>
                  <a:pt x="11925" y="10132"/>
                  <a:pt x="11995" y="10023"/>
                  <a:pt x="12005" y="9947"/>
                </a:cubicBezTo>
                <a:cubicBezTo>
                  <a:pt x="12018" y="9851"/>
                  <a:pt x="12010" y="9708"/>
                  <a:pt x="11956" y="9624"/>
                </a:cubicBezTo>
                <a:cubicBezTo>
                  <a:pt x="11907" y="9547"/>
                  <a:pt x="11804" y="9502"/>
                  <a:pt x="11733" y="9475"/>
                </a:cubicBezTo>
                <a:cubicBezTo>
                  <a:pt x="11689" y="9454"/>
                  <a:pt x="11677" y="9451"/>
                  <a:pt x="11658" y="9426"/>
                </a:cubicBezTo>
              </a:path>
              <a:path w="6227" h="1564">
                <a:moveTo>
                  <a:pt x="12179" y="9351"/>
                </a:moveTo>
                <a:cubicBezTo>
                  <a:pt x="12303" y="9369"/>
                  <a:pt x="12427" y="9396"/>
                  <a:pt x="12551" y="9401"/>
                </a:cubicBezTo>
                <a:cubicBezTo>
                  <a:pt x="12642" y="9404"/>
                  <a:pt x="12733" y="9401"/>
                  <a:pt x="12824" y="9401"/>
                </a:cubicBezTo>
                <a:cubicBezTo>
                  <a:pt x="12824" y="9475"/>
                  <a:pt x="12800" y="9507"/>
                  <a:pt x="12774" y="9575"/>
                </a:cubicBezTo>
                <a:cubicBezTo>
                  <a:pt x="12730" y="9688"/>
                  <a:pt x="12704" y="9803"/>
                  <a:pt x="12700" y="9922"/>
                </a:cubicBezTo>
                <a:cubicBezTo>
                  <a:pt x="12697" y="10016"/>
                  <a:pt x="12689" y="10110"/>
                  <a:pt x="12725" y="10195"/>
                </a:cubicBezTo>
                <a:cubicBezTo>
                  <a:pt x="12762" y="10281"/>
                  <a:pt x="12745" y="10286"/>
                  <a:pt x="12824" y="10220"/>
                </a:cubicBezTo>
              </a:path>
              <a:path w="6227" h="1564">
                <a:moveTo>
                  <a:pt x="13246" y="9599"/>
                </a:moveTo>
                <a:cubicBezTo>
                  <a:pt x="13221" y="9716"/>
                  <a:pt x="13133" y="9965"/>
                  <a:pt x="13196" y="10096"/>
                </a:cubicBezTo>
                <a:cubicBezTo>
                  <a:pt x="13220" y="10146"/>
                  <a:pt x="13339" y="10257"/>
                  <a:pt x="13395" y="10269"/>
                </a:cubicBezTo>
                <a:cubicBezTo>
                  <a:pt x="13551" y="10303"/>
                  <a:pt x="13601" y="10148"/>
                  <a:pt x="13667" y="10046"/>
                </a:cubicBezTo>
                <a:cubicBezTo>
                  <a:pt x="13740" y="9933"/>
                  <a:pt x="13792" y="9839"/>
                  <a:pt x="13767" y="9699"/>
                </a:cubicBezTo>
                <a:cubicBezTo>
                  <a:pt x="13749" y="9598"/>
                  <a:pt x="13634" y="9512"/>
                  <a:pt x="13543" y="9475"/>
                </a:cubicBezTo>
                <a:cubicBezTo>
                  <a:pt x="13459" y="9441"/>
                  <a:pt x="13345" y="9431"/>
                  <a:pt x="13271" y="9475"/>
                </a:cubicBezTo>
              </a:path>
              <a:path w="6227" h="1564">
                <a:moveTo>
                  <a:pt x="13940" y="9624"/>
                </a:moveTo>
                <a:cubicBezTo>
                  <a:pt x="13934" y="9773"/>
                  <a:pt x="13877" y="9952"/>
                  <a:pt x="13965" y="10071"/>
                </a:cubicBezTo>
                <a:cubicBezTo>
                  <a:pt x="14033" y="10163"/>
                  <a:pt x="14081" y="10170"/>
                  <a:pt x="14188" y="10170"/>
                </a:cubicBezTo>
                <a:cubicBezTo>
                  <a:pt x="14251" y="10170"/>
                  <a:pt x="14381" y="10083"/>
                  <a:pt x="14412" y="10021"/>
                </a:cubicBezTo>
                <a:cubicBezTo>
                  <a:pt x="14492" y="9862"/>
                  <a:pt x="14522" y="9745"/>
                  <a:pt x="14436" y="9599"/>
                </a:cubicBezTo>
                <a:cubicBezTo>
                  <a:pt x="14370" y="9487"/>
                  <a:pt x="14190" y="9421"/>
                  <a:pt x="14064" y="9401"/>
                </a:cubicBezTo>
                <a:cubicBezTo>
                  <a:pt x="13939" y="9401"/>
                  <a:pt x="13897" y="9401"/>
                  <a:pt x="13816" y="9426"/>
                </a:cubicBezTo>
              </a:path>
              <a:path w="6227" h="1564">
                <a:moveTo>
                  <a:pt x="12353" y="10195"/>
                </a:moveTo>
                <a:cubicBezTo>
                  <a:pt x="12345" y="10316"/>
                  <a:pt x="12322" y="10427"/>
                  <a:pt x="12278" y="10542"/>
                </a:cubicBezTo>
                <a:cubicBezTo>
                  <a:pt x="12252" y="10610"/>
                  <a:pt x="12234" y="10627"/>
                  <a:pt x="12179" y="10666"/>
                </a:cubicBezTo>
              </a:path>
              <a:path w="6227" h="1564">
                <a:moveTo>
                  <a:pt x="9971" y="10170"/>
                </a:moveTo>
                <a:cubicBezTo>
                  <a:pt x="9935" y="10313"/>
                  <a:pt x="9927" y="10471"/>
                  <a:pt x="9823" y="10567"/>
                </a:cubicBezTo>
                <a:cubicBezTo>
                  <a:pt x="9815" y="10575"/>
                  <a:pt x="9806" y="10584"/>
                  <a:pt x="9798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200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671 (1-15) od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3960" y="1419120"/>
            <a:ext cx="1544400" cy="1339920"/>
          </a:xfrm>
          <a:custGeom>
            <a:avLst/>
            <a:gdLst/>
            <a:ahLst/>
            <a:rect l="l" t="t" r="r" b="b"/>
            <a:pathLst>
              <a:path w="4292" h="3722">
                <a:moveTo>
                  <a:pt x="5779" y="4316"/>
                </a:moveTo>
                <a:cubicBezTo>
                  <a:pt x="5764" y="4332"/>
                  <a:pt x="5746" y="4351"/>
                  <a:pt x="5730" y="4366"/>
                </a:cubicBezTo>
                <a:cubicBezTo>
                  <a:pt x="5691" y="4405"/>
                  <a:pt x="5691" y="4457"/>
                  <a:pt x="5655" y="4490"/>
                </a:cubicBezTo>
                <a:cubicBezTo>
                  <a:pt x="5593" y="4548"/>
                  <a:pt x="5555" y="4612"/>
                  <a:pt x="5507" y="4688"/>
                </a:cubicBezTo>
                <a:cubicBezTo>
                  <a:pt x="5456" y="4769"/>
                  <a:pt x="5416" y="4872"/>
                  <a:pt x="5383" y="4961"/>
                </a:cubicBezTo>
                <a:cubicBezTo>
                  <a:pt x="5344" y="5067"/>
                  <a:pt x="5298" y="5196"/>
                  <a:pt x="5283" y="5308"/>
                </a:cubicBezTo>
                <a:cubicBezTo>
                  <a:pt x="5268" y="5418"/>
                  <a:pt x="5276" y="5529"/>
                  <a:pt x="5283" y="5631"/>
                </a:cubicBezTo>
                <a:cubicBezTo>
                  <a:pt x="5292" y="5753"/>
                  <a:pt x="5315" y="5843"/>
                  <a:pt x="5358" y="5953"/>
                </a:cubicBezTo>
                <a:cubicBezTo>
                  <a:pt x="5376" y="5999"/>
                  <a:pt x="5379" y="6035"/>
                  <a:pt x="5432" y="6052"/>
                </a:cubicBezTo>
                <a:cubicBezTo>
                  <a:pt x="5469" y="6064"/>
                  <a:pt x="5480" y="6044"/>
                  <a:pt x="5507" y="6028"/>
                </a:cubicBezTo>
              </a:path>
              <a:path w="4292" h="3722">
                <a:moveTo>
                  <a:pt x="5804" y="5184"/>
                </a:moveTo>
                <a:cubicBezTo>
                  <a:pt x="5814" y="5263"/>
                  <a:pt x="5866" y="5330"/>
                  <a:pt x="5879" y="5407"/>
                </a:cubicBezTo>
                <a:cubicBezTo>
                  <a:pt x="5897" y="5513"/>
                  <a:pt x="5926" y="5538"/>
                  <a:pt x="5978" y="5631"/>
                </a:cubicBezTo>
                <a:cubicBezTo>
                  <a:pt x="6011" y="5690"/>
                  <a:pt x="6040" y="5750"/>
                  <a:pt x="6077" y="5804"/>
                </a:cubicBezTo>
                <a:cubicBezTo>
                  <a:pt x="6106" y="5847"/>
                  <a:pt x="6117" y="5834"/>
                  <a:pt x="6127" y="5804"/>
                </a:cubicBezTo>
              </a:path>
              <a:path w="4292" h="3722">
                <a:moveTo>
                  <a:pt x="6102" y="5209"/>
                </a:moveTo>
                <a:cubicBezTo>
                  <a:pt x="6050" y="5290"/>
                  <a:pt x="6026" y="5375"/>
                  <a:pt x="5978" y="5457"/>
                </a:cubicBezTo>
                <a:cubicBezTo>
                  <a:pt x="5928" y="5542"/>
                  <a:pt x="5880" y="5625"/>
                  <a:pt x="5829" y="5705"/>
                </a:cubicBezTo>
                <a:cubicBezTo>
                  <a:pt x="5798" y="5753"/>
                  <a:pt x="5750" y="5829"/>
                  <a:pt x="5730" y="5879"/>
                </a:cubicBezTo>
                <a:cubicBezTo>
                  <a:pt x="5730" y="5904"/>
                  <a:pt x="5730" y="5912"/>
                  <a:pt x="5705" y="5904"/>
                </a:cubicBezTo>
                <a:cubicBezTo>
                  <a:pt x="5741" y="5892"/>
                  <a:pt x="5733" y="5881"/>
                  <a:pt x="5755" y="5829"/>
                </a:cubicBezTo>
              </a:path>
              <a:path w="4292" h="3722">
                <a:moveTo>
                  <a:pt x="6375" y="4663"/>
                </a:moveTo>
                <a:cubicBezTo>
                  <a:pt x="6459" y="4603"/>
                  <a:pt x="6506" y="4543"/>
                  <a:pt x="6598" y="4589"/>
                </a:cubicBezTo>
                <a:cubicBezTo>
                  <a:pt x="6657" y="4619"/>
                  <a:pt x="6627" y="4722"/>
                  <a:pt x="6623" y="4762"/>
                </a:cubicBezTo>
                <a:cubicBezTo>
                  <a:pt x="6611" y="4872"/>
                  <a:pt x="6562" y="4863"/>
                  <a:pt x="6499" y="4936"/>
                </a:cubicBezTo>
                <a:cubicBezTo>
                  <a:pt x="6457" y="4985"/>
                  <a:pt x="6419" y="5037"/>
                  <a:pt x="6350" y="5060"/>
                </a:cubicBezTo>
                <a:cubicBezTo>
                  <a:pt x="6342" y="5060"/>
                  <a:pt x="6333" y="5060"/>
                  <a:pt x="6325" y="5060"/>
                </a:cubicBezTo>
                <a:cubicBezTo>
                  <a:pt x="6433" y="5060"/>
                  <a:pt x="6540" y="5060"/>
                  <a:pt x="6648" y="5060"/>
                </a:cubicBezTo>
              </a:path>
              <a:path w="4292" h="3722">
                <a:moveTo>
                  <a:pt x="6970" y="5085"/>
                </a:moveTo>
                <a:cubicBezTo>
                  <a:pt x="6970" y="5267"/>
                  <a:pt x="7054" y="5752"/>
                  <a:pt x="6945" y="5606"/>
                </a:cubicBezTo>
                <a:cubicBezTo>
                  <a:pt x="6945" y="5598"/>
                  <a:pt x="6945" y="5589"/>
                  <a:pt x="6945" y="5581"/>
                </a:cubicBezTo>
              </a:path>
              <a:path w="4292" h="3722">
                <a:moveTo>
                  <a:pt x="6796" y="5358"/>
                </a:moveTo>
                <a:cubicBezTo>
                  <a:pt x="6953" y="5358"/>
                  <a:pt x="7111" y="5358"/>
                  <a:pt x="7268" y="5358"/>
                </a:cubicBezTo>
              </a:path>
              <a:path w="4292" h="3722">
                <a:moveTo>
                  <a:pt x="7739" y="4887"/>
                </a:moveTo>
                <a:cubicBezTo>
                  <a:pt x="7842" y="4868"/>
                  <a:pt x="7933" y="4862"/>
                  <a:pt x="8037" y="4862"/>
                </a:cubicBezTo>
                <a:cubicBezTo>
                  <a:pt x="8085" y="4862"/>
                  <a:pt x="8098" y="4860"/>
                  <a:pt x="8136" y="4837"/>
                </a:cubicBezTo>
              </a:path>
              <a:path w="4292" h="3722">
                <a:moveTo>
                  <a:pt x="7590" y="5011"/>
                </a:moveTo>
                <a:cubicBezTo>
                  <a:pt x="7574" y="5103"/>
                  <a:pt x="7565" y="5169"/>
                  <a:pt x="7565" y="5259"/>
                </a:cubicBezTo>
                <a:cubicBezTo>
                  <a:pt x="7565" y="5283"/>
                  <a:pt x="7565" y="5292"/>
                  <a:pt x="7565" y="5308"/>
                </a:cubicBezTo>
                <a:cubicBezTo>
                  <a:pt x="7616" y="5308"/>
                  <a:pt x="7619" y="5294"/>
                  <a:pt x="7640" y="5283"/>
                </a:cubicBezTo>
                <a:cubicBezTo>
                  <a:pt x="7672" y="5267"/>
                  <a:pt x="7724" y="5216"/>
                  <a:pt x="7739" y="5209"/>
                </a:cubicBezTo>
                <a:cubicBezTo>
                  <a:pt x="7788" y="5184"/>
                  <a:pt x="7875" y="5212"/>
                  <a:pt x="7913" y="5234"/>
                </a:cubicBezTo>
                <a:cubicBezTo>
                  <a:pt x="7985" y="5276"/>
                  <a:pt x="7999" y="5308"/>
                  <a:pt x="8037" y="5383"/>
                </a:cubicBezTo>
                <a:cubicBezTo>
                  <a:pt x="8079" y="5467"/>
                  <a:pt x="8051" y="5499"/>
                  <a:pt x="8037" y="5581"/>
                </a:cubicBezTo>
                <a:cubicBezTo>
                  <a:pt x="8024" y="5661"/>
                  <a:pt x="7959" y="5708"/>
                  <a:pt x="7888" y="5755"/>
                </a:cubicBezTo>
                <a:cubicBezTo>
                  <a:pt x="7818" y="5801"/>
                  <a:pt x="7745" y="5804"/>
                  <a:pt x="7665" y="5804"/>
                </a:cubicBezTo>
                <a:cubicBezTo>
                  <a:pt x="7609" y="5804"/>
                  <a:pt x="7549" y="5824"/>
                  <a:pt x="7541" y="5755"/>
                </a:cubicBezTo>
                <a:cubicBezTo>
                  <a:pt x="7541" y="5697"/>
                  <a:pt x="7561" y="5662"/>
                  <a:pt x="7615" y="5631"/>
                </a:cubicBezTo>
              </a:path>
              <a:path w="4292" h="3722">
                <a:moveTo>
                  <a:pt x="8260" y="4366"/>
                </a:moveTo>
                <a:cubicBezTo>
                  <a:pt x="8328" y="4374"/>
                  <a:pt x="8350" y="4369"/>
                  <a:pt x="8409" y="4415"/>
                </a:cubicBezTo>
                <a:cubicBezTo>
                  <a:pt x="8494" y="4482"/>
                  <a:pt x="8597" y="4678"/>
                  <a:pt x="8632" y="4787"/>
                </a:cubicBezTo>
                <a:cubicBezTo>
                  <a:pt x="8683" y="4943"/>
                  <a:pt x="8727" y="5095"/>
                  <a:pt x="8731" y="5259"/>
                </a:cubicBezTo>
                <a:cubicBezTo>
                  <a:pt x="8734" y="5381"/>
                  <a:pt x="8716" y="5569"/>
                  <a:pt x="8657" y="5680"/>
                </a:cubicBezTo>
                <a:cubicBezTo>
                  <a:pt x="8602" y="5784"/>
                  <a:pt x="8501" y="5905"/>
                  <a:pt x="8409" y="5978"/>
                </a:cubicBezTo>
                <a:cubicBezTo>
                  <a:pt x="8383" y="5998"/>
                  <a:pt x="8245" y="6129"/>
                  <a:pt x="8210" y="6127"/>
                </a:cubicBezTo>
                <a:cubicBezTo>
                  <a:pt x="8182" y="6127"/>
                  <a:pt x="8172" y="6124"/>
                  <a:pt x="8161" y="6102"/>
                </a:cubicBezTo>
                <a:cubicBezTo>
                  <a:pt x="8216" y="6034"/>
                  <a:pt x="8261" y="5953"/>
                  <a:pt x="8310" y="5879"/>
                </a:cubicBezTo>
                <a:cubicBezTo>
                  <a:pt x="8326" y="5854"/>
                  <a:pt x="8343" y="5829"/>
                  <a:pt x="8359" y="5804"/>
                </a:cubicBezTo>
              </a:path>
              <a:path w="4292" h="3722">
                <a:moveTo>
                  <a:pt x="8979" y="4192"/>
                </a:moveTo>
                <a:cubicBezTo>
                  <a:pt x="8979" y="4260"/>
                  <a:pt x="8972" y="4286"/>
                  <a:pt x="8954" y="4341"/>
                </a:cubicBezTo>
                <a:cubicBezTo>
                  <a:pt x="8941" y="4380"/>
                  <a:pt x="8931" y="4406"/>
                  <a:pt x="8905" y="4440"/>
                </a:cubicBezTo>
                <a:cubicBezTo>
                  <a:pt x="8941" y="4440"/>
                  <a:pt x="8977" y="4433"/>
                  <a:pt x="9004" y="4415"/>
                </a:cubicBezTo>
                <a:cubicBezTo>
                  <a:pt x="9039" y="4391"/>
                  <a:pt x="9065" y="4365"/>
                  <a:pt x="9103" y="4341"/>
                </a:cubicBezTo>
                <a:cubicBezTo>
                  <a:pt x="9147" y="4319"/>
                  <a:pt x="9159" y="4316"/>
                  <a:pt x="9178" y="4291"/>
                </a:cubicBezTo>
              </a:path>
              <a:path w="4292" h="3722">
                <a:moveTo>
                  <a:pt x="9103" y="3944"/>
                </a:moveTo>
                <a:cubicBezTo>
                  <a:pt x="9103" y="4113"/>
                  <a:pt x="9105" y="4276"/>
                  <a:pt x="9128" y="4440"/>
                </a:cubicBezTo>
                <a:cubicBezTo>
                  <a:pt x="9138" y="4514"/>
                  <a:pt x="9149" y="4591"/>
                  <a:pt x="9153" y="4663"/>
                </a:cubicBezTo>
                <a:cubicBezTo>
                  <a:pt x="9155" y="4697"/>
                  <a:pt x="9163" y="4782"/>
                  <a:pt x="9178" y="4812"/>
                </a:cubicBezTo>
                <a:cubicBezTo>
                  <a:pt x="9195" y="4845"/>
                  <a:pt x="9202" y="4853"/>
                  <a:pt x="9227" y="4862"/>
                </a:cubicBezTo>
              </a:path>
              <a:path w="4292" h="3722">
                <a:moveTo>
                  <a:pt x="8880" y="6995"/>
                </a:moveTo>
                <a:cubicBezTo>
                  <a:pt x="8914" y="6984"/>
                  <a:pt x="8911" y="6947"/>
                  <a:pt x="8930" y="6921"/>
                </a:cubicBezTo>
                <a:cubicBezTo>
                  <a:pt x="8955" y="6887"/>
                  <a:pt x="8999" y="6891"/>
                  <a:pt x="9029" y="6871"/>
                </a:cubicBezTo>
                <a:cubicBezTo>
                  <a:pt x="9076" y="6839"/>
                  <a:pt x="9116" y="6824"/>
                  <a:pt x="9178" y="6821"/>
                </a:cubicBezTo>
                <a:cubicBezTo>
                  <a:pt x="9229" y="6818"/>
                  <a:pt x="9308" y="6826"/>
                  <a:pt x="9351" y="6846"/>
                </a:cubicBezTo>
                <a:cubicBezTo>
                  <a:pt x="9396" y="6867"/>
                  <a:pt x="9401" y="6874"/>
                  <a:pt x="9401" y="6921"/>
                </a:cubicBezTo>
                <a:cubicBezTo>
                  <a:pt x="9401" y="6990"/>
                  <a:pt x="9371" y="7025"/>
                  <a:pt x="9327" y="7069"/>
                </a:cubicBezTo>
                <a:cubicBezTo>
                  <a:pt x="9295" y="7101"/>
                  <a:pt x="9196" y="7166"/>
                  <a:pt x="9178" y="7193"/>
                </a:cubicBezTo>
                <a:cubicBezTo>
                  <a:pt x="9178" y="7201"/>
                  <a:pt x="9178" y="7210"/>
                  <a:pt x="9178" y="7218"/>
                </a:cubicBezTo>
                <a:cubicBezTo>
                  <a:pt x="9198" y="7258"/>
                  <a:pt x="9208" y="7208"/>
                  <a:pt x="9252" y="7193"/>
                </a:cubicBezTo>
                <a:cubicBezTo>
                  <a:pt x="9289" y="7181"/>
                  <a:pt x="9274" y="7169"/>
                  <a:pt x="9327" y="7169"/>
                </a:cubicBezTo>
                <a:cubicBezTo>
                  <a:pt x="9362" y="7169"/>
                  <a:pt x="9400" y="7176"/>
                  <a:pt x="9426" y="7193"/>
                </a:cubicBezTo>
                <a:cubicBezTo>
                  <a:pt x="9493" y="7237"/>
                  <a:pt x="9503" y="7281"/>
                  <a:pt x="9525" y="7342"/>
                </a:cubicBezTo>
                <a:cubicBezTo>
                  <a:pt x="9549" y="7410"/>
                  <a:pt x="9568" y="7446"/>
                  <a:pt x="9525" y="7516"/>
                </a:cubicBezTo>
                <a:cubicBezTo>
                  <a:pt x="9505" y="7548"/>
                  <a:pt x="9487" y="7592"/>
                  <a:pt x="9451" y="7615"/>
                </a:cubicBezTo>
                <a:cubicBezTo>
                  <a:pt x="9409" y="7642"/>
                  <a:pt x="9326" y="7662"/>
                  <a:pt x="9277" y="7665"/>
                </a:cubicBezTo>
                <a:cubicBezTo>
                  <a:pt x="9208" y="7670"/>
                  <a:pt x="9207" y="7655"/>
                  <a:pt x="9178" y="7640"/>
                </a:cubicBezTo>
                <a:cubicBezTo>
                  <a:pt x="9150" y="7640"/>
                  <a:pt x="9139" y="7638"/>
                  <a:pt x="9128" y="76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2240" y="2455920"/>
            <a:ext cx="1526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4536" y="6896"/>
                </a:moveTo>
                <a:cubicBezTo>
                  <a:pt x="14545" y="6869"/>
                  <a:pt x="14553" y="6850"/>
                  <a:pt x="14585" y="6846"/>
                </a:cubicBezTo>
                <a:cubicBezTo>
                  <a:pt x="14625" y="6841"/>
                  <a:pt x="14639" y="6821"/>
                  <a:pt x="14684" y="6821"/>
                </a:cubicBezTo>
                <a:cubicBezTo>
                  <a:pt x="14743" y="6821"/>
                  <a:pt x="14763" y="6831"/>
                  <a:pt x="14808" y="6846"/>
                </a:cubicBezTo>
                <a:cubicBezTo>
                  <a:pt x="14867" y="6866"/>
                  <a:pt x="14879" y="6911"/>
                  <a:pt x="14908" y="6970"/>
                </a:cubicBezTo>
                <a:cubicBezTo>
                  <a:pt x="14957" y="7070"/>
                  <a:pt x="14956" y="7111"/>
                  <a:pt x="14908" y="7218"/>
                </a:cubicBezTo>
                <a:cubicBezTo>
                  <a:pt x="14881" y="7278"/>
                  <a:pt x="14829" y="7296"/>
                  <a:pt x="14784" y="7342"/>
                </a:cubicBezTo>
                <a:cubicBezTo>
                  <a:pt x="14746" y="7380"/>
                  <a:pt x="14737" y="7392"/>
                  <a:pt x="14684" y="7392"/>
                </a:cubicBezTo>
                <a:cubicBezTo>
                  <a:pt x="14647" y="7392"/>
                  <a:pt x="14635" y="7367"/>
                  <a:pt x="14610" y="7342"/>
                </a:cubicBezTo>
                <a:cubicBezTo>
                  <a:pt x="14660" y="7304"/>
                  <a:pt x="14681" y="7314"/>
                  <a:pt x="14734" y="7342"/>
                </a:cubicBezTo>
                <a:cubicBezTo>
                  <a:pt x="14770" y="7361"/>
                  <a:pt x="14839" y="7400"/>
                  <a:pt x="14858" y="7441"/>
                </a:cubicBezTo>
                <a:cubicBezTo>
                  <a:pt x="14858" y="7466"/>
                  <a:pt x="14858" y="7474"/>
                  <a:pt x="1485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6200" y="2652840"/>
            <a:ext cx="822600" cy="768240"/>
          </a:xfrm>
          <a:custGeom>
            <a:avLst/>
            <a:gdLst/>
            <a:ahLst/>
            <a:rect l="l" t="t" r="r" b="b"/>
            <a:pathLst>
              <a:path w="2283" h="2134">
                <a:moveTo>
                  <a:pt x="3597" y="7491"/>
                </a:moveTo>
                <a:cubicBezTo>
                  <a:pt x="3597" y="7524"/>
                  <a:pt x="3597" y="7508"/>
                  <a:pt x="3597" y="7541"/>
                </a:cubicBezTo>
                <a:cubicBezTo>
                  <a:pt x="3597" y="7782"/>
                  <a:pt x="3589" y="8024"/>
                  <a:pt x="3621" y="8260"/>
                </a:cubicBezTo>
                <a:cubicBezTo>
                  <a:pt x="3647" y="8445"/>
                  <a:pt x="3617" y="8647"/>
                  <a:pt x="3597" y="8830"/>
                </a:cubicBezTo>
                <a:cubicBezTo>
                  <a:pt x="3590" y="8899"/>
                  <a:pt x="3575" y="8962"/>
                  <a:pt x="3572" y="9029"/>
                </a:cubicBezTo>
                <a:cubicBezTo>
                  <a:pt x="3570" y="9081"/>
                  <a:pt x="3554" y="9114"/>
                  <a:pt x="3547" y="9153"/>
                </a:cubicBezTo>
                <a:cubicBezTo>
                  <a:pt x="3541" y="9183"/>
                  <a:pt x="3547" y="9221"/>
                  <a:pt x="3547" y="9252"/>
                </a:cubicBezTo>
              </a:path>
              <a:path w="2283" h="2134">
                <a:moveTo>
                  <a:pt x="3969" y="8260"/>
                </a:moveTo>
                <a:cubicBezTo>
                  <a:pt x="4008" y="8273"/>
                  <a:pt x="3997" y="8282"/>
                  <a:pt x="4018" y="8310"/>
                </a:cubicBezTo>
                <a:cubicBezTo>
                  <a:pt x="4045" y="8346"/>
                  <a:pt x="4082" y="8410"/>
                  <a:pt x="4093" y="8458"/>
                </a:cubicBezTo>
                <a:cubicBezTo>
                  <a:pt x="4107" y="8522"/>
                  <a:pt x="4132" y="8592"/>
                  <a:pt x="4142" y="8657"/>
                </a:cubicBezTo>
                <a:cubicBezTo>
                  <a:pt x="4154" y="8732"/>
                  <a:pt x="4182" y="8785"/>
                  <a:pt x="4217" y="8855"/>
                </a:cubicBezTo>
                <a:cubicBezTo>
                  <a:pt x="4247" y="8915"/>
                  <a:pt x="4260" y="9000"/>
                  <a:pt x="4291" y="9054"/>
                </a:cubicBezTo>
                <a:cubicBezTo>
                  <a:pt x="4309" y="9084"/>
                  <a:pt x="4320" y="9100"/>
                  <a:pt x="4341" y="9128"/>
                </a:cubicBezTo>
              </a:path>
              <a:path w="2283" h="2134">
                <a:moveTo>
                  <a:pt x="4341" y="8359"/>
                </a:moveTo>
                <a:cubicBezTo>
                  <a:pt x="4285" y="8399"/>
                  <a:pt x="4273" y="8428"/>
                  <a:pt x="4242" y="8483"/>
                </a:cubicBezTo>
                <a:cubicBezTo>
                  <a:pt x="4161" y="8626"/>
                  <a:pt x="4094" y="8780"/>
                  <a:pt x="4043" y="8930"/>
                </a:cubicBezTo>
                <a:cubicBezTo>
                  <a:pt x="4021" y="8995"/>
                  <a:pt x="3965" y="9040"/>
                  <a:pt x="3944" y="9103"/>
                </a:cubicBezTo>
                <a:cubicBezTo>
                  <a:pt x="3930" y="9144"/>
                  <a:pt x="3906" y="9190"/>
                  <a:pt x="3894" y="9227"/>
                </a:cubicBezTo>
                <a:cubicBezTo>
                  <a:pt x="3894" y="9235"/>
                  <a:pt x="3894" y="9244"/>
                  <a:pt x="3894" y="9252"/>
                </a:cubicBezTo>
              </a:path>
              <a:path w="2283" h="2134">
                <a:moveTo>
                  <a:pt x="3770" y="8508"/>
                </a:moveTo>
                <a:cubicBezTo>
                  <a:pt x="3753" y="8715"/>
                  <a:pt x="3753" y="8839"/>
                  <a:pt x="3770" y="9029"/>
                </a:cubicBezTo>
                <a:cubicBezTo>
                  <a:pt x="3782" y="9163"/>
                  <a:pt x="3809" y="9191"/>
                  <a:pt x="3870" y="9302"/>
                </a:cubicBezTo>
                <a:cubicBezTo>
                  <a:pt x="3906" y="9368"/>
                  <a:pt x="3962" y="9405"/>
                  <a:pt x="4018" y="9451"/>
                </a:cubicBezTo>
                <a:cubicBezTo>
                  <a:pt x="4048" y="9480"/>
                  <a:pt x="4063" y="9491"/>
                  <a:pt x="4093" y="9500"/>
                </a:cubicBezTo>
              </a:path>
              <a:path w="2283" h="2134">
                <a:moveTo>
                  <a:pt x="3919" y="7962"/>
                </a:moveTo>
                <a:cubicBezTo>
                  <a:pt x="3902" y="8041"/>
                  <a:pt x="3874" y="8112"/>
                  <a:pt x="3870" y="8186"/>
                </a:cubicBezTo>
                <a:cubicBezTo>
                  <a:pt x="3867" y="8235"/>
                  <a:pt x="3859" y="8311"/>
                  <a:pt x="3845" y="8359"/>
                </a:cubicBezTo>
                <a:cubicBezTo>
                  <a:pt x="3821" y="8439"/>
                  <a:pt x="3814" y="8502"/>
                  <a:pt x="3795" y="8582"/>
                </a:cubicBezTo>
                <a:cubicBezTo>
                  <a:pt x="3772" y="8676"/>
                  <a:pt x="3773" y="8714"/>
                  <a:pt x="3795" y="8806"/>
                </a:cubicBezTo>
                <a:cubicBezTo>
                  <a:pt x="3806" y="8855"/>
                  <a:pt x="3827" y="8885"/>
                  <a:pt x="3845" y="8930"/>
                </a:cubicBezTo>
                <a:cubicBezTo>
                  <a:pt x="3845" y="8954"/>
                  <a:pt x="3845" y="8963"/>
                  <a:pt x="3845" y="8979"/>
                </a:cubicBezTo>
              </a:path>
              <a:path w="2283" h="2134">
                <a:moveTo>
                  <a:pt x="4514" y="8012"/>
                </a:moveTo>
                <a:cubicBezTo>
                  <a:pt x="4514" y="7995"/>
                  <a:pt x="4514" y="7979"/>
                  <a:pt x="4514" y="7962"/>
                </a:cubicBezTo>
              </a:path>
              <a:path w="2283" h="2134">
                <a:moveTo>
                  <a:pt x="4738" y="7987"/>
                </a:moveTo>
                <a:cubicBezTo>
                  <a:pt x="4701" y="8054"/>
                  <a:pt x="4660" y="8125"/>
                  <a:pt x="4614" y="8186"/>
                </a:cubicBezTo>
                <a:cubicBezTo>
                  <a:pt x="4568" y="8247"/>
                  <a:pt x="4504" y="8301"/>
                  <a:pt x="4465" y="8359"/>
                </a:cubicBezTo>
                <a:cubicBezTo>
                  <a:pt x="4457" y="8367"/>
                  <a:pt x="4448" y="8376"/>
                  <a:pt x="4440" y="8384"/>
                </a:cubicBezTo>
                <a:cubicBezTo>
                  <a:pt x="4478" y="8422"/>
                  <a:pt x="4486" y="8434"/>
                  <a:pt x="4539" y="8434"/>
                </a:cubicBezTo>
                <a:cubicBezTo>
                  <a:pt x="4602" y="8434"/>
                  <a:pt x="4636" y="8425"/>
                  <a:pt x="4688" y="8409"/>
                </a:cubicBezTo>
                <a:cubicBezTo>
                  <a:pt x="4741" y="8393"/>
                  <a:pt x="4769" y="8429"/>
                  <a:pt x="4812" y="8434"/>
                </a:cubicBezTo>
                <a:cubicBezTo>
                  <a:pt x="4820" y="8434"/>
                  <a:pt x="4829" y="8434"/>
                  <a:pt x="4837" y="8434"/>
                </a:cubicBezTo>
              </a:path>
              <a:path w="2283" h="2134">
                <a:moveTo>
                  <a:pt x="5085" y="7838"/>
                </a:moveTo>
                <a:lnTo>
                  <a:pt x="5085" y="7838"/>
                </a:lnTo>
              </a:path>
              <a:path w="2283" h="2134">
                <a:moveTo>
                  <a:pt x="5159" y="7913"/>
                </a:moveTo>
                <a:cubicBezTo>
                  <a:pt x="5232" y="8026"/>
                  <a:pt x="5301" y="8141"/>
                  <a:pt x="5358" y="8260"/>
                </a:cubicBezTo>
                <a:cubicBezTo>
                  <a:pt x="5400" y="8347"/>
                  <a:pt x="5426" y="8441"/>
                  <a:pt x="5457" y="8533"/>
                </a:cubicBezTo>
                <a:cubicBezTo>
                  <a:pt x="5485" y="8616"/>
                  <a:pt x="5526" y="8689"/>
                  <a:pt x="5507" y="8781"/>
                </a:cubicBezTo>
                <a:cubicBezTo>
                  <a:pt x="5485" y="8887"/>
                  <a:pt x="5417" y="8995"/>
                  <a:pt x="5358" y="9079"/>
                </a:cubicBezTo>
                <a:cubicBezTo>
                  <a:pt x="5310" y="9146"/>
                  <a:pt x="5251" y="9208"/>
                  <a:pt x="5209" y="9277"/>
                </a:cubicBezTo>
                <a:cubicBezTo>
                  <a:pt x="5175" y="9333"/>
                  <a:pt x="5157" y="9379"/>
                  <a:pt x="5110" y="9426"/>
                </a:cubicBezTo>
                <a:cubicBezTo>
                  <a:pt x="5088" y="9448"/>
                  <a:pt x="5079" y="9453"/>
                  <a:pt x="5085" y="9475"/>
                </a:cubicBezTo>
              </a:path>
              <a:path w="2283" h="2134">
                <a:moveTo>
                  <a:pt x="5482" y="7491"/>
                </a:moveTo>
                <a:cubicBezTo>
                  <a:pt x="5461" y="7533"/>
                  <a:pt x="5416" y="7600"/>
                  <a:pt x="5407" y="7640"/>
                </a:cubicBezTo>
                <a:cubicBezTo>
                  <a:pt x="5400" y="7672"/>
                  <a:pt x="5397" y="7746"/>
                  <a:pt x="5432" y="7764"/>
                </a:cubicBezTo>
                <a:cubicBezTo>
                  <a:pt x="5504" y="7800"/>
                  <a:pt x="5652" y="7763"/>
                  <a:pt x="5730" y="7789"/>
                </a:cubicBezTo>
                <a:cubicBezTo>
                  <a:pt x="5771" y="7803"/>
                  <a:pt x="5796" y="7804"/>
                  <a:pt x="5804" y="7789"/>
                </a:cubicBezTo>
              </a:path>
              <a:path w="2283" h="2134">
                <a:moveTo>
                  <a:pt x="5804" y="7367"/>
                </a:moveTo>
                <a:cubicBezTo>
                  <a:pt x="5804" y="7442"/>
                  <a:pt x="5817" y="7496"/>
                  <a:pt x="5829" y="7565"/>
                </a:cubicBezTo>
                <a:cubicBezTo>
                  <a:pt x="5842" y="7643"/>
                  <a:pt x="5808" y="7713"/>
                  <a:pt x="5804" y="7789"/>
                </a:cubicBezTo>
                <a:cubicBezTo>
                  <a:pt x="5798" y="7892"/>
                  <a:pt x="5799" y="7988"/>
                  <a:pt x="582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517840"/>
            <a:ext cx="1187640" cy="795240"/>
          </a:xfrm>
          <a:custGeom>
            <a:avLst/>
            <a:gdLst/>
            <a:ahLst/>
            <a:rect l="l" t="t" r="r" b="b"/>
            <a:pathLst>
              <a:path w="3300" h="2209">
                <a:moveTo>
                  <a:pt x="6871" y="7565"/>
                </a:moveTo>
                <a:cubicBezTo>
                  <a:pt x="6848" y="7661"/>
                  <a:pt x="6808" y="7769"/>
                  <a:pt x="6796" y="7863"/>
                </a:cubicBezTo>
                <a:cubicBezTo>
                  <a:pt x="6786" y="7941"/>
                  <a:pt x="6772" y="8006"/>
                  <a:pt x="6772" y="8086"/>
                </a:cubicBezTo>
                <a:cubicBezTo>
                  <a:pt x="6772" y="8148"/>
                  <a:pt x="6761" y="8206"/>
                  <a:pt x="6796" y="8260"/>
                </a:cubicBezTo>
                <a:cubicBezTo>
                  <a:pt x="6820" y="8297"/>
                  <a:pt x="6881" y="8308"/>
                  <a:pt x="6921" y="8310"/>
                </a:cubicBezTo>
                <a:cubicBezTo>
                  <a:pt x="7050" y="8318"/>
                  <a:pt x="7170" y="8306"/>
                  <a:pt x="7293" y="8334"/>
                </a:cubicBezTo>
                <a:cubicBezTo>
                  <a:pt x="7342" y="8345"/>
                  <a:pt x="7375" y="8345"/>
                  <a:pt x="7417" y="8359"/>
                </a:cubicBezTo>
                <a:cubicBezTo>
                  <a:pt x="7441" y="8359"/>
                  <a:pt x="7450" y="8359"/>
                  <a:pt x="7466" y="8359"/>
                </a:cubicBezTo>
              </a:path>
              <a:path w="3300" h="2209">
                <a:moveTo>
                  <a:pt x="7392" y="7640"/>
                </a:moveTo>
                <a:cubicBezTo>
                  <a:pt x="7392" y="7783"/>
                  <a:pt x="7402" y="7901"/>
                  <a:pt x="7417" y="8037"/>
                </a:cubicBezTo>
                <a:cubicBezTo>
                  <a:pt x="7429" y="8143"/>
                  <a:pt x="7438" y="8254"/>
                  <a:pt x="7441" y="8359"/>
                </a:cubicBezTo>
                <a:cubicBezTo>
                  <a:pt x="7447" y="8557"/>
                  <a:pt x="7441" y="8756"/>
                  <a:pt x="7441" y="8954"/>
                </a:cubicBezTo>
              </a:path>
              <a:path w="3300" h="2209">
                <a:moveTo>
                  <a:pt x="7689" y="8161"/>
                </a:moveTo>
                <a:cubicBezTo>
                  <a:pt x="7748" y="8190"/>
                  <a:pt x="7736" y="8247"/>
                  <a:pt x="7764" y="8310"/>
                </a:cubicBezTo>
                <a:cubicBezTo>
                  <a:pt x="7800" y="8390"/>
                  <a:pt x="7852" y="8450"/>
                  <a:pt x="7888" y="8533"/>
                </a:cubicBezTo>
                <a:cubicBezTo>
                  <a:pt x="7922" y="8610"/>
                  <a:pt x="7974" y="8680"/>
                  <a:pt x="8012" y="8756"/>
                </a:cubicBezTo>
                <a:cubicBezTo>
                  <a:pt x="8035" y="8801"/>
                  <a:pt x="8074" y="8885"/>
                  <a:pt x="8086" y="8930"/>
                </a:cubicBezTo>
                <a:cubicBezTo>
                  <a:pt x="8086" y="8974"/>
                  <a:pt x="8083" y="8988"/>
                  <a:pt x="8111" y="9004"/>
                </a:cubicBezTo>
              </a:path>
              <a:path w="3300" h="2209">
                <a:moveTo>
                  <a:pt x="8062" y="8210"/>
                </a:moveTo>
                <a:cubicBezTo>
                  <a:pt x="8034" y="8276"/>
                  <a:pt x="8013" y="8340"/>
                  <a:pt x="7987" y="8409"/>
                </a:cubicBezTo>
                <a:cubicBezTo>
                  <a:pt x="7938" y="8535"/>
                  <a:pt x="7894" y="8639"/>
                  <a:pt x="7838" y="8756"/>
                </a:cubicBezTo>
                <a:cubicBezTo>
                  <a:pt x="7815" y="8804"/>
                  <a:pt x="7779" y="8860"/>
                  <a:pt x="7764" y="8905"/>
                </a:cubicBezTo>
                <a:cubicBezTo>
                  <a:pt x="7764" y="8930"/>
                  <a:pt x="7764" y="8938"/>
                  <a:pt x="7789" y="8930"/>
                </a:cubicBezTo>
              </a:path>
              <a:path w="3300" h="2209">
                <a:moveTo>
                  <a:pt x="7764" y="7541"/>
                </a:moveTo>
                <a:cubicBezTo>
                  <a:pt x="7699" y="7577"/>
                  <a:pt x="7676" y="7598"/>
                  <a:pt x="7640" y="7665"/>
                </a:cubicBezTo>
                <a:cubicBezTo>
                  <a:pt x="7594" y="7751"/>
                  <a:pt x="7545" y="7846"/>
                  <a:pt x="7516" y="7938"/>
                </a:cubicBezTo>
                <a:cubicBezTo>
                  <a:pt x="7468" y="8091"/>
                  <a:pt x="7441" y="8224"/>
                  <a:pt x="7441" y="8384"/>
                </a:cubicBezTo>
                <a:cubicBezTo>
                  <a:pt x="7441" y="8523"/>
                  <a:pt x="7480" y="8680"/>
                  <a:pt x="7541" y="8806"/>
                </a:cubicBezTo>
                <a:cubicBezTo>
                  <a:pt x="7588" y="8904"/>
                  <a:pt x="7637" y="8976"/>
                  <a:pt x="7714" y="9054"/>
                </a:cubicBezTo>
                <a:cubicBezTo>
                  <a:pt x="7767" y="9108"/>
                  <a:pt x="7822" y="9111"/>
                  <a:pt x="7888" y="9128"/>
                </a:cubicBezTo>
                <a:cubicBezTo>
                  <a:pt x="7945" y="9143"/>
                  <a:pt x="7990" y="9159"/>
                  <a:pt x="8037" y="9178"/>
                </a:cubicBezTo>
              </a:path>
              <a:path w="3300" h="2209">
                <a:moveTo>
                  <a:pt x="8384" y="7813"/>
                </a:moveTo>
                <a:cubicBezTo>
                  <a:pt x="8366" y="7844"/>
                  <a:pt x="8256" y="7999"/>
                  <a:pt x="8235" y="8062"/>
                </a:cubicBezTo>
                <a:cubicBezTo>
                  <a:pt x="8222" y="8101"/>
                  <a:pt x="8252" y="8125"/>
                  <a:pt x="8285" y="8136"/>
                </a:cubicBezTo>
                <a:cubicBezTo>
                  <a:pt x="8346" y="8156"/>
                  <a:pt x="8412" y="8120"/>
                  <a:pt x="8458" y="8111"/>
                </a:cubicBezTo>
                <a:cubicBezTo>
                  <a:pt x="8504" y="8102"/>
                  <a:pt x="8560" y="8111"/>
                  <a:pt x="8607" y="8111"/>
                </a:cubicBezTo>
              </a:path>
              <a:path w="3300" h="2209">
                <a:moveTo>
                  <a:pt x="8781" y="7392"/>
                </a:moveTo>
                <a:cubicBezTo>
                  <a:pt x="8812" y="7443"/>
                  <a:pt x="8825" y="7505"/>
                  <a:pt x="8855" y="7565"/>
                </a:cubicBezTo>
                <a:cubicBezTo>
                  <a:pt x="8895" y="7646"/>
                  <a:pt x="8941" y="7710"/>
                  <a:pt x="8979" y="7789"/>
                </a:cubicBezTo>
                <a:cubicBezTo>
                  <a:pt x="9035" y="7905"/>
                  <a:pt x="9086" y="8059"/>
                  <a:pt x="9103" y="8186"/>
                </a:cubicBezTo>
                <a:cubicBezTo>
                  <a:pt x="9123" y="8333"/>
                  <a:pt x="9115" y="8438"/>
                  <a:pt x="9079" y="8582"/>
                </a:cubicBezTo>
                <a:cubicBezTo>
                  <a:pt x="9049" y="8704"/>
                  <a:pt x="9003" y="8794"/>
                  <a:pt x="8954" y="8905"/>
                </a:cubicBezTo>
                <a:cubicBezTo>
                  <a:pt x="8922" y="8978"/>
                  <a:pt x="8902" y="9061"/>
                  <a:pt x="8855" y="9128"/>
                </a:cubicBezTo>
                <a:cubicBezTo>
                  <a:pt x="8834" y="9158"/>
                  <a:pt x="8846" y="9145"/>
                  <a:pt x="8830" y="9178"/>
                </a:cubicBezTo>
              </a:path>
              <a:path w="3300" h="2209">
                <a:moveTo>
                  <a:pt x="9327" y="6995"/>
                </a:moveTo>
                <a:cubicBezTo>
                  <a:pt x="9280" y="7022"/>
                  <a:pt x="9245" y="7045"/>
                  <a:pt x="9203" y="7069"/>
                </a:cubicBezTo>
                <a:cubicBezTo>
                  <a:pt x="9163" y="7092"/>
                  <a:pt x="9077" y="7127"/>
                  <a:pt x="9054" y="7169"/>
                </a:cubicBezTo>
                <a:cubicBezTo>
                  <a:pt x="9054" y="7177"/>
                  <a:pt x="9054" y="7185"/>
                  <a:pt x="9054" y="7193"/>
                </a:cubicBezTo>
                <a:cubicBezTo>
                  <a:pt x="9076" y="7227"/>
                  <a:pt x="9145" y="7238"/>
                  <a:pt x="9203" y="7243"/>
                </a:cubicBezTo>
                <a:cubicBezTo>
                  <a:pt x="9275" y="7249"/>
                  <a:pt x="9337" y="7285"/>
                  <a:pt x="9401" y="7317"/>
                </a:cubicBezTo>
                <a:cubicBezTo>
                  <a:pt x="9453" y="7343"/>
                  <a:pt x="9503" y="7386"/>
                  <a:pt x="9525" y="7441"/>
                </a:cubicBezTo>
                <a:cubicBezTo>
                  <a:pt x="9534" y="7463"/>
                  <a:pt x="9566" y="7512"/>
                  <a:pt x="9550" y="7541"/>
                </a:cubicBezTo>
                <a:cubicBezTo>
                  <a:pt x="9530" y="7576"/>
                  <a:pt x="9483" y="7589"/>
                  <a:pt x="9451" y="7615"/>
                </a:cubicBezTo>
                <a:cubicBezTo>
                  <a:pt x="9418" y="7643"/>
                  <a:pt x="9388" y="7649"/>
                  <a:pt x="9351" y="7665"/>
                </a:cubicBezTo>
                <a:cubicBezTo>
                  <a:pt x="9311" y="7685"/>
                  <a:pt x="9304" y="7693"/>
                  <a:pt x="9277" y="7689"/>
                </a:cubicBezTo>
              </a:path>
              <a:path w="3300" h="2209">
                <a:moveTo>
                  <a:pt x="9277" y="7020"/>
                </a:moveTo>
                <a:cubicBezTo>
                  <a:pt x="9368" y="7020"/>
                  <a:pt x="9459" y="7020"/>
                  <a:pt x="9550" y="7020"/>
                </a:cubicBezTo>
              </a:path>
              <a:path w="3300" h="2209">
                <a:moveTo>
                  <a:pt x="9426" y="7987"/>
                </a:moveTo>
                <a:cubicBezTo>
                  <a:pt x="9514" y="7987"/>
                  <a:pt x="9554" y="7976"/>
                  <a:pt x="9624" y="7962"/>
                </a:cubicBezTo>
                <a:cubicBezTo>
                  <a:pt x="9681" y="7951"/>
                  <a:pt x="9724" y="7954"/>
                  <a:pt x="9773" y="7938"/>
                </a:cubicBezTo>
                <a:cubicBezTo>
                  <a:pt x="9781" y="7938"/>
                  <a:pt x="9790" y="7938"/>
                  <a:pt x="9798" y="7938"/>
                </a:cubicBezTo>
              </a:path>
              <a:path w="3300" h="2209">
                <a:moveTo>
                  <a:pt x="9500" y="7962"/>
                </a:moveTo>
                <a:cubicBezTo>
                  <a:pt x="9454" y="8009"/>
                  <a:pt x="9409" y="8056"/>
                  <a:pt x="9376" y="8111"/>
                </a:cubicBezTo>
                <a:cubicBezTo>
                  <a:pt x="9345" y="8163"/>
                  <a:pt x="9331" y="8226"/>
                  <a:pt x="9327" y="8285"/>
                </a:cubicBezTo>
                <a:cubicBezTo>
                  <a:pt x="9325" y="8318"/>
                  <a:pt x="9327" y="8351"/>
                  <a:pt x="9327" y="8384"/>
                </a:cubicBezTo>
                <a:cubicBezTo>
                  <a:pt x="9378" y="8384"/>
                  <a:pt x="9380" y="8369"/>
                  <a:pt x="9401" y="8359"/>
                </a:cubicBezTo>
                <a:cubicBezTo>
                  <a:pt x="9421" y="8349"/>
                  <a:pt x="9453" y="8328"/>
                  <a:pt x="9475" y="8310"/>
                </a:cubicBezTo>
                <a:cubicBezTo>
                  <a:pt x="9496" y="8293"/>
                  <a:pt x="9542" y="8266"/>
                  <a:pt x="9575" y="8285"/>
                </a:cubicBezTo>
                <a:cubicBezTo>
                  <a:pt x="9594" y="8296"/>
                  <a:pt x="9636" y="8363"/>
                  <a:pt x="9649" y="8384"/>
                </a:cubicBezTo>
                <a:cubicBezTo>
                  <a:pt x="9703" y="8467"/>
                  <a:pt x="9699" y="8544"/>
                  <a:pt x="9723" y="8632"/>
                </a:cubicBezTo>
                <a:cubicBezTo>
                  <a:pt x="9749" y="8727"/>
                  <a:pt x="9738" y="8764"/>
                  <a:pt x="9723" y="8855"/>
                </a:cubicBezTo>
                <a:cubicBezTo>
                  <a:pt x="9707" y="8952"/>
                  <a:pt x="9651" y="8968"/>
                  <a:pt x="9575" y="9029"/>
                </a:cubicBezTo>
                <a:cubicBezTo>
                  <a:pt x="9536" y="9060"/>
                  <a:pt x="9454" y="9069"/>
                  <a:pt x="9401" y="9054"/>
                </a:cubicBezTo>
                <a:cubicBezTo>
                  <a:pt x="9365" y="9044"/>
                  <a:pt x="9280" y="9021"/>
                  <a:pt x="9252" y="9004"/>
                </a:cubicBezTo>
                <a:cubicBezTo>
                  <a:pt x="9211" y="8980"/>
                  <a:pt x="9204" y="8937"/>
                  <a:pt x="9178" y="8905"/>
                </a:cubicBezTo>
              </a:path>
              <a:path w="3300" h="2209">
                <a:moveTo>
                  <a:pt x="9971" y="7342"/>
                </a:moveTo>
                <a:cubicBezTo>
                  <a:pt x="10043" y="7390"/>
                  <a:pt x="10019" y="7410"/>
                  <a:pt x="10046" y="7491"/>
                </a:cubicBezTo>
                <a:cubicBezTo>
                  <a:pt x="10076" y="7582"/>
                  <a:pt x="10072" y="7618"/>
                  <a:pt x="10046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0760" y="2509920"/>
            <a:ext cx="1393560" cy="652320"/>
          </a:xfrm>
          <a:custGeom>
            <a:avLst/>
            <a:gdLst/>
            <a:ahLst/>
            <a:rect l="l" t="t" r="r" b="b"/>
            <a:pathLst>
              <a:path w="3871" h="1812">
                <a:moveTo>
                  <a:pt x="10815" y="7466"/>
                </a:moveTo>
                <a:cubicBezTo>
                  <a:pt x="10742" y="7624"/>
                  <a:pt x="10661" y="7785"/>
                  <a:pt x="10641" y="7962"/>
                </a:cubicBezTo>
                <a:cubicBezTo>
                  <a:pt x="10626" y="8100"/>
                  <a:pt x="10624" y="8281"/>
                  <a:pt x="10666" y="8409"/>
                </a:cubicBezTo>
                <a:cubicBezTo>
                  <a:pt x="10698" y="8509"/>
                  <a:pt x="10768" y="8559"/>
                  <a:pt x="10840" y="8632"/>
                </a:cubicBezTo>
                <a:cubicBezTo>
                  <a:pt x="10895" y="8688"/>
                  <a:pt x="10961" y="8721"/>
                  <a:pt x="11038" y="8731"/>
                </a:cubicBezTo>
                <a:cubicBezTo>
                  <a:pt x="11113" y="8741"/>
                  <a:pt x="11220" y="8692"/>
                  <a:pt x="11286" y="8657"/>
                </a:cubicBezTo>
                <a:cubicBezTo>
                  <a:pt x="11402" y="8594"/>
                  <a:pt x="11535" y="8463"/>
                  <a:pt x="11609" y="8359"/>
                </a:cubicBezTo>
                <a:cubicBezTo>
                  <a:pt x="11632" y="8311"/>
                  <a:pt x="11640" y="8297"/>
                  <a:pt x="11633" y="8260"/>
                </a:cubicBezTo>
              </a:path>
              <a:path w="3871" h="1812">
                <a:moveTo>
                  <a:pt x="11633" y="8186"/>
                </a:moveTo>
                <a:cubicBezTo>
                  <a:pt x="11553" y="8091"/>
                  <a:pt x="11514" y="8031"/>
                  <a:pt x="11385" y="8086"/>
                </a:cubicBezTo>
                <a:cubicBezTo>
                  <a:pt x="11307" y="8119"/>
                  <a:pt x="11166" y="8197"/>
                  <a:pt x="11112" y="8260"/>
                </a:cubicBezTo>
                <a:cubicBezTo>
                  <a:pt x="11023" y="8362"/>
                  <a:pt x="10945" y="8459"/>
                  <a:pt x="10889" y="8582"/>
                </a:cubicBezTo>
                <a:cubicBezTo>
                  <a:pt x="10864" y="8637"/>
                  <a:pt x="10864" y="8670"/>
                  <a:pt x="10864" y="8731"/>
                </a:cubicBezTo>
              </a:path>
              <a:path w="3871" h="1812">
                <a:moveTo>
                  <a:pt x="11956" y="7243"/>
                </a:moveTo>
                <a:cubicBezTo>
                  <a:pt x="11930" y="7282"/>
                  <a:pt x="11892" y="7342"/>
                  <a:pt x="11881" y="7392"/>
                </a:cubicBezTo>
                <a:cubicBezTo>
                  <a:pt x="11857" y="7497"/>
                  <a:pt x="11832" y="7609"/>
                  <a:pt x="11807" y="7714"/>
                </a:cubicBezTo>
                <a:cubicBezTo>
                  <a:pt x="11774" y="7856"/>
                  <a:pt x="11761" y="8015"/>
                  <a:pt x="11757" y="8161"/>
                </a:cubicBezTo>
                <a:cubicBezTo>
                  <a:pt x="11753" y="8298"/>
                  <a:pt x="11761" y="8430"/>
                  <a:pt x="11782" y="8558"/>
                </a:cubicBezTo>
                <a:cubicBezTo>
                  <a:pt x="11794" y="8631"/>
                  <a:pt x="11823" y="8685"/>
                  <a:pt x="11881" y="8731"/>
                </a:cubicBezTo>
                <a:cubicBezTo>
                  <a:pt x="11900" y="8746"/>
                  <a:pt x="11932" y="8757"/>
                  <a:pt x="11956" y="8781"/>
                </a:cubicBezTo>
              </a:path>
              <a:path w="3871" h="1812">
                <a:moveTo>
                  <a:pt x="12080" y="8012"/>
                </a:moveTo>
                <a:cubicBezTo>
                  <a:pt x="12116" y="8085"/>
                  <a:pt x="12153" y="8129"/>
                  <a:pt x="12204" y="8186"/>
                </a:cubicBezTo>
                <a:cubicBezTo>
                  <a:pt x="12261" y="8249"/>
                  <a:pt x="12302" y="8318"/>
                  <a:pt x="12353" y="8384"/>
                </a:cubicBezTo>
                <a:cubicBezTo>
                  <a:pt x="12390" y="8432"/>
                  <a:pt x="12416" y="8485"/>
                  <a:pt x="12452" y="8533"/>
                </a:cubicBezTo>
                <a:cubicBezTo>
                  <a:pt x="12475" y="8564"/>
                  <a:pt x="12493" y="8574"/>
                  <a:pt x="12526" y="8582"/>
                </a:cubicBezTo>
              </a:path>
              <a:path w="3871" h="1812">
                <a:moveTo>
                  <a:pt x="12378" y="8062"/>
                </a:moveTo>
                <a:cubicBezTo>
                  <a:pt x="12331" y="8155"/>
                  <a:pt x="12282" y="8247"/>
                  <a:pt x="12229" y="8334"/>
                </a:cubicBezTo>
                <a:cubicBezTo>
                  <a:pt x="12195" y="8390"/>
                  <a:pt x="12150" y="8471"/>
                  <a:pt x="12129" y="8533"/>
                </a:cubicBezTo>
                <a:cubicBezTo>
                  <a:pt x="12117" y="8570"/>
                  <a:pt x="12105" y="8589"/>
                  <a:pt x="12105" y="8632"/>
                </a:cubicBezTo>
                <a:cubicBezTo>
                  <a:pt x="12105" y="8640"/>
                  <a:pt x="12105" y="8649"/>
                  <a:pt x="12105" y="8657"/>
                </a:cubicBezTo>
              </a:path>
              <a:path w="3871" h="1812">
                <a:moveTo>
                  <a:pt x="12576" y="7689"/>
                </a:moveTo>
                <a:cubicBezTo>
                  <a:pt x="12664" y="7689"/>
                  <a:pt x="12734" y="7698"/>
                  <a:pt x="12824" y="7714"/>
                </a:cubicBezTo>
              </a:path>
              <a:path w="3871" h="1812">
                <a:moveTo>
                  <a:pt x="12824" y="7838"/>
                </a:moveTo>
                <a:cubicBezTo>
                  <a:pt x="12780" y="7889"/>
                  <a:pt x="12748" y="7940"/>
                  <a:pt x="12700" y="7987"/>
                </a:cubicBezTo>
                <a:cubicBezTo>
                  <a:pt x="12673" y="8014"/>
                  <a:pt x="12617" y="8076"/>
                  <a:pt x="12601" y="8111"/>
                </a:cubicBezTo>
                <a:cubicBezTo>
                  <a:pt x="12581" y="8156"/>
                  <a:pt x="12608" y="8196"/>
                  <a:pt x="12626" y="8210"/>
                </a:cubicBezTo>
                <a:cubicBezTo>
                  <a:pt x="12664" y="8239"/>
                  <a:pt x="12677" y="8235"/>
                  <a:pt x="12725" y="8235"/>
                </a:cubicBezTo>
                <a:cubicBezTo>
                  <a:pt x="12791" y="8235"/>
                  <a:pt x="12812" y="8215"/>
                  <a:pt x="12874" y="8210"/>
                </a:cubicBezTo>
                <a:cubicBezTo>
                  <a:pt x="12918" y="8206"/>
                  <a:pt x="12936" y="8200"/>
                  <a:pt x="12948" y="8235"/>
                </a:cubicBezTo>
              </a:path>
              <a:path w="3871" h="1812">
                <a:moveTo>
                  <a:pt x="13395" y="7714"/>
                </a:moveTo>
                <a:cubicBezTo>
                  <a:pt x="13449" y="7831"/>
                  <a:pt x="13501" y="7957"/>
                  <a:pt x="13519" y="8086"/>
                </a:cubicBezTo>
                <a:cubicBezTo>
                  <a:pt x="13530" y="8168"/>
                  <a:pt x="13516" y="8282"/>
                  <a:pt x="13494" y="8359"/>
                </a:cubicBezTo>
                <a:cubicBezTo>
                  <a:pt x="13473" y="8431"/>
                  <a:pt x="13432" y="8496"/>
                  <a:pt x="13395" y="8558"/>
                </a:cubicBezTo>
                <a:cubicBezTo>
                  <a:pt x="13358" y="8620"/>
                  <a:pt x="13373" y="8653"/>
                  <a:pt x="13320" y="8706"/>
                </a:cubicBezTo>
                <a:cubicBezTo>
                  <a:pt x="13292" y="8733"/>
                  <a:pt x="13293" y="8750"/>
                  <a:pt x="13271" y="8781"/>
                </a:cubicBezTo>
              </a:path>
              <a:path w="3871" h="1812">
                <a:moveTo>
                  <a:pt x="13196" y="7367"/>
                </a:moveTo>
                <a:cubicBezTo>
                  <a:pt x="13231" y="7442"/>
                  <a:pt x="13265" y="7491"/>
                  <a:pt x="13271" y="7565"/>
                </a:cubicBezTo>
                <a:cubicBezTo>
                  <a:pt x="13276" y="7629"/>
                  <a:pt x="13320" y="7673"/>
                  <a:pt x="13320" y="7739"/>
                </a:cubicBezTo>
                <a:cubicBezTo>
                  <a:pt x="13320" y="7785"/>
                  <a:pt x="13340" y="7797"/>
                  <a:pt x="13345" y="7838"/>
                </a:cubicBezTo>
                <a:cubicBezTo>
                  <a:pt x="13345" y="7863"/>
                  <a:pt x="13345" y="7871"/>
                  <a:pt x="13345" y="7888"/>
                </a:cubicBezTo>
              </a:path>
              <a:path w="3871" h="1812">
                <a:moveTo>
                  <a:pt x="13494" y="6970"/>
                </a:moveTo>
                <a:cubicBezTo>
                  <a:pt x="13539" y="7050"/>
                  <a:pt x="13533" y="7027"/>
                  <a:pt x="13519" y="7094"/>
                </a:cubicBezTo>
                <a:cubicBezTo>
                  <a:pt x="13507" y="7155"/>
                  <a:pt x="13484" y="7189"/>
                  <a:pt x="13444" y="7243"/>
                </a:cubicBezTo>
                <a:cubicBezTo>
                  <a:pt x="13421" y="7274"/>
                  <a:pt x="13399" y="7303"/>
                  <a:pt x="13395" y="7342"/>
                </a:cubicBezTo>
                <a:cubicBezTo>
                  <a:pt x="13392" y="7373"/>
                  <a:pt x="13438" y="7389"/>
                  <a:pt x="13469" y="7392"/>
                </a:cubicBezTo>
                <a:cubicBezTo>
                  <a:pt x="13532" y="7399"/>
                  <a:pt x="13724" y="7362"/>
                  <a:pt x="13742" y="7417"/>
                </a:cubicBezTo>
              </a:path>
              <a:path w="3871" h="1812">
                <a:moveTo>
                  <a:pt x="13370" y="7020"/>
                </a:moveTo>
                <a:cubicBezTo>
                  <a:pt x="13411" y="7020"/>
                  <a:pt x="13419" y="7020"/>
                  <a:pt x="13444" y="7020"/>
                </a:cubicBezTo>
                <a:cubicBezTo>
                  <a:pt x="13457" y="7059"/>
                  <a:pt x="13456" y="7030"/>
                  <a:pt x="13469" y="7069"/>
                </a:cubicBezTo>
                <a:cubicBezTo>
                  <a:pt x="13434" y="7081"/>
                  <a:pt x="13444" y="7076"/>
                  <a:pt x="13444" y="7119"/>
                </a:cubicBezTo>
              </a:path>
              <a:path w="3871" h="1812">
                <a:moveTo>
                  <a:pt x="14188" y="7640"/>
                </a:moveTo>
                <a:cubicBezTo>
                  <a:pt x="14129" y="7658"/>
                  <a:pt x="14054" y="7737"/>
                  <a:pt x="14015" y="7689"/>
                </a:cubicBezTo>
                <a:cubicBezTo>
                  <a:pt x="14015" y="7681"/>
                  <a:pt x="14015" y="7673"/>
                  <a:pt x="14015" y="7665"/>
                </a:cubicBezTo>
                <a:cubicBezTo>
                  <a:pt x="14015" y="7777"/>
                  <a:pt x="14010" y="7888"/>
                  <a:pt x="13990" y="7987"/>
                </a:cubicBezTo>
                <a:cubicBezTo>
                  <a:pt x="13988" y="7999"/>
                  <a:pt x="13975" y="8103"/>
                  <a:pt x="13965" y="8111"/>
                </a:cubicBezTo>
                <a:cubicBezTo>
                  <a:pt x="13940" y="8111"/>
                  <a:pt x="13932" y="8111"/>
                  <a:pt x="13940" y="8136"/>
                </a:cubicBezTo>
                <a:cubicBezTo>
                  <a:pt x="13982" y="8084"/>
                  <a:pt x="14015" y="8056"/>
                  <a:pt x="14064" y="8012"/>
                </a:cubicBezTo>
                <a:cubicBezTo>
                  <a:pt x="14116" y="7965"/>
                  <a:pt x="14169" y="7940"/>
                  <a:pt x="14238" y="7938"/>
                </a:cubicBezTo>
                <a:cubicBezTo>
                  <a:pt x="14309" y="7936"/>
                  <a:pt x="14412" y="7918"/>
                  <a:pt x="14461" y="7987"/>
                </a:cubicBezTo>
                <a:cubicBezTo>
                  <a:pt x="14508" y="8052"/>
                  <a:pt x="14511" y="8109"/>
                  <a:pt x="14511" y="8186"/>
                </a:cubicBezTo>
                <a:cubicBezTo>
                  <a:pt x="14511" y="8282"/>
                  <a:pt x="14500" y="8330"/>
                  <a:pt x="14436" y="8409"/>
                </a:cubicBezTo>
                <a:cubicBezTo>
                  <a:pt x="14385" y="8472"/>
                  <a:pt x="14308" y="8498"/>
                  <a:pt x="14238" y="8533"/>
                </a:cubicBezTo>
                <a:cubicBezTo>
                  <a:pt x="14171" y="8566"/>
                  <a:pt x="14137" y="8582"/>
                  <a:pt x="14064" y="8582"/>
                </a:cubicBezTo>
                <a:cubicBezTo>
                  <a:pt x="14014" y="8582"/>
                  <a:pt x="13965" y="8582"/>
                  <a:pt x="13915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32680" y="2536920"/>
            <a:ext cx="1287360" cy="579240"/>
          </a:xfrm>
          <a:custGeom>
            <a:avLst/>
            <a:gdLst/>
            <a:ahLst/>
            <a:rect l="l" t="t" r="r" b="b"/>
            <a:pathLst>
              <a:path w="3573" h="1613">
                <a:moveTo>
                  <a:pt x="17512" y="7243"/>
                </a:moveTo>
                <a:cubicBezTo>
                  <a:pt x="17512" y="7312"/>
                  <a:pt x="17506" y="7352"/>
                  <a:pt x="17487" y="7417"/>
                </a:cubicBezTo>
                <a:cubicBezTo>
                  <a:pt x="17470" y="7476"/>
                  <a:pt x="17423" y="7555"/>
                  <a:pt x="17413" y="7615"/>
                </a:cubicBezTo>
                <a:cubicBezTo>
                  <a:pt x="17397" y="7706"/>
                  <a:pt x="17379" y="7775"/>
                  <a:pt x="17338" y="7863"/>
                </a:cubicBezTo>
                <a:cubicBezTo>
                  <a:pt x="17319" y="7904"/>
                  <a:pt x="17295" y="7989"/>
                  <a:pt x="17314" y="8037"/>
                </a:cubicBezTo>
                <a:cubicBezTo>
                  <a:pt x="17317" y="8046"/>
                  <a:pt x="17362" y="8083"/>
                  <a:pt x="17388" y="8086"/>
                </a:cubicBezTo>
                <a:cubicBezTo>
                  <a:pt x="17449" y="8093"/>
                  <a:pt x="17496" y="8111"/>
                  <a:pt x="17562" y="8111"/>
                </a:cubicBezTo>
                <a:cubicBezTo>
                  <a:pt x="17684" y="8111"/>
                  <a:pt x="17795" y="8117"/>
                  <a:pt x="17909" y="8136"/>
                </a:cubicBezTo>
                <a:cubicBezTo>
                  <a:pt x="17972" y="8147"/>
                  <a:pt x="17982" y="8117"/>
                  <a:pt x="18033" y="8111"/>
                </a:cubicBezTo>
                <a:cubicBezTo>
                  <a:pt x="18041" y="8111"/>
                  <a:pt x="18050" y="8111"/>
                  <a:pt x="18058" y="8111"/>
                </a:cubicBezTo>
              </a:path>
              <a:path w="3573" h="1613">
                <a:moveTo>
                  <a:pt x="17959" y="7243"/>
                </a:moveTo>
                <a:cubicBezTo>
                  <a:pt x="17949" y="7302"/>
                  <a:pt x="17934" y="7297"/>
                  <a:pt x="17934" y="7367"/>
                </a:cubicBezTo>
                <a:cubicBezTo>
                  <a:pt x="17934" y="7593"/>
                  <a:pt x="17934" y="7816"/>
                  <a:pt x="17909" y="8037"/>
                </a:cubicBezTo>
                <a:cubicBezTo>
                  <a:pt x="17891" y="8195"/>
                  <a:pt x="17915" y="8354"/>
                  <a:pt x="17934" y="8508"/>
                </a:cubicBezTo>
                <a:cubicBezTo>
                  <a:pt x="17934" y="8549"/>
                  <a:pt x="17934" y="8557"/>
                  <a:pt x="17934" y="8582"/>
                </a:cubicBezTo>
              </a:path>
              <a:path w="3573" h="1613">
                <a:moveTo>
                  <a:pt x="18430" y="7069"/>
                </a:moveTo>
                <a:cubicBezTo>
                  <a:pt x="18385" y="7114"/>
                  <a:pt x="18383" y="7137"/>
                  <a:pt x="18355" y="7193"/>
                </a:cubicBezTo>
                <a:cubicBezTo>
                  <a:pt x="18317" y="7269"/>
                  <a:pt x="18269" y="7356"/>
                  <a:pt x="18256" y="7441"/>
                </a:cubicBezTo>
                <a:cubicBezTo>
                  <a:pt x="18236" y="7573"/>
                  <a:pt x="18194" y="7704"/>
                  <a:pt x="18182" y="7838"/>
                </a:cubicBezTo>
                <a:cubicBezTo>
                  <a:pt x="18171" y="7966"/>
                  <a:pt x="18134" y="8105"/>
                  <a:pt x="18157" y="8235"/>
                </a:cubicBezTo>
                <a:cubicBezTo>
                  <a:pt x="18169" y="8303"/>
                  <a:pt x="18216" y="8401"/>
                  <a:pt x="18256" y="8458"/>
                </a:cubicBezTo>
                <a:cubicBezTo>
                  <a:pt x="18286" y="8488"/>
                  <a:pt x="18297" y="8502"/>
                  <a:pt x="18306" y="8533"/>
                </a:cubicBezTo>
              </a:path>
              <a:path w="3573" h="1613">
                <a:moveTo>
                  <a:pt x="18529" y="7789"/>
                </a:moveTo>
                <a:cubicBezTo>
                  <a:pt x="18606" y="7896"/>
                  <a:pt x="18646" y="7992"/>
                  <a:pt x="18703" y="8111"/>
                </a:cubicBezTo>
                <a:cubicBezTo>
                  <a:pt x="18728" y="8163"/>
                  <a:pt x="18750" y="8241"/>
                  <a:pt x="18777" y="8285"/>
                </a:cubicBezTo>
                <a:cubicBezTo>
                  <a:pt x="18803" y="8328"/>
                  <a:pt x="18863" y="8386"/>
                  <a:pt x="18876" y="8359"/>
                </a:cubicBezTo>
              </a:path>
              <a:path w="3573" h="1613">
                <a:moveTo>
                  <a:pt x="18802" y="7764"/>
                </a:moveTo>
                <a:cubicBezTo>
                  <a:pt x="18714" y="7834"/>
                  <a:pt x="18676" y="7885"/>
                  <a:pt x="18628" y="7987"/>
                </a:cubicBezTo>
                <a:cubicBezTo>
                  <a:pt x="18588" y="8071"/>
                  <a:pt x="18544" y="8151"/>
                  <a:pt x="18504" y="8235"/>
                </a:cubicBezTo>
                <a:cubicBezTo>
                  <a:pt x="18472" y="8302"/>
                  <a:pt x="18427" y="8368"/>
                  <a:pt x="18405" y="8434"/>
                </a:cubicBezTo>
              </a:path>
              <a:path w="3573" h="1613">
                <a:moveTo>
                  <a:pt x="18976" y="7441"/>
                </a:moveTo>
                <a:cubicBezTo>
                  <a:pt x="19013" y="7385"/>
                  <a:pt x="19028" y="7371"/>
                  <a:pt x="19100" y="7367"/>
                </a:cubicBezTo>
                <a:cubicBezTo>
                  <a:pt x="19159" y="7363"/>
                  <a:pt x="19247" y="7368"/>
                  <a:pt x="19298" y="7392"/>
                </a:cubicBezTo>
                <a:cubicBezTo>
                  <a:pt x="19332" y="7408"/>
                  <a:pt x="19369" y="7425"/>
                  <a:pt x="19372" y="7466"/>
                </a:cubicBezTo>
                <a:cubicBezTo>
                  <a:pt x="19376" y="7531"/>
                  <a:pt x="19367" y="7566"/>
                  <a:pt x="19323" y="7615"/>
                </a:cubicBezTo>
                <a:cubicBezTo>
                  <a:pt x="19281" y="7662"/>
                  <a:pt x="19225" y="7707"/>
                  <a:pt x="19199" y="7764"/>
                </a:cubicBezTo>
                <a:cubicBezTo>
                  <a:pt x="19175" y="7817"/>
                  <a:pt x="19111" y="7856"/>
                  <a:pt x="19124" y="7913"/>
                </a:cubicBezTo>
                <a:cubicBezTo>
                  <a:pt x="19134" y="7957"/>
                  <a:pt x="19160" y="7962"/>
                  <a:pt x="19199" y="7962"/>
                </a:cubicBezTo>
                <a:cubicBezTo>
                  <a:pt x="19268" y="7962"/>
                  <a:pt x="19314" y="7955"/>
                  <a:pt x="19372" y="7938"/>
                </a:cubicBezTo>
                <a:cubicBezTo>
                  <a:pt x="19412" y="7926"/>
                  <a:pt x="19437" y="7934"/>
                  <a:pt x="19447" y="7962"/>
                </a:cubicBezTo>
              </a:path>
              <a:path w="3573" h="1613">
                <a:moveTo>
                  <a:pt x="19571" y="7169"/>
                </a:moveTo>
                <a:cubicBezTo>
                  <a:pt x="19596" y="7251"/>
                  <a:pt x="19611" y="7316"/>
                  <a:pt x="19645" y="7392"/>
                </a:cubicBezTo>
                <a:cubicBezTo>
                  <a:pt x="19680" y="7471"/>
                  <a:pt x="19693" y="7536"/>
                  <a:pt x="19720" y="7615"/>
                </a:cubicBezTo>
                <a:cubicBezTo>
                  <a:pt x="19752" y="7709"/>
                  <a:pt x="19765" y="7814"/>
                  <a:pt x="19769" y="7913"/>
                </a:cubicBezTo>
                <a:cubicBezTo>
                  <a:pt x="19772" y="8005"/>
                  <a:pt x="19767" y="8099"/>
                  <a:pt x="19745" y="8186"/>
                </a:cubicBezTo>
                <a:cubicBezTo>
                  <a:pt x="19714" y="8311"/>
                  <a:pt x="19689" y="8369"/>
                  <a:pt x="19621" y="8483"/>
                </a:cubicBezTo>
                <a:cubicBezTo>
                  <a:pt x="19587" y="8540"/>
                  <a:pt x="19568" y="8585"/>
                  <a:pt x="19521" y="8632"/>
                </a:cubicBezTo>
                <a:cubicBezTo>
                  <a:pt x="19521" y="8657"/>
                  <a:pt x="19521" y="8665"/>
                  <a:pt x="19496" y="8657"/>
                </a:cubicBezTo>
              </a:path>
              <a:path w="3573" h="1613">
                <a:moveTo>
                  <a:pt x="20117" y="7590"/>
                </a:moveTo>
                <a:cubicBezTo>
                  <a:pt x="20078" y="7561"/>
                  <a:pt x="20057" y="7563"/>
                  <a:pt x="20017" y="7590"/>
                </a:cubicBezTo>
                <a:cubicBezTo>
                  <a:pt x="19978" y="7617"/>
                  <a:pt x="19933" y="7646"/>
                  <a:pt x="19918" y="7689"/>
                </a:cubicBezTo>
                <a:cubicBezTo>
                  <a:pt x="19904" y="7729"/>
                  <a:pt x="19935" y="7770"/>
                  <a:pt x="19968" y="7789"/>
                </a:cubicBezTo>
                <a:cubicBezTo>
                  <a:pt x="20060" y="7842"/>
                  <a:pt x="20116" y="7864"/>
                  <a:pt x="20191" y="7938"/>
                </a:cubicBezTo>
                <a:cubicBezTo>
                  <a:pt x="20229" y="7975"/>
                  <a:pt x="20301" y="8059"/>
                  <a:pt x="20315" y="8111"/>
                </a:cubicBezTo>
                <a:cubicBezTo>
                  <a:pt x="20329" y="8162"/>
                  <a:pt x="20319" y="8241"/>
                  <a:pt x="20290" y="8285"/>
                </a:cubicBezTo>
                <a:cubicBezTo>
                  <a:pt x="20265" y="8323"/>
                  <a:pt x="20206" y="8331"/>
                  <a:pt x="20166" y="8334"/>
                </a:cubicBezTo>
                <a:cubicBezTo>
                  <a:pt x="20120" y="8338"/>
                  <a:pt x="20102" y="8336"/>
                  <a:pt x="20067" y="8310"/>
                </a:cubicBezTo>
              </a:path>
              <a:path w="3573" h="1613">
                <a:moveTo>
                  <a:pt x="20017" y="7590"/>
                </a:moveTo>
                <a:cubicBezTo>
                  <a:pt x="20069" y="7570"/>
                  <a:pt x="20136" y="7550"/>
                  <a:pt x="20191" y="7541"/>
                </a:cubicBezTo>
                <a:cubicBezTo>
                  <a:pt x="20257" y="7530"/>
                  <a:pt x="20308" y="7536"/>
                  <a:pt x="20365" y="7516"/>
                </a:cubicBezTo>
                <a:cubicBezTo>
                  <a:pt x="20373" y="7516"/>
                  <a:pt x="20381" y="7516"/>
                  <a:pt x="20389" y="7516"/>
                </a:cubicBezTo>
              </a:path>
              <a:path w="3573" h="1613">
                <a:moveTo>
                  <a:pt x="20538" y="7094"/>
                </a:moveTo>
                <a:cubicBezTo>
                  <a:pt x="20538" y="7078"/>
                  <a:pt x="20538" y="7061"/>
                  <a:pt x="20538" y="7045"/>
                </a:cubicBezTo>
              </a:path>
              <a:path w="3573" h="1613">
                <a:moveTo>
                  <a:pt x="20712" y="7144"/>
                </a:moveTo>
                <a:cubicBezTo>
                  <a:pt x="20671" y="7171"/>
                  <a:pt x="20656" y="7204"/>
                  <a:pt x="20613" y="7218"/>
                </a:cubicBezTo>
                <a:cubicBezTo>
                  <a:pt x="20588" y="7218"/>
                  <a:pt x="20580" y="7218"/>
                  <a:pt x="20588" y="7243"/>
                </a:cubicBezTo>
                <a:cubicBezTo>
                  <a:pt x="20656" y="7243"/>
                  <a:pt x="20699" y="7252"/>
                  <a:pt x="20762" y="7268"/>
                </a:cubicBezTo>
                <a:cubicBezTo>
                  <a:pt x="20827" y="7284"/>
                  <a:pt x="20831" y="7298"/>
                  <a:pt x="20861" y="7342"/>
                </a:cubicBezTo>
                <a:cubicBezTo>
                  <a:pt x="20900" y="7401"/>
                  <a:pt x="20883" y="7387"/>
                  <a:pt x="20836" y="7417"/>
                </a:cubicBezTo>
                <a:cubicBezTo>
                  <a:pt x="20793" y="7445"/>
                  <a:pt x="20711" y="7460"/>
                  <a:pt x="20662" y="7466"/>
                </a:cubicBezTo>
                <a:cubicBezTo>
                  <a:pt x="20634" y="7466"/>
                  <a:pt x="20624" y="7469"/>
                  <a:pt x="20613" y="74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1080" y="2536920"/>
            <a:ext cx="642960" cy="507960"/>
          </a:xfrm>
          <a:custGeom>
            <a:avLst/>
            <a:gdLst/>
            <a:ahLst/>
            <a:rect l="l" t="t" r="r" b="b"/>
            <a:pathLst>
              <a:path w="1787" h="1414">
                <a:moveTo>
                  <a:pt x="21853" y="7367"/>
                </a:moveTo>
                <a:cubicBezTo>
                  <a:pt x="21853" y="7441"/>
                  <a:pt x="21832" y="7495"/>
                  <a:pt x="21828" y="7565"/>
                </a:cubicBezTo>
                <a:cubicBezTo>
                  <a:pt x="21823" y="7650"/>
                  <a:pt x="21806" y="7730"/>
                  <a:pt x="21803" y="7813"/>
                </a:cubicBezTo>
                <a:cubicBezTo>
                  <a:pt x="21799" y="7915"/>
                  <a:pt x="21779" y="8007"/>
                  <a:pt x="21779" y="8111"/>
                </a:cubicBezTo>
                <a:cubicBezTo>
                  <a:pt x="21779" y="8185"/>
                  <a:pt x="21758" y="8239"/>
                  <a:pt x="21754" y="8310"/>
                </a:cubicBezTo>
                <a:cubicBezTo>
                  <a:pt x="21751" y="8370"/>
                  <a:pt x="21745" y="8414"/>
                  <a:pt x="21779" y="8458"/>
                </a:cubicBezTo>
              </a:path>
              <a:path w="1787" h="1414">
                <a:moveTo>
                  <a:pt x="22324" y="7045"/>
                </a:moveTo>
                <a:cubicBezTo>
                  <a:pt x="22287" y="7091"/>
                  <a:pt x="22253" y="7140"/>
                  <a:pt x="22225" y="7193"/>
                </a:cubicBezTo>
                <a:cubicBezTo>
                  <a:pt x="22175" y="7287"/>
                  <a:pt x="22136" y="7390"/>
                  <a:pt x="22101" y="7491"/>
                </a:cubicBezTo>
                <a:cubicBezTo>
                  <a:pt x="22064" y="7597"/>
                  <a:pt x="22032" y="7705"/>
                  <a:pt x="22002" y="7813"/>
                </a:cubicBezTo>
                <a:cubicBezTo>
                  <a:pt x="21972" y="7923"/>
                  <a:pt x="21944" y="8053"/>
                  <a:pt x="21977" y="8161"/>
                </a:cubicBezTo>
                <a:cubicBezTo>
                  <a:pt x="21997" y="8224"/>
                  <a:pt x="22045" y="8297"/>
                  <a:pt x="22101" y="8334"/>
                </a:cubicBezTo>
                <a:cubicBezTo>
                  <a:pt x="22157" y="8371"/>
                  <a:pt x="22220" y="8396"/>
                  <a:pt x="22275" y="8434"/>
                </a:cubicBezTo>
                <a:cubicBezTo>
                  <a:pt x="22323" y="8467"/>
                  <a:pt x="22309" y="8450"/>
                  <a:pt x="22374" y="8458"/>
                </a:cubicBezTo>
              </a:path>
              <a:path w="1787" h="1414">
                <a:moveTo>
                  <a:pt x="22448" y="7714"/>
                </a:moveTo>
                <a:cubicBezTo>
                  <a:pt x="22393" y="7770"/>
                  <a:pt x="22368" y="7768"/>
                  <a:pt x="22374" y="7813"/>
                </a:cubicBezTo>
                <a:cubicBezTo>
                  <a:pt x="22405" y="7854"/>
                  <a:pt x="22423" y="7883"/>
                  <a:pt x="22473" y="7913"/>
                </a:cubicBezTo>
                <a:cubicBezTo>
                  <a:pt x="22544" y="7956"/>
                  <a:pt x="22588" y="7977"/>
                  <a:pt x="22647" y="8037"/>
                </a:cubicBezTo>
                <a:cubicBezTo>
                  <a:pt x="22683" y="8074"/>
                  <a:pt x="22697" y="8126"/>
                  <a:pt x="22721" y="8161"/>
                </a:cubicBezTo>
                <a:cubicBezTo>
                  <a:pt x="22747" y="8200"/>
                  <a:pt x="22755" y="8234"/>
                  <a:pt x="22696" y="8260"/>
                </a:cubicBezTo>
                <a:cubicBezTo>
                  <a:pt x="22643" y="8284"/>
                  <a:pt x="22632" y="8266"/>
                  <a:pt x="22572" y="8260"/>
                </a:cubicBezTo>
                <a:cubicBezTo>
                  <a:pt x="22544" y="8260"/>
                  <a:pt x="22533" y="8258"/>
                  <a:pt x="22523" y="8235"/>
                </a:cubicBezTo>
              </a:path>
              <a:path w="1787" h="1414">
                <a:moveTo>
                  <a:pt x="22423" y="7764"/>
                </a:moveTo>
                <a:cubicBezTo>
                  <a:pt x="22423" y="7747"/>
                  <a:pt x="22423" y="7731"/>
                  <a:pt x="22423" y="7714"/>
                </a:cubicBezTo>
                <a:cubicBezTo>
                  <a:pt x="22447" y="7708"/>
                  <a:pt x="22501" y="7701"/>
                  <a:pt x="22523" y="7689"/>
                </a:cubicBezTo>
                <a:cubicBezTo>
                  <a:pt x="22575" y="7660"/>
                  <a:pt x="22613" y="7680"/>
                  <a:pt x="22671" y="7665"/>
                </a:cubicBezTo>
                <a:cubicBezTo>
                  <a:pt x="22729" y="7646"/>
                  <a:pt x="22736" y="7637"/>
                  <a:pt x="22771" y="7640"/>
                </a:cubicBezTo>
              </a:path>
              <a:path w="1787" h="1414">
                <a:moveTo>
                  <a:pt x="22944" y="7169"/>
                </a:moveTo>
                <a:cubicBezTo>
                  <a:pt x="22944" y="7212"/>
                  <a:pt x="22954" y="7255"/>
                  <a:pt x="22969" y="7293"/>
                </a:cubicBezTo>
                <a:cubicBezTo>
                  <a:pt x="22996" y="7360"/>
                  <a:pt x="23001" y="7423"/>
                  <a:pt x="23019" y="7491"/>
                </a:cubicBezTo>
                <a:cubicBezTo>
                  <a:pt x="23043" y="7583"/>
                  <a:pt x="23087" y="7673"/>
                  <a:pt x="23118" y="7764"/>
                </a:cubicBezTo>
                <a:cubicBezTo>
                  <a:pt x="23147" y="7851"/>
                  <a:pt x="23188" y="7942"/>
                  <a:pt x="23168" y="8037"/>
                </a:cubicBezTo>
                <a:cubicBezTo>
                  <a:pt x="23151" y="8119"/>
                  <a:pt x="23131" y="8185"/>
                  <a:pt x="23093" y="8260"/>
                </a:cubicBezTo>
                <a:cubicBezTo>
                  <a:pt x="23067" y="8313"/>
                  <a:pt x="23033" y="8366"/>
                  <a:pt x="22994" y="8409"/>
                </a:cubicBezTo>
                <a:cubicBezTo>
                  <a:pt x="22959" y="8448"/>
                  <a:pt x="22946" y="8458"/>
                  <a:pt x="22895" y="8458"/>
                </a:cubicBezTo>
              </a:path>
              <a:path w="1787" h="1414">
                <a:moveTo>
                  <a:pt x="23267" y="7119"/>
                </a:moveTo>
                <a:cubicBezTo>
                  <a:pt x="23267" y="7111"/>
                  <a:pt x="23267" y="7102"/>
                  <a:pt x="23267" y="7094"/>
                </a:cubicBezTo>
                <a:cubicBezTo>
                  <a:pt x="23267" y="7140"/>
                  <a:pt x="23247" y="7153"/>
                  <a:pt x="23242" y="7193"/>
                </a:cubicBezTo>
                <a:cubicBezTo>
                  <a:pt x="23237" y="7238"/>
                  <a:pt x="23217" y="7263"/>
                  <a:pt x="23217" y="7317"/>
                </a:cubicBezTo>
                <a:cubicBezTo>
                  <a:pt x="23217" y="7342"/>
                  <a:pt x="23217" y="7350"/>
                  <a:pt x="23217" y="7367"/>
                </a:cubicBezTo>
                <a:cubicBezTo>
                  <a:pt x="23248" y="7377"/>
                  <a:pt x="23251" y="7408"/>
                  <a:pt x="23292" y="7417"/>
                </a:cubicBezTo>
                <a:cubicBezTo>
                  <a:pt x="23345" y="7428"/>
                  <a:pt x="23394" y="7427"/>
                  <a:pt x="23440" y="7441"/>
                </a:cubicBezTo>
                <a:cubicBezTo>
                  <a:pt x="23460" y="7447"/>
                  <a:pt x="23494" y="7441"/>
                  <a:pt x="23515" y="7441"/>
                </a:cubicBezTo>
              </a:path>
              <a:path w="1787" h="1414">
                <a:moveTo>
                  <a:pt x="23540" y="7193"/>
                </a:moveTo>
                <a:cubicBezTo>
                  <a:pt x="23514" y="7285"/>
                  <a:pt x="23490" y="7347"/>
                  <a:pt x="23490" y="7441"/>
                </a:cubicBezTo>
                <a:cubicBezTo>
                  <a:pt x="23490" y="7491"/>
                  <a:pt x="23490" y="7540"/>
                  <a:pt x="23490" y="75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0840" y="4375080"/>
            <a:ext cx="4216320" cy="581040"/>
          </a:xfrm>
          <a:custGeom>
            <a:avLst/>
            <a:gdLst/>
            <a:ahLst/>
            <a:rect l="l" t="t" r="r" b="b"/>
            <a:pathLst>
              <a:path w="11709" h="1614">
                <a:moveTo>
                  <a:pt x="10170" y="12452"/>
                </a:moveTo>
                <a:cubicBezTo>
                  <a:pt x="10199" y="12491"/>
                  <a:pt x="10202" y="12531"/>
                  <a:pt x="10220" y="12576"/>
                </a:cubicBezTo>
                <a:cubicBezTo>
                  <a:pt x="10247" y="12645"/>
                  <a:pt x="10244" y="12699"/>
                  <a:pt x="10244" y="12774"/>
                </a:cubicBezTo>
                <a:cubicBezTo>
                  <a:pt x="10244" y="12887"/>
                  <a:pt x="10256" y="12992"/>
                  <a:pt x="10269" y="13097"/>
                </a:cubicBezTo>
                <a:cubicBezTo>
                  <a:pt x="10283" y="13207"/>
                  <a:pt x="10263" y="13325"/>
                  <a:pt x="10244" y="13419"/>
                </a:cubicBezTo>
                <a:cubicBezTo>
                  <a:pt x="10234" y="13471"/>
                  <a:pt x="10243" y="13484"/>
                  <a:pt x="10269" y="13519"/>
                </a:cubicBezTo>
              </a:path>
              <a:path w="11709" h="1614">
                <a:moveTo>
                  <a:pt x="10592" y="12725"/>
                </a:moveTo>
                <a:cubicBezTo>
                  <a:pt x="10635" y="12769"/>
                  <a:pt x="10639" y="12800"/>
                  <a:pt x="10666" y="12849"/>
                </a:cubicBezTo>
                <a:cubicBezTo>
                  <a:pt x="10707" y="12925"/>
                  <a:pt x="10704" y="13014"/>
                  <a:pt x="10740" y="13097"/>
                </a:cubicBezTo>
                <a:cubicBezTo>
                  <a:pt x="10783" y="13198"/>
                  <a:pt x="10806" y="13291"/>
                  <a:pt x="10840" y="13395"/>
                </a:cubicBezTo>
                <a:cubicBezTo>
                  <a:pt x="10852" y="13433"/>
                  <a:pt x="10911" y="13544"/>
                  <a:pt x="10939" y="13568"/>
                </a:cubicBezTo>
                <a:cubicBezTo>
                  <a:pt x="10947" y="13568"/>
                  <a:pt x="10956" y="13568"/>
                  <a:pt x="10964" y="13568"/>
                </a:cubicBezTo>
              </a:path>
              <a:path w="11709" h="1614">
                <a:moveTo>
                  <a:pt x="10964" y="12799"/>
                </a:moveTo>
                <a:cubicBezTo>
                  <a:pt x="10931" y="12857"/>
                  <a:pt x="10889" y="12909"/>
                  <a:pt x="10864" y="12973"/>
                </a:cubicBezTo>
                <a:cubicBezTo>
                  <a:pt x="10830" y="13061"/>
                  <a:pt x="10792" y="13169"/>
                  <a:pt x="10740" y="13246"/>
                </a:cubicBezTo>
                <a:cubicBezTo>
                  <a:pt x="10683" y="13330"/>
                  <a:pt x="10671" y="13374"/>
                  <a:pt x="10641" y="13469"/>
                </a:cubicBezTo>
                <a:cubicBezTo>
                  <a:pt x="10622" y="13528"/>
                  <a:pt x="10592" y="13532"/>
                  <a:pt x="10592" y="13593"/>
                </a:cubicBezTo>
              </a:path>
              <a:path w="11709" h="1614">
                <a:moveTo>
                  <a:pt x="11410" y="12179"/>
                </a:moveTo>
                <a:cubicBezTo>
                  <a:pt x="11391" y="12121"/>
                  <a:pt x="11375" y="12171"/>
                  <a:pt x="11336" y="12179"/>
                </a:cubicBezTo>
                <a:cubicBezTo>
                  <a:pt x="11281" y="12191"/>
                  <a:pt x="11248" y="12199"/>
                  <a:pt x="11212" y="12254"/>
                </a:cubicBezTo>
                <a:cubicBezTo>
                  <a:pt x="11182" y="12301"/>
                  <a:pt x="11162" y="12324"/>
                  <a:pt x="11162" y="12378"/>
                </a:cubicBezTo>
                <a:cubicBezTo>
                  <a:pt x="11162" y="12430"/>
                  <a:pt x="11216" y="12440"/>
                  <a:pt x="11261" y="12427"/>
                </a:cubicBezTo>
                <a:cubicBezTo>
                  <a:pt x="11325" y="12408"/>
                  <a:pt x="11363" y="12400"/>
                  <a:pt x="11410" y="12353"/>
                </a:cubicBezTo>
                <a:cubicBezTo>
                  <a:pt x="11456" y="12307"/>
                  <a:pt x="11444" y="12313"/>
                  <a:pt x="11435" y="12278"/>
                </a:cubicBezTo>
                <a:cubicBezTo>
                  <a:pt x="11428" y="12251"/>
                  <a:pt x="11381" y="12214"/>
                  <a:pt x="11336" y="12229"/>
                </a:cubicBezTo>
                <a:cubicBezTo>
                  <a:pt x="11328" y="12237"/>
                  <a:pt x="11319" y="12246"/>
                  <a:pt x="11311" y="12254"/>
                </a:cubicBezTo>
              </a:path>
              <a:path w="11709" h="1614">
                <a:moveTo>
                  <a:pt x="11187" y="12526"/>
                </a:moveTo>
                <a:cubicBezTo>
                  <a:pt x="11136" y="12582"/>
                  <a:pt x="11063" y="12649"/>
                  <a:pt x="11038" y="12725"/>
                </a:cubicBezTo>
                <a:cubicBezTo>
                  <a:pt x="11023" y="12770"/>
                  <a:pt x="11045" y="12808"/>
                  <a:pt x="11063" y="12824"/>
                </a:cubicBezTo>
                <a:cubicBezTo>
                  <a:pt x="11117" y="12871"/>
                  <a:pt x="11177" y="12814"/>
                  <a:pt x="11237" y="12774"/>
                </a:cubicBezTo>
                <a:cubicBezTo>
                  <a:pt x="11268" y="12753"/>
                  <a:pt x="11281" y="12748"/>
                  <a:pt x="11311" y="12725"/>
                </a:cubicBezTo>
                <a:cubicBezTo>
                  <a:pt x="11295" y="12677"/>
                  <a:pt x="11274" y="12692"/>
                  <a:pt x="11237" y="12700"/>
                </a:cubicBezTo>
                <a:cubicBezTo>
                  <a:pt x="11212" y="12700"/>
                  <a:pt x="11204" y="12700"/>
                  <a:pt x="11187" y="12700"/>
                </a:cubicBezTo>
              </a:path>
              <a:path w="11709" h="1614">
                <a:moveTo>
                  <a:pt x="11609" y="13072"/>
                </a:moveTo>
                <a:cubicBezTo>
                  <a:pt x="11670" y="13072"/>
                  <a:pt x="11688" y="13050"/>
                  <a:pt x="11757" y="13047"/>
                </a:cubicBezTo>
                <a:cubicBezTo>
                  <a:pt x="11808" y="13044"/>
                  <a:pt x="11909" y="13039"/>
                  <a:pt x="11956" y="13022"/>
                </a:cubicBezTo>
                <a:cubicBezTo>
                  <a:pt x="11993" y="13008"/>
                  <a:pt x="12009" y="12998"/>
                  <a:pt x="12055" y="12998"/>
                </a:cubicBezTo>
              </a:path>
              <a:path w="11709" h="1614">
                <a:moveTo>
                  <a:pt x="11782" y="12750"/>
                </a:moveTo>
                <a:cubicBezTo>
                  <a:pt x="11782" y="12902"/>
                  <a:pt x="11778" y="13052"/>
                  <a:pt x="11807" y="13196"/>
                </a:cubicBezTo>
                <a:cubicBezTo>
                  <a:pt x="11807" y="13204"/>
                  <a:pt x="11807" y="13213"/>
                  <a:pt x="11807" y="13221"/>
                </a:cubicBezTo>
              </a:path>
              <a:path w="11709" h="1614">
                <a:moveTo>
                  <a:pt x="12353" y="12626"/>
                </a:moveTo>
                <a:cubicBezTo>
                  <a:pt x="12391" y="12531"/>
                  <a:pt x="12381" y="12526"/>
                  <a:pt x="12477" y="12526"/>
                </a:cubicBezTo>
                <a:cubicBezTo>
                  <a:pt x="12531" y="12526"/>
                  <a:pt x="12550" y="12532"/>
                  <a:pt x="12601" y="12551"/>
                </a:cubicBezTo>
              </a:path>
              <a:path w="11709" h="1614">
                <a:moveTo>
                  <a:pt x="12675" y="12650"/>
                </a:moveTo>
                <a:cubicBezTo>
                  <a:pt x="12642" y="12767"/>
                  <a:pt x="12605" y="12830"/>
                  <a:pt x="12526" y="12923"/>
                </a:cubicBezTo>
                <a:cubicBezTo>
                  <a:pt x="12459" y="13002"/>
                  <a:pt x="12408" y="13083"/>
                  <a:pt x="12353" y="13171"/>
                </a:cubicBezTo>
                <a:cubicBezTo>
                  <a:pt x="12314" y="13233"/>
                  <a:pt x="12261" y="13296"/>
                  <a:pt x="12254" y="13370"/>
                </a:cubicBezTo>
                <a:cubicBezTo>
                  <a:pt x="12249" y="13420"/>
                  <a:pt x="12270" y="13460"/>
                  <a:pt x="12328" y="13469"/>
                </a:cubicBezTo>
                <a:cubicBezTo>
                  <a:pt x="12446" y="13487"/>
                  <a:pt x="12562" y="13460"/>
                  <a:pt x="12675" y="13444"/>
                </a:cubicBezTo>
                <a:cubicBezTo>
                  <a:pt x="12739" y="13435"/>
                  <a:pt x="12769" y="13452"/>
                  <a:pt x="12824" y="13419"/>
                </a:cubicBezTo>
              </a:path>
              <a:path w="11709" h="1614">
                <a:moveTo>
                  <a:pt x="13171" y="12601"/>
                </a:moveTo>
                <a:cubicBezTo>
                  <a:pt x="13063" y="12624"/>
                  <a:pt x="13009" y="12634"/>
                  <a:pt x="12923" y="12700"/>
                </a:cubicBezTo>
                <a:cubicBezTo>
                  <a:pt x="12850" y="12756"/>
                  <a:pt x="12817" y="12844"/>
                  <a:pt x="12774" y="12923"/>
                </a:cubicBezTo>
                <a:cubicBezTo>
                  <a:pt x="12736" y="12994"/>
                  <a:pt x="12703" y="13089"/>
                  <a:pt x="12725" y="13171"/>
                </a:cubicBezTo>
                <a:cubicBezTo>
                  <a:pt x="12736" y="13211"/>
                  <a:pt x="12791" y="13297"/>
                  <a:pt x="12824" y="13320"/>
                </a:cubicBezTo>
                <a:cubicBezTo>
                  <a:pt x="12869" y="13352"/>
                  <a:pt x="12969" y="13360"/>
                  <a:pt x="13022" y="13345"/>
                </a:cubicBezTo>
                <a:cubicBezTo>
                  <a:pt x="13141" y="13312"/>
                  <a:pt x="13214" y="13247"/>
                  <a:pt x="13271" y="13146"/>
                </a:cubicBezTo>
                <a:cubicBezTo>
                  <a:pt x="13309" y="13078"/>
                  <a:pt x="13301" y="13016"/>
                  <a:pt x="13271" y="12948"/>
                </a:cubicBezTo>
                <a:cubicBezTo>
                  <a:pt x="13239" y="12874"/>
                  <a:pt x="13192" y="12859"/>
                  <a:pt x="13122" y="12824"/>
                </a:cubicBezTo>
                <a:cubicBezTo>
                  <a:pt x="13100" y="12813"/>
                  <a:pt x="12982" y="12761"/>
                  <a:pt x="12973" y="12750"/>
                </a:cubicBezTo>
                <a:cubicBezTo>
                  <a:pt x="12973" y="12725"/>
                  <a:pt x="12973" y="12717"/>
                  <a:pt x="12948" y="12725"/>
                </a:cubicBezTo>
              </a:path>
              <a:path w="11709" h="1614">
                <a:moveTo>
                  <a:pt x="13469" y="12849"/>
                </a:moveTo>
                <a:cubicBezTo>
                  <a:pt x="13496" y="12941"/>
                  <a:pt x="13518" y="13034"/>
                  <a:pt x="13543" y="13122"/>
                </a:cubicBezTo>
                <a:cubicBezTo>
                  <a:pt x="13565" y="13198"/>
                  <a:pt x="13608" y="13274"/>
                  <a:pt x="13643" y="13345"/>
                </a:cubicBezTo>
                <a:cubicBezTo>
                  <a:pt x="13673" y="13405"/>
                  <a:pt x="13697" y="13470"/>
                  <a:pt x="13742" y="13519"/>
                </a:cubicBezTo>
                <a:cubicBezTo>
                  <a:pt x="13764" y="13541"/>
                  <a:pt x="13769" y="13549"/>
                  <a:pt x="13791" y="13543"/>
                </a:cubicBezTo>
              </a:path>
              <a:path w="11709" h="1614">
                <a:moveTo>
                  <a:pt x="13767" y="12898"/>
                </a:moveTo>
                <a:cubicBezTo>
                  <a:pt x="13738" y="12976"/>
                  <a:pt x="13704" y="13047"/>
                  <a:pt x="13667" y="13122"/>
                </a:cubicBezTo>
                <a:cubicBezTo>
                  <a:pt x="13628" y="13201"/>
                  <a:pt x="13609" y="13293"/>
                  <a:pt x="13568" y="13370"/>
                </a:cubicBezTo>
                <a:cubicBezTo>
                  <a:pt x="13519" y="13461"/>
                  <a:pt x="13456" y="13545"/>
                  <a:pt x="13419" y="13643"/>
                </a:cubicBezTo>
                <a:cubicBezTo>
                  <a:pt x="13419" y="13651"/>
                  <a:pt x="13419" y="13659"/>
                  <a:pt x="13419" y="13667"/>
                </a:cubicBezTo>
              </a:path>
              <a:path w="11709" h="1614">
                <a:moveTo>
                  <a:pt x="14089" y="12402"/>
                </a:moveTo>
                <a:cubicBezTo>
                  <a:pt x="14089" y="12394"/>
                  <a:pt x="14089" y="12386"/>
                  <a:pt x="14089" y="12378"/>
                </a:cubicBezTo>
                <a:cubicBezTo>
                  <a:pt x="14051" y="12387"/>
                  <a:pt x="14014" y="12415"/>
                  <a:pt x="13990" y="12452"/>
                </a:cubicBezTo>
                <a:cubicBezTo>
                  <a:pt x="13962" y="12496"/>
                  <a:pt x="13879" y="12583"/>
                  <a:pt x="13866" y="12626"/>
                </a:cubicBezTo>
                <a:cubicBezTo>
                  <a:pt x="13855" y="12664"/>
                  <a:pt x="13804" y="12809"/>
                  <a:pt x="13816" y="12849"/>
                </a:cubicBezTo>
                <a:cubicBezTo>
                  <a:pt x="13826" y="12882"/>
                  <a:pt x="13855" y="12920"/>
                  <a:pt x="13891" y="12923"/>
                </a:cubicBezTo>
                <a:cubicBezTo>
                  <a:pt x="13947" y="12927"/>
                  <a:pt x="13997" y="12931"/>
                  <a:pt x="14039" y="12898"/>
                </a:cubicBezTo>
                <a:cubicBezTo>
                  <a:pt x="14067" y="12876"/>
                  <a:pt x="14172" y="12816"/>
                  <a:pt x="14163" y="12774"/>
                </a:cubicBezTo>
                <a:cubicBezTo>
                  <a:pt x="14155" y="12766"/>
                  <a:pt x="14147" y="12758"/>
                  <a:pt x="14139" y="12750"/>
                </a:cubicBezTo>
                <a:cubicBezTo>
                  <a:pt x="14089" y="12725"/>
                  <a:pt x="14073" y="12757"/>
                  <a:pt x="14015" y="12774"/>
                </a:cubicBezTo>
                <a:cubicBezTo>
                  <a:pt x="13980" y="12784"/>
                  <a:pt x="13910" y="12832"/>
                  <a:pt x="13891" y="12874"/>
                </a:cubicBezTo>
                <a:cubicBezTo>
                  <a:pt x="13891" y="12882"/>
                  <a:pt x="13891" y="12890"/>
                  <a:pt x="13891" y="12898"/>
                </a:cubicBezTo>
              </a:path>
              <a:path w="11709" h="1614">
                <a:moveTo>
                  <a:pt x="14238" y="13171"/>
                </a:moveTo>
                <a:cubicBezTo>
                  <a:pt x="14284" y="13171"/>
                  <a:pt x="14297" y="13193"/>
                  <a:pt x="14337" y="13196"/>
                </a:cubicBezTo>
                <a:cubicBezTo>
                  <a:pt x="14449" y="13204"/>
                  <a:pt x="14556" y="13197"/>
                  <a:pt x="14660" y="13171"/>
                </a:cubicBezTo>
                <a:cubicBezTo>
                  <a:pt x="14684" y="13171"/>
                  <a:pt x="14693" y="13171"/>
                  <a:pt x="14709" y="13171"/>
                </a:cubicBezTo>
                <a:cubicBezTo>
                  <a:pt x="14709" y="13129"/>
                  <a:pt x="14719" y="13133"/>
                  <a:pt x="14684" y="13122"/>
                </a:cubicBezTo>
              </a:path>
              <a:path w="11709" h="1614">
                <a:moveTo>
                  <a:pt x="14436" y="12998"/>
                </a:moveTo>
                <a:cubicBezTo>
                  <a:pt x="14464" y="13044"/>
                  <a:pt x="14478" y="13138"/>
                  <a:pt x="14486" y="13196"/>
                </a:cubicBezTo>
                <a:cubicBezTo>
                  <a:pt x="14492" y="13243"/>
                  <a:pt x="14486" y="13297"/>
                  <a:pt x="14486" y="13345"/>
                </a:cubicBezTo>
              </a:path>
              <a:path w="11709" h="1614">
                <a:moveTo>
                  <a:pt x="14957" y="12799"/>
                </a:moveTo>
                <a:cubicBezTo>
                  <a:pt x="14938" y="12889"/>
                  <a:pt x="14952" y="12985"/>
                  <a:pt x="14932" y="13072"/>
                </a:cubicBezTo>
                <a:cubicBezTo>
                  <a:pt x="14916" y="13142"/>
                  <a:pt x="14927" y="13227"/>
                  <a:pt x="14908" y="13295"/>
                </a:cubicBezTo>
                <a:cubicBezTo>
                  <a:pt x="14890" y="13359"/>
                  <a:pt x="14883" y="13400"/>
                  <a:pt x="14883" y="13469"/>
                </a:cubicBezTo>
                <a:cubicBezTo>
                  <a:pt x="14883" y="13497"/>
                  <a:pt x="14885" y="13508"/>
                  <a:pt x="14908" y="13519"/>
                </a:cubicBezTo>
              </a:path>
              <a:path w="11709" h="1614">
                <a:moveTo>
                  <a:pt x="15304" y="12799"/>
                </a:moveTo>
                <a:cubicBezTo>
                  <a:pt x="15252" y="12759"/>
                  <a:pt x="15257" y="12777"/>
                  <a:pt x="15205" y="12799"/>
                </a:cubicBezTo>
                <a:cubicBezTo>
                  <a:pt x="15181" y="12809"/>
                  <a:pt x="15070" y="12849"/>
                  <a:pt x="15081" y="12898"/>
                </a:cubicBezTo>
                <a:cubicBezTo>
                  <a:pt x="15097" y="12967"/>
                  <a:pt x="15139" y="12995"/>
                  <a:pt x="15180" y="13047"/>
                </a:cubicBezTo>
                <a:cubicBezTo>
                  <a:pt x="15233" y="13113"/>
                  <a:pt x="15304" y="13177"/>
                  <a:pt x="15354" y="13246"/>
                </a:cubicBezTo>
                <a:cubicBezTo>
                  <a:pt x="15402" y="13312"/>
                  <a:pt x="15435" y="13366"/>
                  <a:pt x="15453" y="13444"/>
                </a:cubicBezTo>
                <a:cubicBezTo>
                  <a:pt x="15468" y="13509"/>
                  <a:pt x="15406" y="13505"/>
                  <a:pt x="15379" y="13519"/>
                </a:cubicBezTo>
                <a:cubicBezTo>
                  <a:pt x="15312" y="13554"/>
                  <a:pt x="15293" y="13531"/>
                  <a:pt x="15230" y="13519"/>
                </a:cubicBezTo>
                <a:cubicBezTo>
                  <a:pt x="15164" y="13506"/>
                  <a:pt x="15156" y="13494"/>
                  <a:pt x="15106" y="13444"/>
                </a:cubicBezTo>
              </a:path>
              <a:path w="11709" h="1614">
                <a:moveTo>
                  <a:pt x="15205" y="12799"/>
                </a:moveTo>
                <a:cubicBezTo>
                  <a:pt x="15213" y="12776"/>
                  <a:pt x="15247" y="12761"/>
                  <a:pt x="15280" y="12750"/>
                </a:cubicBezTo>
                <a:cubicBezTo>
                  <a:pt x="15328" y="12734"/>
                  <a:pt x="15403" y="12728"/>
                  <a:pt x="15453" y="12725"/>
                </a:cubicBezTo>
                <a:cubicBezTo>
                  <a:pt x="15502" y="12722"/>
                  <a:pt x="15553" y="12725"/>
                  <a:pt x="15602" y="12725"/>
                </a:cubicBezTo>
              </a:path>
              <a:path w="11709" h="1614">
                <a:moveTo>
                  <a:pt x="15875" y="12725"/>
                </a:moveTo>
                <a:cubicBezTo>
                  <a:pt x="15838" y="12734"/>
                  <a:pt x="15806" y="12748"/>
                  <a:pt x="15776" y="12774"/>
                </a:cubicBezTo>
                <a:cubicBezTo>
                  <a:pt x="15727" y="12817"/>
                  <a:pt x="15686" y="12841"/>
                  <a:pt x="15652" y="12898"/>
                </a:cubicBezTo>
                <a:cubicBezTo>
                  <a:pt x="15595" y="12993"/>
                  <a:pt x="15561" y="13101"/>
                  <a:pt x="15528" y="13196"/>
                </a:cubicBezTo>
                <a:cubicBezTo>
                  <a:pt x="15501" y="13275"/>
                  <a:pt x="15502" y="13340"/>
                  <a:pt x="15528" y="13419"/>
                </a:cubicBezTo>
                <a:cubicBezTo>
                  <a:pt x="15547" y="13477"/>
                  <a:pt x="15597" y="13545"/>
                  <a:pt x="15652" y="13568"/>
                </a:cubicBezTo>
                <a:cubicBezTo>
                  <a:pt x="15714" y="13593"/>
                  <a:pt x="15746" y="13598"/>
                  <a:pt x="15801" y="13568"/>
                </a:cubicBezTo>
                <a:cubicBezTo>
                  <a:pt x="15856" y="13538"/>
                  <a:pt x="15913" y="13498"/>
                  <a:pt x="15949" y="13444"/>
                </a:cubicBezTo>
                <a:cubicBezTo>
                  <a:pt x="15992" y="13380"/>
                  <a:pt x="15974" y="13295"/>
                  <a:pt x="15974" y="13221"/>
                </a:cubicBezTo>
                <a:cubicBezTo>
                  <a:pt x="15974" y="13131"/>
                  <a:pt x="15940" y="13078"/>
                  <a:pt x="15900" y="12998"/>
                </a:cubicBezTo>
                <a:cubicBezTo>
                  <a:pt x="15875" y="12949"/>
                  <a:pt x="15825" y="12878"/>
                  <a:pt x="15776" y="12849"/>
                </a:cubicBezTo>
                <a:cubicBezTo>
                  <a:pt x="15743" y="12830"/>
                  <a:pt x="15710" y="12825"/>
                  <a:pt x="15677" y="12799"/>
                </a:cubicBezTo>
              </a:path>
              <a:path w="11709" h="1614">
                <a:moveTo>
                  <a:pt x="16098" y="12998"/>
                </a:moveTo>
                <a:cubicBezTo>
                  <a:pt x="16123" y="13030"/>
                  <a:pt x="16150" y="13060"/>
                  <a:pt x="16173" y="13097"/>
                </a:cubicBezTo>
                <a:cubicBezTo>
                  <a:pt x="16209" y="13153"/>
                  <a:pt x="16230" y="13220"/>
                  <a:pt x="16272" y="13271"/>
                </a:cubicBezTo>
                <a:cubicBezTo>
                  <a:pt x="16311" y="13319"/>
                  <a:pt x="16362" y="13367"/>
                  <a:pt x="16396" y="13419"/>
                </a:cubicBezTo>
                <a:cubicBezTo>
                  <a:pt x="16428" y="13468"/>
                  <a:pt x="16418" y="13481"/>
                  <a:pt x="16470" y="13494"/>
                </a:cubicBezTo>
                <a:cubicBezTo>
                  <a:pt x="16470" y="13519"/>
                  <a:pt x="16470" y="13527"/>
                  <a:pt x="16495" y="13519"/>
                </a:cubicBezTo>
              </a:path>
              <a:path w="11709" h="1614">
                <a:moveTo>
                  <a:pt x="16421" y="13022"/>
                </a:moveTo>
                <a:cubicBezTo>
                  <a:pt x="16408" y="13075"/>
                  <a:pt x="16352" y="13177"/>
                  <a:pt x="16321" y="13221"/>
                </a:cubicBezTo>
                <a:cubicBezTo>
                  <a:pt x="16273" y="13290"/>
                  <a:pt x="16214" y="13345"/>
                  <a:pt x="16173" y="13419"/>
                </a:cubicBezTo>
                <a:cubicBezTo>
                  <a:pt x="16149" y="13463"/>
                  <a:pt x="16109" y="13499"/>
                  <a:pt x="16098" y="13543"/>
                </a:cubicBezTo>
              </a:path>
              <a:path w="11709" h="1614">
                <a:moveTo>
                  <a:pt x="16446" y="12626"/>
                </a:moveTo>
                <a:cubicBezTo>
                  <a:pt x="16446" y="12685"/>
                  <a:pt x="16431" y="12729"/>
                  <a:pt x="16421" y="12774"/>
                </a:cubicBezTo>
                <a:cubicBezTo>
                  <a:pt x="16412" y="12818"/>
                  <a:pt x="16406" y="12835"/>
                  <a:pt x="16396" y="12874"/>
                </a:cubicBezTo>
                <a:cubicBezTo>
                  <a:pt x="16433" y="12886"/>
                  <a:pt x="16418" y="12898"/>
                  <a:pt x="16470" y="12898"/>
                </a:cubicBezTo>
                <a:cubicBezTo>
                  <a:pt x="16525" y="12898"/>
                  <a:pt x="16653" y="12920"/>
                  <a:pt x="16669" y="12874"/>
                </a:cubicBezTo>
              </a:path>
              <a:path w="11709" h="1614">
                <a:moveTo>
                  <a:pt x="16619" y="12576"/>
                </a:moveTo>
                <a:cubicBezTo>
                  <a:pt x="16619" y="12700"/>
                  <a:pt x="16619" y="12824"/>
                  <a:pt x="16619" y="12948"/>
                </a:cubicBezTo>
              </a:path>
              <a:path w="11709" h="1614">
                <a:moveTo>
                  <a:pt x="16991" y="13246"/>
                </a:moveTo>
                <a:cubicBezTo>
                  <a:pt x="17033" y="13278"/>
                  <a:pt x="17059" y="13271"/>
                  <a:pt x="17115" y="13271"/>
                </a:cubicBezTo>
                <a:cubicBezTo>
                  <a:pt x="17206" y="13271"/>
                  <a:pt x="17297" y="13271"/>
                  <a:pt x="17388" y="13271"/>
                </a:cubicBezTo>
              </a:path>
              <a:path w="11709" h="1614">
                <a:moveTo>
                  <a:pt x="17165" y="13022"/>
                </a:moveTo>
                <a:cubicBezTo>
                  <a:pt x="17156" y="13086"/>
                  <a:pt x="17140" y="13125"/>
                  <a:pt x="17140" y="13196"/>
                </a:cubicBezTo>
                <a:cubicBezTo>
                  <a:pt x="17140" y="13295"/>
                  <a:pt x="17140" y="13395"/>
                  <a:pt x="17140" y="13494"/>
                </a:cubicBezTo>
              </a:path>
              <a:path w="11709" h="1614">
                <a:moveTo>
                  <a:pt x="17760" y="13072"/>
                </a:moveTo>
                <a:cubicBezTo>
                  <a:pt x="17766" y="13027"/>
                  <a:pt x="17789" y="12987"/>
                  <a:pt x="17760" y="12973"/>
                </a:cubicBezTo>
                <a:cubicBezTo>
                  <a:pt x="17720" y="12953"/>
                  <a:pt x="17688" y="12989"/>
                  <a:pt x="17661" y="12998"/>
                </a:cubicBezTo>
                <a:cubicBezTo>
                  <a:pt x="17614" y="13014"/>
                  <a:pt x="17566" y="13012"/>
                  <a:pt x="17562" y="13072"/>
                </a:cubicBezTo>
                <a:cubicBezTo>
                  <a:pt x="17555" y="13165"/>
                  <a:pt x="17572" y="13203"/>
                  <a:pt x="17636" y="13271"/>
                </a:cubicBezTo>
                <a:cubicBezTo>
                  <a:pt x="17699" y="13338"/>
                  <a:pt x="17760" y="13393"/>
                  <a:pt x="17810" y="13469"/>
                </a:cubicBezTo>
                <a:cubicBezTo>
                  <a:pt x="17840" y="13515"/>
                  <a:pt x="17920" y="13614"/>
                  <a:pt x="17934" y="13667"/>
                </a:cubicBezTo>
                <a:cubicBezTo>
                  <a:pt x="17949" y="13722"/>
                  <a:pt x="17900" y="13753"/>
                  <a:pt x="17859" y="13767"/>
                </a:cubicBezTo>
                <a:cubicBezTo>
                  <a:pt x="17835" y="13775"/>
                  <a:pt x="17705" y="13736"/>
                  <a:pt x="17686" y="13717"/>
                </a:cubicBezTo>
                <a:cubicBezTo>
                  <a:pt x="17678" y="13700"/>
                  <a:pt x="17669" y="13684"/>
                  <a:pt x="17661" y="13667"/>
                </a:cubicBezTo>
              </a:path>
              <a:path w="11709" h="1614">
                <a:moveTo>
                  <a:pt x="17611" y="13022"/>
                </a:moveTo>
                <a:cubicBezTo>
                  <a:pt x="17667" y="12967"/>
                  <a:pt x="17700" y="12953"/>
                  <a:pt x="17760" y="12923"/>
                </a:cubicBezTo>
                <a:cubicBezTo>
                  <a:pt x="17814" y="12896"/>
                  <a:pt x="17895" y="12860"/>
                  <a:pt x="17959" y="12849"/>
                </a:cubicBezTo>
                <a:cubicBezTo>
                  <a:pt x="18000" y="12849"/>
                  <a:pt x="18008" y="12849"/>
                  <a:pt x="18033" y="12849"/>
                </a:cubicBezTo>
              </a:path>
              <a:path w="11709" h="1614">
                <a:moveTo>
                  <a:pt x="18182" y="12998"/>
                </a:moveTo>
                <a:cubicBezTo>
                  <a:pt x="18103" y="13072"/>
                  <a:pt x="18018" y="13132"/>
                  <a:pt x="17959" y="13221"/>
                </a:cubicBezTo>
                <a:cubicBezTo>
                  <a:pt x="17918" y="13283"/>
                  <a:pt x="17913" y="13396"/>
                  <a:pt x="17909" y="13469"/>
                </a:cubicBezTo>
                <a:cubicBezTo>
                  <a:pt x="17905" y="13550"/>
                  <a:pt x="17902" y="13606"/>
                  <a:pt x="17959" y="13667"/>
                </a:cubicBezTo>
                <a:cubicBezTo>
                  <a:pt x="18033" y="13747"/>
                  <a:pt x="18078" y="13742"/>
                  <a:pt x="18182" y="13742"/>
                </a:cubicBezTo>
                <a:cubicBezTo>
                  <a:pt x="18256" y="13742"/>
                  <a:pt x="18312" y="13704"/>
                  <a:pt x="18355" y="13643"/>
                </a:cubicBezTo>
                <a:cubicBezTo>
                  <a:pt x="18363" y="13626"/>
                  <a:pt x="18372" y="13610"/>
                  <a:pt x="18380" y="13593"/>
                </a:cubicBezTo>
              </a:path>
              <a:path w="11709" h="1614">
                <a:moveTo>
                  <a:pt x="18331" y="13196"/>
                </a:moveTo>
                <a:cubicBezTo>
                  <a:pt x="18307" y="13158"/>
                  <a:pt x="18224" y="13051"/>
                  <a:pt x="18207" y="12998"/>
                </a:cubicBezTo>
                <a:cubicBezTo>
                  <a:pt x="18207" y="12990"/>
                  <a:pt x="18207" y="12981"/>
                  <a:pt x="18207" y="12973"/>
                </a:cubicBezTo>
              </a:path>
              <a:path w="11709" h="1614">
                <a:moveTo>
                  <a:pt x="18554" y="12849"/>
                </a:moveTo>
                <a:cubicBezTo>
                  <a:pt x="18487" y="12859"/>
                  <a:pt x="18478" y="12875"/>
                  <a:pt x="18430" y="12923"/>
                </a:cubicBezTo>
                <a:cubicBezTo>
                  <a:pt x="18387" y="12966"/>
                  <a:pt x="18347" y="13012"/>
                  <a:pt x="18331" y="13072"/>
                </a:cubicBezTo>
                <a:cubicBezTo>
                  <a:pt x="18308" y="13156"/>
                  <a:pt x="18284" y="13304"/>
                  <a:pt x="18306" y="13395"/>
                </a:cubicBezTo>
                <a:cubicBezTo>
                  <a:pt x="18325" y="13473"/>
                  <a:pt x="18376" y="13523"/>
                  <a:pt x="18430" y="13568"/>
                </a:cubicBezTo>
                <a:cubicBezTo>
                  <a:pt x="18491" y="13618"/>
                  <a:pt x="18527" y="13618"/>
                  <a:pt x="18604" y="13618"/>
                </a:cubicBezTo>
                <a:cubicBezTo>
                  <a:pt x="18651" y="13618"/>
                  <a:pt x="18743" y="13580"/>
                  <a:pt x="18777" y="13543"/>
                </a:cubicBezTo>
                <a:cubicBezTo>
                  <a:pt x="18829" y="13488"/>
                  <a:pt x="18827" y="13414"/>
                  <a:pt x="18827" y="13345"/>
                </a:cubicBezTo>
                <a:cubicBezTo>
                  <a:pt x="18827" y="13254"/>
                  <a:pt x="18829" y="13177"/>
                  <a:pt x="18777" y="13097"/>
                </a:cubicBezTo>
                <a:cubicBezTo>
                  <a:pt x="18739" y="13038"/>
                  <a:pt x="18680" y="13012"/>
                  <a:pt x="18628" y="12973"/>
                </a:cubicBezTo>
                <a:cubicBezTo>
                  <a:pt x="18594" y="12947"/>
                  <a:pt x="18570" y="12930"/>
                  <a:pt x="18554" y="12898"/>
                </a:cubicBezTo>
              </a:path>
              <a:path w="11709" h="1614">
                <a:moveTo>
                  <a:pt x="19050" y="13146"/>
                </a:moveTo>
                <a:cubicBezTo>
                  <a:pt x="19050" y="13190"/>
                  <a:pt x="19059" y="13232"/>
                  <a:pt x="19075" y="13271"/>
                </a:cubicBezTo>
                <a:cubicBezTo>
                  <a:pt x="19100" y="13333"/>
                  <a:pt x="19098" y="13412"/>
                  <a:pt x="19124" y="13469"/>
                </a:cubicBezTo>
                <a:cubicBezTo>
                  <a:pt x="19143" y="13510"/>
                  <a:pt x="19185" y="13552"/>
                  <a:pt x="19199" y="13593"/>
                </a:cubicBezTo>
                <a:cubicBezTo>
                  <a:pt x="19199" y="13618"/>
                  <a:pt x="19199" y="13626"/>
                  <a:pt x="19224" y="13618"/>
                </a:cubicBezTo>
              </a:path>
              <a:path w="11709" h="1614">
                <a:moveTo>
                  <a:pt x="19298" y="13097"/>
                </a:moveTo>
                <a:cubicBezTo>
                  <a:pt x="19248" y="13175"/>
                  <a:pt x="19202" y="13232"/>
                  <a:pt x="19149" y="13295"/>
                </a:cubicBezTo>
                <a:cubicBezTo>
                  <a:pt x="19090" y="13365"/>
                  <a:pt x="19020" y="13440"/>
                  <a:pt x="18976" y="13519"/>
                </a:cubicBezTo>
                <a:cubicBezTo>
                  <a:pt x="18949" y="13567"/>
                  <a:pt x="18897" y="13603"/>
                  <a:pt x="18926" y="13618"/>
                </a:cubicBezTo>
              </a:path>
              <a:path w="11709" h="1614">
                <a:moveTo>
                  <a:pt x="19323" y="12601"/>
                </a:moveTo>
                <a:cubicBezTo>
                  <a:pt x="19363" y="12581"/>
                  <a:pt x="19422" y="12533"/>
                  <a:pt x="19472" y="12551"/>
                </a:cubicBezTo>
                <a:cubicBezTo>
                  <a:pt x="19538" y="12575"/>
                  <a:pt x="19583" y="12602"/>
                  <a:pt x="19621" y="12650"/>
                </a:cubicBezTo>
                <a:cubicBezTo>
                  <a:pt x="19652" y="12689"/>
                  <a:pt x="19620" y="12729"/>
                  <a:pt x="19596" y="12774"/>
                </a:cubicBezTo>
                <a:cubicBezTo>
                  <a:pt x="19560" y="12841"/>
                  <a:pt x="19503" y="12876"/>
                  <a:pt x="19447" y="12923"/>
                </a:cubicBezTo>
                <a:cubicBezTo>
                  <a:pt x="19420" y="12945"/>
                  <a:pt x="19362" y="13014"/>
                  <a:pt x="19348" y="13047"/>
                </a:cubicBezTo>
                <a:cubicBezTo>
                  <a:pt x="19333" y="13083"/>
                  <a:pt x="19366" y="13115"/>
                  <a:pt x="19397" y="13122"/>
                </a:cubicBezTo>
                <a:cubicBezTo>
                  <a:pt x="19453" y="13134"/>
                  <a:pt x="19513" y="13140"/>
                  <a:pt x="19571" y="13146"/>
                </a:cubicBezTo>
              </a:path>
              <a:path w="11709" h="1614">
                <a:moveTo>
                  <a:pt x="19745" y="13271"/>
                </a:moveTo>
                <a:cubicBezTo>
                  <a:pt x="19782" y="13266"/>
                  <a:pt x="19858" y="13261"/>
                  <a:pt x="19893" y="13246"/>
                </a:cubicBezTo>
                <a:cubicBezTo>
                  <a:pt x="19927" y="13231"/>
                  <a:pt x="19986" y="13237"/>
                  <a:pt x="20017" y="13221"/>
                </a:cubicBezTo>
                <a:cubicBezTo>
                  <a:pt x="20053" y="13203"/>
                  <a:pt x="20084" y="13196"/>
                  <a:pt x="20117" y="13171"/>
                </a:cubicBezTo>
              </a:path>
              <a:path w="11709" h="1614">
                <a:moveTo>
                  <a:pt x="19968" y="12973"/>
                </a:moveTo>
                <a:cubicBezTo>
                  <a:pt x="19968" y="13043"/>
                  <a:pt x="19954" y="13083"/>
                  <a:pt x="19943" y="13146"/>
                </a:cubicBezTo>
                <a:cubicBezTo>
                  <a:pt x="19926" y="13242"/>
                  <a:pt x="19930" y="13381"/>
                  <a:pt x="19968" y="13469"/>
                </a:cubicBezTo>
              </a:path>
              <a:path w="11709" h="1614">
                <a:moveTo>
                  <a:pt x="20588" y="12675"/>
                </a:moveTo>
                <a:cubicBezTo>
                  <a:pt x="20487" y="12685"/>
                  <a:pt x="20478" y="12698"/>
                  <a:pt x="20414" y="12774"/>
                </a:cubicBezTo>
                <a:cubicBezTo>
                  <a:pt x="20360" y="12838"/>
                  <a:pt x="20326" y="12899"/>
                  <a:pt x="20290" y="12973"/>
                </a:cubicBezTo>
                <a:cubicBezTo>
                  <a:pt x="20256" y="13044"/>
                  <a:pt x="20244" y="13141"/>
                  <a:pt x="20241" y="13221"/>
                </a:cubicBezTo>
                <a:cubicBezTo>
                  <a:pt x="20238" y="13302"/>
                  <a:pt x="20237" y="13377"/>
                  <a:pt x="20290" y="13444"/>
                </a:cubicBezTo>
                <a:cubicBezTo>
                  <a:pt x="20333" y="13499"/>
                  <a:pt x="20389" y="13602"/>
                  <a:pt x="20464" y="13618"/>
                </a:cubicBezTo>
                <a:cubicBezTo>
                  <a:pt x="20520" y="13630"/>
                  <a:pt x="20627" y="13660"/>
                  <a:pt x="20687" y="13643"/>
                </a:cubicBezTo>
                <a:cubicBezTo>
                  <a:pt x="20717" y="13635"/>
                  <a:pt x="20847" y="13572"/>
                  <a:pt x="20861" y="13543"/>
                </a:cubicBezTo>
                <a:cubicBezTo>
                  <a:pt x="20880" y="13506"/>
                  <a:pt x="20904" y="13368"/>
                  <a:pt x="20886" y="13320"/>
                </a:cubicBezTo>
                <a:cubicBezTo>
                  <a:pt x="20858" y="13248"/>
                  <a:pt x="20794" y="13236"/>
                  <a:pt x="20737" y="13196"/>
                </a:cubicBezTo>
                <a:cubicBezTo>
                  <a:pt x="20631" y="13122"/>
                  <a:pt x="20563" y="13146"/>
                  <a:pt x="20464" y="13196"/>
                </a:cubicBezTo>
                <a:cubicBezTo>
                  <a:pt x="20409" y="13224"/>
                  <a:pt x="20350" y="13267"/>
                  <a:pt x="20315" y="13320"/>
                </a:cubicBezTo>
                <a:cubicBezTo>
                  <a:pt x="20285" y="13365"/>
                  <a:pt x="20290" y="13395"/>
                  <a:pt x="20290" y="13444"/>
                </a:cubicBezTo>
              </a:path>
              <a:path w="11709" h="1614">
                <a:moveTo>
                  <a:pt x="20811" y="12700"/>
                </a:moveTo>
                <a:cubicBezTo>
                  <a:pt x="20875" y="12672"/>
                  <a:pt x="20963" y="12656"/>
                  <a:pt x="21034" y="12675"/>
                </a:cubicBezTo>
                <a:cubicBezTo>
                  <a:pt x="21057" y="12681"/>
                  <a:pt x="21150" y="12744"/>
                  <a:pt x="21158" y="12774"/>
                </a:cubicBezTo>
                <a:cubicBezTo>
                  <a:pt x="21175" y="12835"/>
                  <a:pt x="21158" y="12919"/>
                  <a:pt x="21134" y="12973"/>
                </a:cubicBezTo>
                <a:cubicBezTo>
                  <a:pt x="21097" y="13056"/>
                  <a:pt x="21060" y="13150"/>
                  <a:pt x="21010" y="13221"/>
                </a:cubicBezTo>
                <a:cubicBezTo>
                  <a:pt x="20954" y="13300"/>
                  <a:pt x="20919" y="13356"/>
                  <a:pt x="20886" y="13444"/>
                </a:cubicBezTo>
                <a:cubicBezTo>
                  <a:pt x="20859" y="13518"/>
                  <a:pt x="20851" y="13551"/>
                  <a:pt x="20886" y="13618"/>
                </a:cubicBezTo>
                <a:cubicBezTo>
                  <a:pt x="20913" y="13669"/>
                  <a:pt x="20947" y="13727"/>
                  <a:pt x="21010" y="13742"/>
                </a:cubicBezTo>
                <a:cubicBezTo>
                  <a:pt x="21099" y="13763"/>
                  <a:pt x="21226" y="13744"/>
                  <a:pt x="21307" y="13717"/>
                </a:cubicBezTo>
              </a:path>
              <a:path w="11709" h="1614">
                <a:moveTo>
                  <a:pt x="21654" y="12799"/>
                </a:moveTo>
                <a:cubicBezTo>
                  <a:pt x="21557" y="12799"/>
                  <a:pt x="21561" y="12806"/>
                  <a:pt x="21481" y="12849"/>
                </a:cubicBezTo>
                <a:cubicBezTo>
                  <a:pt x="21418" y="12882"/>
                  <a:pt x="21386" y="12912"/>
                  <a:pt x="21357" y="12973"/>
                </a:cubicBezTo>
                <a:cubicBezTo>
                  <a:pt x="21327" y="13037"/>
                  <a:pt x="21367" y="13081"/>
                  <a:pt x="21406" y="13146"/>
                </a:cubicBezTo>
                <a:cubicBezTo>
                  <a:pt x="21465" y="13243"/>
                  <a:pt x="21575" y="13280"/>
                  <a:pt x="21630" y="13370"/>
                </a:cubicBezTo>
                <a:cubicBezTo>
                  <a:pt x="21672" y="13439"/>
                  <a:pt x="21723" y="13521"/>
                  <a:pt x="21754" y="13593"/>
                </a:cubicBezTo>
                <a:cubicBezTo>
                  <a:pt x="21794" y="13684"/>
                  <a:pt x="21775" y="13663"/>
                  <a:pt x="21704" y="13717"/>
                </a:cubicBezTo>
                <a:cubicBezTo>
                  <a:pt x="21659" y="13751"/>
                  <a:pt x="21602" y="13718"/>
                  <a:pt x="21555" y="13692"/>
                </a:cubicBezTo>
                <a:cubicBezTo>
                  <a:pt x="21506" y="13667"/>
                  <a:pt x="21489" y="13659"/>
                  <a:pt x="21456" y="13643"/>
                </a:cubicBezTo>
              </a:path>
              <a:path w="11709" h="1614">
                <a:moveTo>
                  <a:pt x="21654" y="12750"/>
                </a:moveTo>
                <a:cubicBezTo>
                  <a:pt x="21696" y="12734"/>
                  <a:pt x="21755" y="12708"/>
                  <a:pt x="21803" y="12725"/>
                </a:cubicBezTo>
                <a:cubicBezTo>
                  <a:pt x="21844" y="12745"/>
                  <a:pt x="21850" y="12754"/>
                  <a:pt x="21878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1812960"/>
            <a:ext cx="482400" cy="473040"/>
          </a:xfrm>
          <a:custGeom>
            <a:avLst/>
            <a:gdLst/>
            <a:ahLst/>
            <a:rect l="l" t="t" r="r" b="b"/>
            <a:pathLst>
              <a:path w="1340" h="1316">
                <a:moveTo>
                  <a:pt x="645" y="5581"/>
                </a:moveTo>
                <a:cubicBezTo>
                  <a:pt x="645" y="5520"/>
                  <a:pt x="655" y="5534"/>
                  <a:pt x="695" y="5507"/>
                </a:cubicBezTo>
                <a:cubicBezTo>
                  <a:pt x="751" y="5469"/>
                  <a:pt x="774" y="5406"/>
                  <a:pt x="843" y="5383"/>
                </a:cubicBezTo>
                <a:cubicBezTo>
                  <a:pt x="889" y="5368"/>
                  <a:pt x="991" y="5334"/>
                  <a:pt x="1017" y="5407"/>
                </a:cubicBezTo>
                <a:cubicBezTo>
                  <a:pt x="1048" y="5493"/>
                  <a:pt x="997" y="5544"/>
                  <a:pt x="967" y="5606"/>
                </a:cubicBezTo>
                <a:cubicBezTo>
                  <a:pt x="918" y="5710"/>
                  <a:pt x="906" y="5731"/>
                  <a:pt x="819" y="5804"/>
                </a:cubicBezTo>
                <a:cubicBezTo>
                  <a:pt x="775" y="5841"/>
                  <a:pt x="736" y="5887"/>
                  <a:pt x="695" y="5928"/>
                </a:cubicBezTo>
                <a:cubicBezTo>
                  <a:pt x="704" y="5892"/>
                  <a:pt x="731" y="5825"/>
                  <a:pt x="769" y="5804"/>
                </a:cubicBezTo>
                <a:cubicBezTo>
                  <a:pt x="807" y="5783"/>
                  <a:pt x="845" y="5779"/>
                  <a:pt x="893" y="5779"/>
                </a:cubicBezTo>
                <a:cubicBezTo>
                  <a:pt x="964" y="5779"/>
                  <a:pt x="1001" y="5833"/>
                  <a:pt x="1017" y="5904"/>
                </a:cubicBezTo>
                <a:cubicBezTo>
                  <a:pt x="1033" y="5976"/>
                  <a:pt x="1021" y="6063"/>
                  <a:pt x="992" y="6127"/>
                </a:cubicBezTo>
                <a:cubicBezTo>
                  <a:pt x="963" y="6192"/>
                  <a:pt x="930" y="6259"/>
                  <a:pt x="868" y="6300"/>
                </a:cubicBezTo>
                <a:cubicBezTo>
                  <a:pt x="825" y="6329"/>
                  <a:pt x="734" y="6388"/>
                  <a:pt x="695" y="6325"/>
                </a:cubicBezTo>
                <a:cubicBezTo>
                  <a:pt x="695" y="6292"/>
                  <a:pt x="695" y="6276"/>
                  <a:pt x="695" y="6251"/>
                </a:cubicBezTo>
              </a:path>
              <a:path w="1340" h="1316">
                <a:moveTo>
                  <a:pt x="1141" y="5457"/>
                </a:moveTo>
                <a:cubicBezTo>
                  <a:pt x="1239" y="5387"/>
                  <a:pt x="1297" y="5350"/>
                  <a:pt x="1414" y="5333"/>
                </a:cubicBezTo>
                <a:cubicBezTo>
                  <a:pt x="1491" y="5322"/>
                  <a:pt x="1523" y="5320"/>
                  <a:pt x="1588" y="5333"/>
                </a:cubicBezTo>
                <a:cubicBezTo>
                  <a:pt x="1639" y="5343"/>
                  <a:pt x="1676" y="5339"/>
                  <a:pt x="1662" y="5407"/>
                </a:cubicBezTo>
                <a:cubicBezTo>
                  <a:pt x="1642" y="5502"/>
                  <a:pt x="1605" y="5587"/>
                  <a:pt x="1588" y="5680"/>
                </a:cubicBezTo>
                <a:cubicBezTo>
                  <a:pt x="1574" y="5755"/>
                  <a:pt x="1563" y="5826"/>
                  <a:pt x="1563" y="5904"/>
                </a:cubicBezTo>
                <a:cubicBezTo>
                  <a:pt x="1563" y="5978"/>
                  <a:pt x="1563" y="6053"/>
                  <a:pt x="1563" y="6127"/>
                </a:cubicBezTo>
                <a:cubicBezTo>
                  <a:pt x="1603" y="6114"/>
                  <a:pt x="1588" y="6108"/>
                  <a:pt x="1588" y="6052"/>
                </a:cubicBezTo>
              </a:path>
              <a:path w="1340" h="1316">
                <a:moveTo>
                  <a:pt x="1612" y="5035"/>
                </a:moveTo>
                <a:cubicBezTo>
                  <a:pt x="1755" y="5147"/>
                  <a:pt x="1949" y="5317"/>
                  <a:pt x="1984" y="5507"/>
                </a:cubicBezTo>
                <a:cubicBezTo>
                  <a:pt x="2004" y="5614"/>
                  <a:pt x="1974" y="5755"/>
                  <a:pt x="1935" y="5854"/>
                </a:cubicBezTo>
                <a:cubicBezTo>
                  <a:pt x="1895" y="5955"/>
                  <a:pt x="1835" y="6055"/>
                  <a:pt x="1786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760" y="3956040"/>
            <a:ext cx="1044360" cy="1116000"/>
          </a:xfrm>
          <a:custGeom>
            <a:avLst/>
            <a:gdLst/>
            <a:ahLst/>
            <a:rect l="l" t="t" r="r" b="b"/>
            <a:pathLst>
              <a:path w="2904" h="3102">
                <a:moveTo>
                  <a:pt x="1538" y="12948"/>
                </a:moveTo>
                <a:cubicBezTo>
                  <a:pt x="1558" y="12838"/>
                  <a:pt x="1573" y="12740"/>
                  <a:pt x="1563" y="12626"/>
                </a:cubicBezTo>
                <a:cubicBezTo>
                  <a:pt x="1546" y="12436"/>
                  <a:pt x="1526" y="12244"/>
                  <a:pt x="1513" y="12055"/>
                </a:cubicBezTo>
                <a:cubicBezTo>
                  <a:pt x="1502" y="11897"/>
                  <a:pt x="1474" y="11740"/>
                  <a:pt x="1463" y="11584"/>
                </a:cubicBezTo>
                <a:cubicBezTo>
                  <a:pt x="1454" y="11459"/>
                  <a:pt x="1441" y="11333"/>
                  <a:pt x="1414" y="11212"/>
                </a:cubicBezTo>
                <a:cubicBezTo>
                  <a:pt x="1400" y="11151"/>
                  <a:pt x="1389" y="11069"/>
                  <a:pt x="1364" y="11013"/>
                </a:cubicBezTo>
                <a:cubicBezTo>
                  <a:pt x="1336" y="11013"/>
                  <a:pt x="1330" y="11015"/>
                  <a:pt x="1364" y="11038"/>
                </a:cubicBezTo>
                <a:cubicBezTo>
                  <a:pt x="1392" y="11141"/>
                  <a:pt x="1417" y="11253"/>
                  <a:pt x="1439" y="11361"/>
                </a:cubicBezTo>
                <a:cubicBezTo>
                  <a:pt x="1477" y="11546"/>
                  <a:pt x="1551" y="11721"/>
                  <a:pt x="1588" y="11906"/>
                </a:cubicBezTo>
                <a:cubicBezTo>
                  <a:pt x="1650" y="12213"/>
                  <a:pt x="1718" y="12518"/>
                  <a:pt x="1786" y="12824"/>
                </a:cubicBezTo>
                <a:cubicBezTo>
                  <a:pt x="1842" y="13077"/>
                  <a:pt x="1928" y="13330"/>
                  <a:pt x="1910" y="13593"/>
                </a:cubicBezTo>
                <a:cubicBezTo>
                  <a:pt x="1899" y="13752"/>
                  <a:pt x="1860" y="13911"/>
                  <a:pt x="1761" y="14039"/>
                </a:cubicBezTo>
                <a:cubicBezTo>
                  <a:pt x="1706" y="14110"/>
                  <a:pt x="1601" y="14105"/>
                  <a:pt x="1538" y="14039"/>
                </a:cubicBezTo>
                <a:cubicBezTo>
                  <a:pt x="1462" y="13960"/>
                  <a:pt x="1424" y="13797"/>
                  <a:pt x="1414" y="13692"/>
                </a:cubicBezTo>
                <a:cubicBezTo>
                  <a:pt x="1397" y="13521"/>
                  <a:pt x="1456" y="13338"/>
                  <a:pt x="1488" y="13171"/>
                </a:cubicBezTo>
              </a:path>
              <a:path w="2904" h="3102">
                <a:moveTo>
                  <a:pt x="2108" y="12254"/>
                </a:moveTo>
                <a:cubicBezTo>
                  <a:pt x="2080" y="12251"/>
                  <a:pt x="2096" y="12215"/>
                  <a:pt x="2034" y="12254"/>
                </a:cubicBezTo>
                <a:cubicBezTo>
                  <a:pt x="1944" y="12310"/>
                  <a:pt x="1883" y="12378"/>
                  <a:pt x="1836" y="12477"/>
                </a:cubicBezTo>
                <a:cubicBezTo>
                  <a:pt x="1803" y="12547"/>
                  <a:pt x="1804" y="12587"/>
                  <a:pt x="1836" y="12650"/>
                </a:cubicBezTo>
                <a:cubicBezTo>
                  <a:pt x="1874" y="12723"/>
                  <a:pt x="1911" y="12686"/>
                  <a:pt x="1960" y="12675"/>
                </a:cubicBezTo>
                <a:cubicBezTo>
                  <a:pt x="2015" y="12662"/>
                  <a:pt x="2080" y="12642"/>
                  <a:pt x="2108" y="12576"/>
                </a:cubicBezTo>
                <a:cubicBezTo>
                  <a:pt x="2131" y="12522"/>
                  <a:pt x="2124" y="12439"/>
                  <a:pt x="2133" y="12378"/>
                </a:cubicBezTo>
                <a:cubicBezTo>
                  <a:pt x="2133" y="12370"/>
                  <a:pt x="2133" y="12361"/>
                  <a:pt x="2133" y="12353"/>
                </a:cubicBezTo>
                <a:cubicBezTo>
                  <a:pt x="2141" y="12391"/>
                  <a:pt x="2128" y="12364"/>
                  <a:pt x="2158" y="12427"/>
                </a:cubicBezTo>
                <a:cubicBezTo>
                  <a:pt x="2169" y="12450"/>
                  <a:pt x="2196" y="12502"/>
                  <a:pt x="2232" y="12502"/>
                </a:cubicBezTo>
                <a:cubicBezTo>
                  <a:pt x="2290" y="12502"/>
                  <a:pt x="2301" y="12476"/>
                  <a:pt x="2332" y="12452"/>
                </a:cubicBezTo>
                <a:cubicBezTo>
                  <a:pt x="2390" y="12406"/>
                  <a:pt x="2387" y="12366"/>
                  <a:pt x="2406" y="12303"/>
                </a:cubicBezTo>
                <a:cubicBezTo>
                  <a:pt x="2424" y="12242"/>
                  <a:pt x="2435" y="12183"/>
                  <a:pt x="2456" y="12129"/>
                </a:cubicBezTo>
                <a:cubicBezTo>
                  <a:pt x="2456" y="12101"/>
                  <a:pt x="2458" y="12091"/>
                  <a:pt x="2480" y="12080"/>
                </a:cubicBezTo>
                <a:cubicBezTo>
                  <a:pt x="2522" y="12101"/>
                  <a:pt x="2537" y="12091"/>
                  <a:pt x="2580" y="12129"/>
                </a:cubicBezTo>
                <a:cubicBezTo>
                  <a:pt x="2637" y="12180"/>
                  <a:pt x="2682" y="12247"/>
                  <a:pt x="2679" y="12328"/>
                </a:cubicBezTo>
                <a:cubicBezTo>
                  <a:pt x="2677" y="12399"/>
                  <a:pt x="2633" y="12476"/>
                  <a:pt x="2580" y="12526"/>
                </a:cubicBezTo>
                <a:cubicBezTo>
                  <a:pt x="2556" y="12548"/>
                  <a:pt x="2510" y="12540"/>
                  <a:pt x="2480" y="12551"/>
                </a:cubicBezTo>
                <a:cubicBezTo>
                  <a:pt x="2472" y="12551"/>
                  <a:pt x="2464" y="12551"/>
                  <a:pt x="2456" y="12551"/>
                </a:cubicBezTo>
                <a:cubicBezTo>
                  <a:pt x="2471" y="12537"/>
                  <a:pt x="2498" y="12501"/>
                  <a:pt x="2530" y="12477"/>
                </a:cubicBezTo>
                <a:cubicBezTo>
                  <a:pt x="2588" y="12432"/>
                  <a:pt x="2655" y="12412"/>
                  <a:pt x="2704" y="12353"/>
                </a:cubicBezTo>
                <a:cubicBezTo>
                  <a:pt x="2743" y="12305"/>
                  <a:pt x="2765" y="12237"/>
                  <a:pt x="2778" y="12179"/>
                </a:cubicBezTo>
                <a:cubicBezTo>
                  <a:pt x="2787" y="12140"/>
                  <a:pt x="2824" y="12019"/>
                  <a:pt x="2828" y="12005"/>
                </a:cubicBezTo>
                <a:cubicBezTo>
                  <a:pt x="2842" y="12026"/>
                  <a:pt x="2880" y="12060"/>
                  <a:pt x="2902" y="12105"/>
                </a:cubicBezTo>
                <a:cubicBezTo>
                  <a:pt x="2922" y="12147"/>
                  <a:pt x="2925" y="12205"/>
                  <a:pt x="2927" y="12254"/>
                </a:cubicBezTo>
                <a:cubicBezTo>
                  <a:pt x="2927" y="12278"/>
                  <a:pt x="2927" y="12287"/>
                  <a:pt x="2927" y="12303"/>
                </a:cubicBezTo>
                <a:cubicBezTo>
                  <a:pt x="2945" y="12263"/>
                  <a:pt x="2956" y="12190"/>
                  <a:pt x="2977" y="12154"/>
                </a:cubicBezTo>
                <a:cubicBezTo>
                  <a:pt x="2995" y="12123"/>
                  <a:pt x="3041" y="12080"/>
                  <a:pt x="3076" y="12080"/>
                </a:cubicBezTo>
                <a:cubicBezTo>
                  <a:pt x="3116" y="12080"/>
                  <a:pt x="3148" y="12100"/>
                  <a:pt x="3175" y="12129"/>
                </a:cubicBezTo>
                <a:cubicBezTo>
                  <a:pt x="3190" y="12145"/>
                  <a:pt x="3187" y="12160"/>
                  <a:pt x="3200" y="12179"/>
                </a:cubicBezTo>
                <a:cubicBezTo>
                  <a:pt x="3204" y="12167"/>
                  <a:pt x="3223" y="12149"/>
                  <a:pt x="3225" y="12105"/>
                </a:cubicBezTo>
                <a:cubicBezTo>
                  <a:pt x="3229" y="12014"/>
                  <a:pt x="3225" y="11923"/>
                  <a:pt x="3225" y="11832"/>
                </a:cubicBezTo>
                <a:cubicBezTo>
                  <a:pt x="3223" y="11841"/>
                  <a:pt x="3190" y="11861"/>
                  <a:pt x="3200" y="11906"/>
                </a:cubicBezTo>
                <a:cubicBezTo>
                  <a:pt x="3210" y="11955"/>
                  <a:pt x="3259" y="11979"/>
                  <a:pt x="3299" y="12005"/>
                </a:cubicBezTo>
                <a:cubicBezTo>
                  <a:pt x="3349" y="12037"/>
                  <a:pt x="3349" y="12038"/>
                  <a:pt x="3398" y="12005"/>
                </a:cubicBezTo>
                <a:cubicBezTo>
                  <a:pt x="3455" y="11967"/>
                  <a:pt x="3455" y="11936"/>
                  <a:pt x="3473" y="11881"/>
                </a:cubicBezTo>
                <a:cubicBezTo>
                  <a:pt x="3497" y="11805"/>
                  <a:pt x="3486" y="11800"/>
                  <a:pt x="3473" y="11733"/>
                </a:cubicBezTo>
                <a:cubicBezTo>
                  <a:pt x="3506" y="11794"/>
                  <a:pt x="3471" y="11780"/>
                  <a:pt x="3547" y="11832"/>
                </a:cubicBezTo>
                <a:cubicBezTo>
                  <a:pt x="3589" y="11861"/>
                  <a:pt x="3615" y="11883"/>
                  <a:pt x="3671" y="11881"/>
                </a:cubicBezTo>
                <a:cubicBezTo>
                  <a:pt x="3724" y="11879"/>
                  <a:pt x="3728" y="11829"/>
                  <a:pt x="3770" y="11807"/>
                </a:cubicBezTo>
                <a:cubicBezTo>
                  <a:pt x="3821" y="11780"/>
                  <a:pt x="3847" y="11766"/>
                  <a:pt x="3894" y="11807"/>
                </a:cubicBezTo>
                <a:cubicBezTo>
                  <a:pt x="3894" y="11835"/>
                  <a:pt x="3896" y="11846"/>
                  <a:pt x="3919" y="11857"/>
                </a:cubicBezTo>
                <a:cubicBezTo>
                  <a:pt x="3958" y="11843"/>
                  <a:pt x="4007" y="11850"/>
                  <a:pt x="4043" y="11832"/>
                </a:cubicBezTo>
                <a:cubicBezTo>
                  <a:pt x="4122" y="11792"/>
                  <a:pt x="4173" y="11731"/>
                  <a:pt x="4217" y="11658"/>
                </a:cubicBezTo>
                <a:cubicBezTo>
                  <a:pt x="4269" y="11573"/>
                  <a:pt x="4219" y="11535"/>
                  <a:pt x="4167" y="11460"/>
                </a:cubicBezTo>
                <a:cubicBezTo>
                  <a:pt x="4151" y="11435"/>
                  <a:pt x="4134" y="11410"/>
                  <a:pt x="4118" y="11385"/>
                </a:cubicBezTo>
              </a:path>
              <a:path w="2904" h="3102">
                <a:moveTo>
                  <a:pt x="3225" y="10988"/>
                </a:moveTo>
                <a:cubicBezTo>
                  <a:pt x="3200" y="11013"/>
                  <a:pt x="3192" y="11021"/>
                  <a:pt x="3225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321080"/>
            <a:ext cx="4608360" cy="733680"/>
          </a:xfrm>
          <a:custGeom>
            <a:avLst/>
            <a:gdLst/>
            <a:ahLst/>
            <a:rect l="l" t="t" r="r" b="b"/>
            <a:pathLst>
              <a:path w="12800" h="2035">
                <a:moveTo>
                  <a:pt x="9699" y="12005"/>
                </a:moveTo>
                <a:cubicBezTo>
                  <a:pt x="9685" y="12053"/>
                  <a:pt x="9689" y="12103"/>
                  <a:pt x="9674" y="12154"/>
                </a:cubicBezTo>
                <a:cubicBezTo>
                  <a:pt x="9637" y="12282"/>
                  <a:pt x="9573" y="12391"/>
                  <a:pt x="9550" y="12526"/>
                </a:cubicBezTo>
                <a:cubicBezTo>
                  <a:pt x="9533" y="12626"/>
                  <a:pt x="9531" y="12722"/>
                  <a:pt x="9525" y="12824"/>
                </a:cubicBezTo>
                <a:cubicBezTo>
                  <a:pt x="9506" y="13173"/>
                  <a:pt x="9509" y="13536"/>
                  <a:pt x="9823" y="13742"/>
                </a:cubicBezTo>
                <a:cubicBezTo>
                  <a:pt x="9914" y="13802"/>
                  <a:pt x="10010" y="13834"/>
                  <a:pt x="10120" y="13866"/>
                </a:cubicBezTo>
                <a:cubicBezTo>
                  <a:pt x="10330" y="13928"/>
                  <a:pt x="10573" y="13967"/>
                  <a:pt x="10790" y="13965"/>
                </a:cubicBezTo>
                <a:cubicBezTo>
                  <a:pt x="10990" y="13963"/>
                  <a:pt x="11184" y="13942"/>
                  <a:pt x="11385" y="13940"/>
                </a:cubicBezTo>
                <a:cubicBezTo>
                  <a:pt x="11594" y="13938"/>
                  <a:pt x="11797" y="13920"/>
                  <a:pt x="12005" y="13915"/>
                </a:cubicBezTo>
                <a:cubicBezTo>
                  <a:pt x="14443" y="13853"/>
                  <a:pt x="16921" y="13864"/>
                  <a:pt x="19348" y="13940"/>
                </a:cubicBezTo>
                <a:cubicBezTo>
                  <a:pt x="19592" y="13948"/>
                  <a:pt x="19826" y="13973"/>
                  <a:pt x="20067" y="13990"/>
                </a:cubicBezTo>
                <a:cubicBezTo>
                  <a:pt x="20257" y="14003"/>
                  <a:pt x="20451" y="14028"/>
                  <a:pt x="20638" y="14039"/>
                </a:cubicBezTo>
                <a:cubicBezTo>
                  <a:pt x="20969" y="14058"/>
                  <a:pt x="21386" y="14085"/>
                  <a:pt x="21704" y="13990"/>
                </a:cubicBezTo>
                <a:cubicBezTo>
                  <a:pt x="21795" y="13963"/>
                  <a:pt x="21871" y="13927"/>
                  <a:pt x="21952" y="13866"/>
                </a:cubicBezTo>
                <a:cubicBezTo>
                  <a:pt x="22126" y="13735"/>
                  <a:pt x="22231" y="13533"/>
                  <a:pt x="22275" y="13320"/>
                </a:cubicBezTo>
                <a:cubicBezTo>
                  <a:pt x="22300" y="13200"/>
                  <a:pt x="22331" y="13026"/>
                  <a:pt x="22324" y="12898"/>
                </a:cubicBezTo>
                <a:cubicBezTo>
                  <a:pt x="22318" y="12791"/>
                  <a:pt x="22269" y="12683"/>
                  <a:pt x="22250" y="12576"/>
                </a:cubicBezTo>
                <a:cubicBezTo>
                  <a:pt x="22235" y="12493"/>
                  <a:pt x="22211" y="12399"/>
                  <a:pt x="22175" y="12328"/>
                </a:cubicBezTo>
                <a:cubicBezTo>
                  <a:pt x="22167" y="12311"/>
                  <a:pt x="22138" y="12211"/>
                  <a:pt x="22126" y="12204"/>
                </a:cubicBezTo>
                <a:cubicBezTo>
                  <a:pt x="22096" y="12186"/>
                  <a:pt x="22061" y="12191"/>
                  <a:pt x="22027" y="12179"/>
                </a:cubicBezTo>
                <a:cubicBezTo>
                  <a:pt x="21935" y="12147"/>
                  <a:pt x="21771" y="12226"/>
                  <a:pt x="21679" y="12229"/>
                </a:cubicBezTo>
                <a:cubicBezTo>
                  <a:pt x="21355" y="12240"/>
                  <a:pt x="21035" y="12250"/>
                  <a:pt x="20712" y="12254"/>
                </a:cubicBezTo>
                <a:cubicBezTo>
                  <a:pt x="20189" y="12260"/>
                  <a:pt x="19670" y="12235"/>
                  <a:pt x="19149" y="12229"/>
                </a:cubicBezTo>
                <a:cubicBezTo>
                  <a:pt x="18792" y="12225"/>
                  <a:pt x="18440" y="12208"/>
                  <a:pt x="18083" y="12204"/>
                </a:cubicBezTo>
                <a:cubicBezTo>
                  <a:pt x="17437" y="12197"/>
                  <a:pt x="16791" y="12187"/>
                  <a:pt x="16148" y="12179"/>
                </a:cubicBezTo>
                <a:cubicBezTo>
                  <a:pt x="15996" y="12177"/>
                  <a:pt x="15851" y="12159"/>
                  <a:pt x="15701" y="12154"/>
                </a:cubicBezTo>
                <a:cubicBezTo>
                  <a:pt x="15362" y="12142"/>
                  <a:pt x="15021" y="12133"/>
                  <a:pt x="14684" y="12129"/>
                </a:cubicBezTo>
                <a:cubicBezTo>
                  <a:pt x="14186" y="12123"/>
                  <a:pt x="13692" y="12105"/>
                  <a:pt x="13196" y="12105"/>
                </a:cubicBezTo>
                <a:cubicBezTo>
                  <a:pt x="12905" y="12105"/>
                  <a:pt x="12618" y="12098"/>
                  <a:pt x="12328" y="12080"/>
                </a:cubicBezTo>
                <a:cubicBezTo>
                  <a:pt x="12119" y="12067"/>
                  <a:pt x="11895" y="12047"/>
                  <a:pt x="11683" y="12030"/>
                </a:cubicBezTo>
                <a:cubicBezTo>
                  <a:pt x="11567" y="12021"/>
                  <a:pt x="11451" y="12010"/>
                  <a:pt x="11336" y="12005"/>
                </a:cubicBezTo>
                <a:cubicBezTo>
                  <a:pt x="10904" y="11986"/>
                  <a:pt x="10475" y="12025"/>
                  <a:pt x="10046" y="12030"/>
                </a:cubicBezTo>
                <a:cubicBezTo>
                  <a:pt x="9944" y="12031"/>
                  <a:pt x="9834" y="12048"/>
                  <a:pt x="9748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76200" y="366840"/>
            <a:ext cx="1697040" cy="517320"/>
          </a:xfrm>
          <a:custGeom>
            <a:avLst/>
            <a:gdLst/>
            <a:ahLst/>
            <a:rect l="l" t="t" r="r" b="b"/>
            <a:pathLst>
              <a:path w="4714" h="1440">
                <a:moveTo>
                  <a:pt x="3547" y="1488"/>
                </a:moveTo>
                <a:cubicBezTo>
                  <a:pt x="3561" y="1445"/>
                  <a:pt x="3604" y="1464"/>
                  <a:pt x="3646" y="1439"/>
                </a:cubicBezTo>
                <a:cubicBezTo>
                  <a:pt x="3694" y="1410"/>
                  <a:pt x="3710" y="1394"/>
                  <a:pt x="3770" y="1389"/>
                </a:cubicBezTo>
                <a:cubicBezTo>
                  <a:pt x="3840" y="1383"/>
                  <a:pt x="3888" y="1395"/>
                  <a:pt x="3944" y="1414"/>
                </a:cubicBezTo>
                <a:cubicBezTo>
                  <a:pt x="3962" y="1420"/>
                  <a:pt x="4004" y="1457"/>
                  <a:pt x="4018" y="1488"/>
                </a:cubicBezTo>
                <a:cubicBezTo>
                  <a:pt x="4037" y="1533"/>
                  <a:pt x="4022" y="1630"/>
                  <a:pt x="3994" y="1662"/>
                </a:cubicBezTo>
                <a:cubicBezTo>
                  <a:pt x="3952" y="1710"/>
                  <a:pt x="3917" y="1747"/>
                  <a:pt x="3870" y="1786"/>
                </a:cubicBezTo>
                <a:cubicBezTo>
                  <a:pt x="3823" y="1825"/>
                  <a:pt x="3769" y="1849"/>
                  <a:pt x="3721" y="1885"/>
                </a:cubicBezTo>
                <a:cubicBezTo>
                  <a:pt x="3695" y="1904"/>
                  <a:pt x="3674" y="1954"/>
                  <a:pt x="3671" y="1984"/>
                </a:cubicBezTo>
                <a:cubicBezTo>
                  <a:pt x="3668" y="2012"/>
                  <a:pt x="3660" y="2084"/>
                  <a:pt x="3646" y="2108"/>
                </a:cubicBezTo>
                <a:cubicBezTo>
                  <a:pt x="3627" y="2142"/>
                  <a:pt x="3637" y="2178"/>
                  <a:pt x="3621" y="2208"/>
                </a:cubicBezTo>
                <a:cubicBezTo>
                  <a:pt x="3585" y="2274"/>
                  <a:pt x="3614" y="2227"/>
                  <a:pt x="3621" y="2282"/>
                </a:cubicBezTo>
                <a:cubicBezTo>
                  <a:pt x="3621" y="2290"/>
                  <a:pt x="3621" y="2299"/>
                  <a:pt x="3621" y="2307"/>
                </a:cubicBezTo>
                <a:cubicBezTo>
                  <a:pt x="3778" y="2307"/>
                  <a:pt x="3936" y="2307"/>
                  <a:pt x="4093" y="2307"/>
                </a:cubicBezTo>
              </a:path>
              <a:path w="4714" h="1440">
                <a:moveTo>
                  <a:pt x="4986" y="1339"/>
                </a:moveTo>
                <a:cubicBezTo>
                  <a:pt x="4916" y="1339"/>
                  <a:pt x="4870" y="1345"/>
                  <a:pt x="4812" y="1364"/>
                </a:cubicBezTo>
                <a:cubicBezTo>
                  <a:pt x="4780" y="1375"/>
                  <a:pt x="4730" y="1401"/>
                  <a:pt x="4713" y="1439"/>
                </a:cubicBezTo>
                <a:cubicBezTo>
                  <a:pt x="4695" y="1480"/>
                  <a:pt x="4654" y="1515"/>
                  <a:pt x="4638" y="1563"/>
                </a:cubicBezTo>
                <a:cubicBezTo>
                  <a:pt x="4624" y="1604"/>
                  <a:pt x="4601" y="1647"/>
                  <a:pt x="4589" y="1687"/>
                </a:cubicBezTo>
                <a:cubicBezTo>
                  <a:pt x="4574" y="1736"/>
                  <a:pt x="4566" y="1809"/>
                  <a:pt x="4564" y="1860"/>
                </a:cubicBezTo>
                <a:cubicBezTo>
                  <a:pt x="4560" y="1951"/>
                  <a:pt x="4574" y="2032"/>
                  <a:pt x="4589" y="2108"/>
                </a:cubicBezTo>
                <a:cubicBezTo>
                  <a:pt x="4601" y="2167"/>
                  <a:pt x="4624" y="2184"/>
                  <a:pt x="4638" y="2232"/>
                </a:cubicBezTo>
                <a:cubicBezTo>
                  <a:pt x="4651" y="2278"/>
                  <a:pt x="4656" y="2331"/>
                  <a:pt x="4713" y="2356"/>
                </a:cubicBezTo>
                <a:cubicBezTo>
                  <a:pt x="4738" y="2356"/>
                  <a:pt x="4746" y="2356"/>
                  <a:pt x="4762" y="2356"/>
                </a:cubicBezTo>
              </a:path>
              <a:path w="4714" h="1440">
                <a:moveTo>
                  <a:pt x="5110" y="1637"/>
                </a:moveTo>
                <a:cubicBezTo>
                  <a:pt x="5118" y="1637"/>
                  <a:pt x="5127" y="1637"/>
                  <a:pt x="5135" y="1637"/>
                </a:cubicBezTo>
                <a:cubicBezTo>
                  <a:pt x="5135" y="1679"/>
                  <a:pt x="5125" y="1675"/>
                  <a:pt x="5159" y="1687"/>
                </a:cubicBezTo>
                <a:cubicBezTo>
                  <a:pt x="5159" y="1729"/>
                  <a:pt x="5149" y="1725"/>
                  <a:pt x="5184" y="1736"/>
                </a:cubicBezTo>
                <a:cubicBezTo>
                  <a:pt x="5196" y="1784"/>
                  <a:pt x="5239" y="1793"/>
                  <a:pt x="5259" y="1836"/>
                </a:cubicBezTo>
                <a:cubicBezTo>
                  <a:pt x="5274" y="1869"/>
                  <a:pt x="5299" y="1899"/>
                  <a:pt x="5308" y="1935"/>
                </a:cubicBezTo>
                <a:cubicBezTo>
                  <a:pt x="5340" y="1946"/>
                  <a:pt x="5348" y="1969"/>
                  <a:pt x="5358" y="2009"/>
                </a:cubicBezTo>
                <a:cubicBezTo>
                  <a:pt x="5397" y="2022"/>
                  <a:pt x="5368" y="2021"/>
                  <a:pt x="5407" y="2034"/>
                </a:cubicBezTo>
                <a:cubicBezTo>
                  <a:pt x="5407" y="2059"/>
                  <a:pt x="5407" y="2067"/>
                  <a:pt x="5432" y="2059"/>
                </a:cubicBezTo>
              </a:path>
              <a:path w="4714" h="1440">
                <a:moveTo>
                  <a:pt x="5531" y="1538"/>
                </a:moveTo>
                <a:cubicBezTo>
                  <a:pt x="5531" y="1546"/>
                  <a:pt x="5531" y="1555"/>
                  <a:pt x="5531" y="1563"/>
                </a:cubicBezTo>
                <a:cubicBezTo>
                  <a:pt x="5492" y="1576"/>
                  <a:pt x="5521" y="1575"/>
                  <a:pt x="5482" y="1588"/>
                </a:cubicBezTo>
                <a:cubicBezTo>
                  <a:pt x="5469" y="1627"/>
                  <a:pt x="5470" y="1598"/>
                  <a:pt x="5457" y="1637"/>
                </a:cubicBezTo>
                <a:cubicBezTo>
                  <a:pt x="5417" y="1650"/>
                  <a:pt x="5447" y="1649"/>
                  <a:pt x="5407" y="1662"/>
                </a:cubicBezTo>
                <a:cubicBezTo>
                  <a:pt x="5396" y="1696"/>
                  <a:pt x="5373" y="1693"/>
                  <a:pt x="5358" y="1736"/>
                </a:cubicBezTo>
                <a:cubicBezTo>
                  <a:pt x="5346" y="1772"/>
                  <a:pt x="5324" y="1828"/>
                  <a:pt x="5308" y="1860"/>
                </a:cubicBezTo>
                <a:cubicBezTo>
                  <a:pt x="5278" y="1920"/>
                  <a:pt x="5200" y="1979"/>
                  <a:pt x="5159" y="2034"/>
                </a:cubicBezTo>
                <a:cubicBezTo>
                  <a:pt x="5122" y="2085"/>
                  <a:pt x="5076" y="2136"/>
                  <a:pt x="5035" y="2183"/>
                </a:cubicBezTo>
                <a:cubicBezTo>
                  <a:pt x="5001" y="2222"/>
                  <a:pt x="5000" y="2192"/>
                  <a:pt x="4986" y="2232"/>
                </a:cubicBezTo>
              </a:path>
              <a:path w="4714" h="1440">
                <a:moveTo>
                  <a:pt x="5854" y="1811"/>
                </a:moveTo>
                <a:cubicBezTo>
                  <a:pt x="5879" y="1811"/>
                  <a:pt x="5887" y="1811"/>
                  <a:pt x="5904" y="1811"/>
                </a:cubicBezTo>
                <a:cubicBezTo>
                  <a:pt x="5916" y="1773"/>
                  <a:pt x="5933" y="1786"/>
                  <a:pt x="5978" y="1786"/>
                </a:cubicBezTo>
                <a:cubicBezTo>
                  <a:pt x="6054" y="1786"/>
                  <a:pt x="6105" y="1779"/>
                  <a:pt x="6176" y="1761"/>
                </a:cubicBezTo>
                <a:cubicBezTo>
                  <a:pt x="6219" y="1750"/>
                  <a:pt x="6279" y="1761"/>
                  <a:pt x="6325" y="1761"/>
                </a:cubicBezTo>
              </a:path>
              <a:path w="4714" h="1440">
                <a:moveTo>
                  <a:pt x="6598" y="1463"/>
                </a:moveTo>
                <a:cubicBezTo>
                  <a:pt x="6607" y="1437"/>
                  <a:pt x="6617" y="1418"/>
                  <a:pt x="6648" y="1414"/>
                </a:cubicBezTo>
                <a:cubicBezTo>
                  <a:pt x="6701" y="1407"/>
                  <a:pt x="6743" y="1393"/>
                  <a:pt x="6796" y="1389"/>
                </a:cubicBezTo>
                <a:cubicBezTo>
                  <a:pt x="6828" y="1387"/>
                  <a:pt x="6913" y="1403"/>
                  <a:pt x="6945" y="1414"/>
                </a:cubicBezTo>
                <a:cubicBezTo>
                  <a:pt x="6992" y="1430"/>
                  <a:pt x="7039" y="1437"/>
                  <a:pt x="7045" y="1488"/>
                </a:cubicBezTo>
                <a:cubicBezTo>
                  <a:pt x="7050" y="1537"/>
                  <a:pt x="7050" y="1575"/>
                  <a:pt x="7020" y="1612"/>
                </a:cubicBezTo>
                <a:cubicBezTo>
                  <a:pt x="6982" y="1658"/>
                  <a:pt x="6898" y="1644"/>
                  <a:pt x="6846" y="1662"/>
                </a:cubicBezTo>
                <a:cubicBezTo>
                  <a:pt x="6787" y="1682"/>
                  <a:pt x="6761" y="1687"/>
                  <a:pt x="6697" y="1687"/>
                </a:cubicBezTo>
                <a:cubicBezTo>
                  <a:pt x="6722" y="1693"/>
                  <a:pt x="6774" y="1700"/>
                  <a:pt x="6796" y="1712"/>
                </a:cubicBezTo>
                <a:cubicBezTo>
                  <a:pt x="6830" y="1731"/>
                  <a:pt x="6867" y="1776"/>
                  <a:pt x="6871" y="1811"/>
                </a:cubicBezTo>
                <a:cubicBezTo>
                  <a:pt x="6877" y="1864"/>
                  <a:pt x="6875" y="1914"/>
                  <a:pt x="6846" y="1960"/>
                </a:cubicBezTo>
                <a:cubicBezTo>
                  <a:pt x="6811" y="2016"/>
                  <a:pt x="6721" y="2021"/>
                  <a:pt x="6672" y="2059"/>
                </a:cubicBezTo>
                <a:cubicBezTo>
                  <a:pt x="6601" y="2114"/>
                  <a:pt x="6565" y="2100"/>
                  <a:pt x="6499" y="2133"/>
                </a:cubicBezTo>
                <a:cubicBezTo>
                  <a:pt x="6476" y="2156"/>
                  <a:pt x="6468" y="2167"/>
                  <a:pt x="6474" y="2133"/>
                </a:cubicBezTo>
              </a:path>
              <a:path w="4714" h="1440">
                <a:moveTo>
                  <a:pt x="7417" y="1215"/>
                </a:moveTo>
                <a:cubicBezTo>
                  <a:pt x="7436" y="1235"/>
                  <a:pt x="7458" y="1244"/>
                  <a:pt x="7466" y="1290"/>
                </a:cubicBezTo>
                <a:cubicBezTo>
                  <a:pt x="7480" y="1365"/>
                  <a:pt x="7491" y="1435"/>
                  <a:pt x="7491" y="1513"/>
                </a:cubicBezTo>
                <a:cubicBezTo>
                  <a:pt x="7491" y="1597"/>
                  <a:pt x="7537" y="1671"/>
                  <a:pt x="7516" y="1761"/>
                </a:cubicBezTo>
                <a:cubicBezTo>
                  <a:pt x="7502" y="1824"/>
                  <a:pt x="7494" y="1955"/>
                  <a:pt x="7466" y="2009"/>
                </a:cubicBezTo>
                <a:cubicBezTo>
                  <a:pt x="7424" y="2091"/>
                  <a:pt x="7355" y="2184"/>
                  <a:pt x="7293" y="2257"/>
                </a:cubicBezTo>
                <a:cubicBezTo>
                  <a:pt x="7224" y="2337"/>
                  <a:pt x="7145" y="2365"/>
                  <a:pt x="7069" y="2431"/>
                </a:cubicBezTo>
                <a:cubicBezTo>
                  <a:pt x="7032" y="2463"/>
                  <a:pt x="7039" y="2450"/>
                  <a:pt x="6995" y="2456"/>
                </a:cubicBezTo>
              </a:path>
              <a:path w="4714" h="1440">
                <a:moveTo>
                  <a:pt x="7888" y="1042"/>
                </a:moveTo>
                <a:cubicBezTo>
                  <a:pt x="7888" y="1133"/>
                  <a:pt x="7888" y="1224"/>
                  <a:pt x="7888" y="1315"/>
                </a:cubicBezTo>
              </a:path>
              <a:path w="4714" h="1440">
                <a:moveTo>
                  <a:pt x="7938" y="1042"/>
                </a:moveTo>
                <a:cubicBezTo>
                  <a:pt x="7913" y="1042"/>
                  <a:pt x="7905" y="1042"/>
                  <a:pt x="7913" y="1017"/>
                </a:cubicBezTo>
                <a:cubicBezTo>
                  <a:pt x="7895" y="1071"/>
                  <a:pt x="7881" y="1018"/>
                  <a:pt x="7838" y="1042"/>
                </a:cubicBezTo>
                <a:cubicBezTo>
                  <a:pt x="7798" y="1064"/>
                  <a:pt x="7799" y="1087"/>
                  <a:pt x="7764" y="1091"/>
                </a:cubicBezTo>
                <a:cubicBezTo>
                  <a:pt x="7737" y="1094"/>
                  <a:pt x="7717" y="1114"/>
                  <a:pt x="7714" y="1141"/>
                </a:cubicBezTo>
                <a:cubicBezTo>
                  <a:pt x="7714" y="1166"/>
                  <a:pt x="7714" y="1174"/>
                  <a:pt x="7714" y="1191"/>
                </a:cubicBezTo>
                <a:cubicBezTo>
                  <a:pt x="7760" y="1191"/>
                  <a:pt x="7773" y="1171"/>
                  <a:pt x="7813" y="1166"/>
                </a:cubicBezTo>
                <a:cubicBezTo>
                  <a:pt x="7926" y="1153"/>
                  <a:pt x="8027" y="1166"/>
                  <a:pt x="8136" y="1141"/>
                </a:cubicBezTo>
                <a:cubicBezTo>
                  <a:pt x="8186" y="1141"/>
                  <a:pt x="8219" y="1141"/>
                  <a:pt x="8260" y="11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87800" y="581040"/>
            <a:ext cx="169920" cy="169920"/>
          </a:xfrm>
          <a:custGeom>
            <a:avLst/>
            <a:gdLst/>
            <a:ahLst/>
            <a:rect l="l" t="t" r="r" b="b"/>
            <a:pathLst>
              <a:path w="473" h="473">
                <a:moveTo>
                  <a:pt x="8855" y="1836"/>
                </a:moveTo>
                <a:cubicBezTo>
                  <a:pt x="8893" y="1808"/>
                  <a:pt x="8906" y="1811"/>
                  <a:pt x="8954" y="1811"/>
                </a:cubicBezTo>
                <a:cubicBezTo>
                  <a:pt x="9022" y="1811"/>
                  <a:pt x="9070" y="1803"/>
                  <a:pt x="9128" y="1786"/>
                </a:cubicBezTo>
                <a:cubicBezTo>
                  <a:pt x="9177" y="1771"/>
                  <a:pt x="9316" y="1777"/>
                  <a:pt x="9327" y="1811"/>
                </a:cubicBezTo>
              </a:path>
              <a:path w="473" h="473">
                <a:moveTo>
                  <a:pt x="9178" y="1612"/>
                </a:moveTo>
                <a:cubicBezTo>
                  <a:pt x="9170" y="1676"/>
                  <a:pt x="9167" y="1748"/>
                  <a:pt x="9153" y="1811"/>
                </a:cubicBezTo>
                <a:cubicBezTo>
                  <a:pt x="9135" y="1891"/>
                  <a:pt x="9103" y="1950"/>
                  <a:pt x="9103" y="2034"/>
                </a:cubicBezTo>
                <a:cubicBezTo>
                  <a:pt x="9103" y="2086"/>
                  <a:pt x="9101" y="2084"/>
                  <a:pt x="9153" y="20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392040"/>
            <a:ext cx="1643040" cy="492120"/>
          </a:xfrm>
          <a:custGeom>
            <a:avLst/>
            <a:gdLst/>
            <a:ahLst/>
            <a:rect l="l" t="t" r="r" b="b"/>
            <a:pathLst>
              <a:path w="4565" h="1366">
                <a:moveTo>
                  <a:pt x="9996" y="1414"/>
                </a:moveTo>
                <a:cubicBezTo>
                  <a:pt x="10084" y="1406"/>
                  <a:pt x="10153" y="1389"/>
                  <a:pt x="10244" y="1389"/>
                </a:cubicBezTo>
                <a:cubicBezTo>
                  <a:pt x="10339" y="1389"/>
                  <a:pt x="10420" y="1414"/>
                  <a:pt x="10517" y="1414"/>
                </a:cubicBezTo>
                <a:cubicBezTo>
                  <a:pt x="10534" y="1414"/>
                  <a:pt x="10550" y="1414"/>
                  <a:pt x="10567" y="1414"/>
                </a:cubicBezTo>
              </a:path>
              <a:path w="4565" h="1366">
                <a:moveTo>
                  <a:pt x="10096" y="1414"/>
                </a:moveTo>
                <a:cubicBezTo>
                  <a:pt x="10036" y="1453"/>
                  <a:pt x="10058" y="1439"/>
                  <a:pt x="10021" y="1488"/>
                </a:cubicBezTo>
                <a:cubicBezTo>
                  <a:pt x="10055" y="1534"/>
                  <a:pt x="10054" y="1525"/>
                  <a:pt x="10096" y="1563"/>
                </a:cubicBezTo>
                <a:cubicBezTo>
                  <a:pt x="10125" y="1589"/>
                  <a:pt x="10201" y="1623"/>
                  <a:pt x="10244" y="1637"/>
                </a:cubicBezTo>
                <a:cubicBezTo>
                  <a:pt x="10322" y="1663"/>
                  <a:pt x="10320" y="1672"/>
                  <a:pt x="10368" y="1736"/>
                </a:cubicBezTo>
                <a:cubicBezTo>
                  <a:pt x="10376" y="1744"/>
                  <a:pt x="10385" y="1753"/>
                  <a:pt x="10393" y="1761"/>
                </a:cubicBezTo>
              </a:path>
              <a:path w="4565" h="1366">
                <a:moveTo>
                  <a:pt x="10393" y="1935"/>
                </a:moveTo>
                <a:cubicBezTo>
                  <a:pt x="10357" y="1980"/>
                  <a:pt x="10268" y="2085"/>
                  <a:pt x="10220" y="2108"/>
                </a:cubicBezTo>
                <a:cubicBezTo>
                  <a:pt x="10142" y="2145"/>
                  <a:pt x="10092" y="2134"/>
                  <a:pt x="10021" y="2158"/>
                </a:cubicBezTo>
                <a:cubicBezTo>
                  <a:pt x="9972" y="2174"/>
                  <a:pt x="9939" y="2210"/>
                  <a:pt x="9922" y="2158"/>
                </a:cubicBezTo>
              </a:path>
              <a:path w="4565" h="1366">
                <a:moveTo>
                  <a:pt x="11261" y="1315"/>
                </a:moveTo>
                <a:cubicBezTo>
                  <a:pt x="11207" y="1315"/>
                  <a:pt x="11186" y="1328"/>
                  <a:pt x="11162" y="1339"/>
                </a:cubicBezTo>
                <a:cubicBezTo>
                  <a:pt x="11121" y="1359"/>
                  <a:pt x="11077" y="1379"/>
                  <a:pt x="11038" y="1414"/>
                </a:cubicBezTo>
                <a:cubicBezTo>
                  <a:pt x="10963" y="1481"/>
                  <a:pt x="10945" y="1543"/>
                  <a:pt x="10914" y="1637"/>
                </a:cubicBezTo>
                <a:cubicBezTo>
                  <a:pt x="10875" y="1753"/>
                  <a:pt x="10868" y="1886"/>
                  <a:pt x="10864" y="2009"/>
                </a:cubicBezTo>
                <a:cubicBezTo>
                  <a:pt x="10862" y="2073"/>
                  <a:pt x="10875" y="2160"/>
                  <a:pt x="10914" y="2208"/>
                </a:cubicBezTo>
                <a:cubicBezTo>
                  <a:pt x="10954" y="2257"/>
                  <a:pt x="10982" y="2299"/>
                  <a:pt x="11038" y="2332"/>
                </a:cubicBezTo>
                <a:cubicBezTo>
                  <a:pt x="11082" y="2353"/>
                  <a:pt x="11094" y="2356"/>
                  <a:pt x="11112" y="2381"/>
                </a:cubicBezTo>
              </a:path>
              <a:path w="4565" h="1366">
                <a:moveTo>
                  <a:pt x="11509" y="1637"/>
                </a:moveTo>
                <a:cubicBezTo>
                  <a:pt x="11545" y="1673"/>
                  <a:pt x="11554" y="1702"/>
                  <a:pt x="11584" y="1736"/>
                </a:cubicBezTo>
                <a:cubicBezTo>
                  <a:pt x="11604" y="1758"/>
                  <a:pt x="11645" y="1807"/>
                  <a:pt x="11658" y="1836"/>
                </a:cubicBezTo>
                <a:cubicBezTo>
                  <a:pt x="11674" y="1872"/>
                  <a:pt x="11687" y="1930"/>
                  <a:pt x="11708" y="1960"/>
                </a:cubicBezTo>
                <a:cubicBezTo>
                  <a:pt x="11740" y="2007"/>
                  <a:pt x="11771" y="2057"/>
                  <a:pt x="11807" y="2084"/>
                </a:cubicBezTo>
                <a:cubicBezTo>
                  <a:pt x="11815" y="2092"/>
                  <a:pt x="11824" y="2100"/>
                  <a:pt x="11832" y="2108"/>
                </a:cubicBezTo>
              </a:path>
              <a:path w="4565" h="1366">
                <a:moveTo>
                  <a:pt x="11881" y="1538"/>
                </a:moveTo>
                <a:cubicBezTo>
                  <a:pt x="11841" y="1579"/>
                  <a:pt x="11816" y="1620"/>
                  <a:pt x="11782" y="1662"/>
                </a:cubicBezTo>
                <a:cubicBezTo>
                  <a:pt x="11726" y="1731"/>
                  <a:pt x="11662" y="1791"/>
                  <a:pt x="11609" y="1860"/>
                </a:cubicBezTo>
                <a:cubicBezTo>
                  <a:pt x="11582" y="1895"/>
                  <a:pt x="11566" y="1919"/>
                  <a:pt x="11534" y="1935"/>
                </a:cubicBezTo>
                <a:cubicBezTo>
                  <a:pt x="11534" y="1960"/>
                  <a:pt x="11534" y="1968"/>
                  <a:pt x="11534" y="1984"/>
                </a:cubicBezTo>
              </a:path>
              <a:path w="4565" h="1366">
                <a:moveTo>
                  <a:pt x="11584" y="1984"/>
                </a:moveTo>
                <a:cubicBezTo>
                  <a:pt x="11576" y="1984"/>
                  <a:pt x="11567" y="1984"/>
                  <a:pt x="11559" y="1984"/>
                </a:cubicBezTo>
                <a:cubicBezTo>
                  <a:pt x="11549" y="2014"/>
                  <a:pt x="11538" y="2025"/>
                  <a:pt x="11509" y="2059"/>
                </a:cubicBezTo>
                <a:cubicBezTo>
                  <a:pt x="11483" y="2089"/>
                  <a:pt x="11484" y="2102"/>
                  <a:pt x="11460" y="2133"/>
                </a:cubicBezTo>
              </a:path>
              <a:path w="4565" h="1366">
                <a:moveTo>
                  <a:pt x="12204" y="1786"/>
                </a:moveTo>
                <a:cubicBezTo>
                  <a:pt x="12244" y="1756"/>
                  <a:pt x="12267" y="1781"/>
                  <a:pt x="12303" y="1761"/>
                </a:cubicBezTo>
                <a:cubicBezTo>
                  <a:pt x="12349" y="1735"/>
                  <a:pt x="12368" y="1736"/>
                  <a:pt x="12427" y="1736"/>
                </a:cubicBezTo>
                <a:cubicBezTo>
                  <a:pt x="12452" y="1736"/>
                  <a:pt x="12460" y="1736"/>
                  <a:pt x="12477" y="1736"/>
                </a:cubicBezTo>
              </a:path>
              <a:path w="4565" h="1366">
                <a:moveTo>
                  <a:pt x="12750" y="1463"/>
                </a:moveTo>
                <a:cubicBezTo>
                  <a:pt x="12825" y="1443"/>
                  <a:pt x="12897" y="1418"/>
                  <a:pt x="12973" y="1414"/>
                </a:cubicBezTo>
                <a:cubicBezTo>
                  <a:pt x="13043" y="1410"/>
                  <a:pt x="13108" y="1415"/>
                  <a:pt x="13171" y="1439"/>
                </a:cubicBezTo>
                <a:cubicBezTo>
                  <a:pt x="13207" y="1453"/>
                  <a:pt x="13247" y="1491"/>
                  <a:pt x="13221" y="1538"/>
                </a:cubicBezTo>
                <a:cubicBezTo>
                  <a:pt x="13189" y="1596"/>
                  <a:pt x="13146" y="1595"/>
                  <a:pt x="13097" y="1612"/>
                </a:cubicBezTo>
                <a:cubicBezTo>
                  <a:pt x="13061" y="1625"/>
                  <a:pt x="13000" y="1644"/>
                  <a:pt x="12973" y="1662"/>
                </a:cubicBezTo>
                <a:cubicBezTo>
                  <a:pt x="12965" y="1670"/>
                  <a:pt x="12956" y="1679"/>
                  <a:pt x="12948" y="1687"/>
                </a:cubicBezTo>
                <a:cubicBezTo>
                  <a:pt x="12981" y="1720"/>
                  <a:pt x="13014" y="1753"/>
                  <a:pt x="13047" y="1786"/>
                </a:cubicBezTo>
                <a:cubicBezTo>
                  <a:pt x="13081" y="1820"/>
                  <a:pt x="13121" y="1853"/>
                  <a:pt x="13097" y="1910"/>
                </a:cubicBezTo>
                <a:cubicBezTo>
                  <a:pt x="13075" y="1962"/>
                  <a:pt x="13048" y="1964"/>
                  <a:pt x="12998" y="1984"/>
                </a:cubicBezTo>
                <a:cubicBezTo>
                  <a:pt x="12921" y="2015"/>
                  <a:pt x="12820" y="2026"/>
                  <a:pt x="12750" y="2059"/>
                </a:cubicBezTo>
                <a:cubicBezTo>
                  <a:pt x="12742" y="2067"/>
                  <a:pt x="12733" y="2076"/>
                  <a:pt x="12725" y="2084"/>
                </a:cubicBezTo>
              </a:path>
              <a:path w="4565" h="1366">
                <a:moveTo>
                  <a:pt x="13618" y="1191"/>
                </a:moveTo>
                <a:cubicBezTo>
                  <a:pt x="13634" y="1210"/>
                  <a:pt x="13685" y="1267"/>
                  <a:pt x="13692" y="1290"/>
                </a:cubicBezTo>
                <a:cubicBezTo>
                  <a:pt x="13718" y="1381"/>
                  <a:pt x="13738" y="1427"/>
                  <a:pt x="13742" y="1538"/>
                </a:cubicBezTo>
                <a:cubicBezTo>
                  <a:pt x="13745" y="1635"/>
                  <a:pt x="13745" y="1719"/>
                  <a:pt x="13717" y="1811"/>
                </a:cubicBezTo>
                <a:cubicBezTo>
                  <a:pt x="13684" y="1923"/>
                  <a:pt x="13607" y="2012"/>
                  <a:pt x="13543" y="2108"/>
                </a:cubicBezTo>
                <a:cubicBezTo>
                  <a:pt x="13490" y="2189"/>
                  <a:pt x="13422" y="2297"/>
                  <a:pt x="13345" y="2356"/>
                </a:cubicBezTo>
                <a:cubicBezTo>
                  <a:pt x="13291" y="2398"/>
                  <a:pt x="13276" y="2402"/>
                  <a:pt x="13246" y="2456"/>
                </a:cubicBezTo>
              </a:path>
              <a:path w="4565" h="1366">
                <a:moveTo>
                  <a:pt x="14015" y="1116"/>
                </a:moveTo>
                <a:cubicBezTo>
                  <a:pt x="14071" y="1116"/>
                  <a:pt x="14048" y="1096"/>
                  <a:pt x="14089" y="1091"/>
                </a:cubicBezTo>
                <a:cubicBezTo>
                  <a:pt x="14132" y="1086"/>
                  <a:pt x="14157" y="1088"/>
                  <a:pt x="14188" y="1116"/>
                </a:cubicBezTo>
                <a:cubicBezTo>
                  <a:pt x="14238" y="1161"/>
                  <a:pt x="14203" y="1172"/>
                  <a:pt x="14188" y="1215"/>
                </a:cubicBezTo>
                <a:cubicBezTo>
                  <a:pt x="14174" y="1257"/>
                  <a:pt x="14149" y="1281"/>
                  <a:pt x="14114" y="1315"/>
                </a:cubicBezTo>
                <a:cubicBezTo>
                  <a:pt x="14074" y="1354"/>
                  <a:pt x="14028" y="1387"/>
                  <a:pt x="14015" y="1439"/>
                </a:cubicBezTo>
                <a:cubicBezTo>
                  <a:pt x="14067" y="1452"/>
                  <a:pt x="14101" y="1463"/>
                  <a:pt x="14163" y="1463"/>
                </a:cubicBezTo>
                <a:cubicBezTo>
                  <a:pt x="14271" y="1463"/>
                  <a:pt x="14378" y="1463"/>
                  <a:pt x="14486" y="14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1071720"/>
            <a:ext cx="492120" cy="590400"/>
          </a:xfrm>
          <a:custGeom>
            <a:avLst/>
            <a:gdLst/>
            <a:ahLst/>
            <a:rect l="l" t="t" r="r" b="b"/>
            <a:pathLst>
              <a:path w="1366" h="1638">
                <a:moveTo>
                  <a:pt x="1215" y="3373"/>
                </a:moveTo>
                <a:cubicBezTo>
                  <a:pt x="1215" y="3436"/>
                  <a:pt x="1197" y="3487"/>
                  <a:pt x="1191" y="3547"/>
                </a:cubicBezTo>
                <a:cubicBezTo>
                  <a:pt x="1182" y="3642"/>
                  <a:pt x="1154" y="3757"/>
                  <a:pt x="1116" y="3845"/>
                </a:cubicBezTo>
                <a:cubicBezTo>
                  <a:pt x="1099" y="3885"/>
                  <a:pt x="1091" y="3872"/>
                  <a:pt x="1091" y="3919"/>
                </a:cubicBezTo>
                <a:cubicBezTo>
                  <a:pt x="1145" y="3919"/>
                  <a:pt x="1164" y="3918"/>
                  <a:pt x="1215" y="3894"/>
                </a:cubicBezTo>
                <a:cubicBezTo>
                  <a:pt x="1297" y="3856"/>
                  <a:pt x="1377" y="3824"/>
                  <a:pt x="1463" y="3795"/>
                </a:cubicBezTo>
                <a:cubicBezTo>
                  <a:pt x="1545" y="3767"/>
                  <a:pt x="1615" y="3769"/>
                  <a:pt x="1687" y="3721"/>
                </a:cubicBezTo>
              </a:path>
              <a:path w="1366" h="1638">
                <a:moveTo>
                  <a:pt x="1513" y="3200"/>
                </a:moveTo>
                <a:cubicBezTo>
                  <a:pt x="1521" y="3360"/>
                  <a:pt x="1538" y="3509"/>
                  <a:pt x="1538" y="3671"/>
                </a:cubicBezTo>
                <a:cubicBezTo>
                  <a:pt x="1538" y="3828"/>
                  <a:pt x="1556" y="3989"/>
                  <a:pt x="1588" y="4142"/>
                </a:cubicBezTo>
                <a:cubicBezTo>
                  <a:pt x="1596" y="4182"/>
                  <a:pt x="1602" y="4362"/>
                  <a:pt x="1637" y="4390"/>
                </a:cubicBezTo>
                <a:cubicBezTo>
                  <a:pt x="1663" y="4411"/>
                  <a:pt x="1662" y="4349"/>
                  <a:pt x="1662" y="4316"/>
                </a:cubicBezTo>
              </a:path>
              <a:path w="1366" h="1638">
                <a:moveTo>
                  <a:pt x="1910" y="3274"/>
                </a:moveTo>
                <a:cubicBezTo>
                  <a:pt x="1948" y="3426"/>
                  <a:pt x="1961" y="3569"/>
                  <a:pt x="1984" y="3721"/>
                </a:cubicBezTo>
                <a:cubicBezTo>
                  <a:pt x="2004" y="3852"/>
                  <a:pt x="2034" y="3958"/>
                  <a:pt x="2034" y="4093"/>
                </a:cubicBezTo>
                <a:cubicBezTo>
                  <a:pt x="2034" y="4103"/>
                  <a:pt x="2033" y="4326"/>
                  <a:pt x="2059" y="4291"/>
                </a:cubicBezTo>
                <a:cubicBezTo>
                  <a:pt x="2059" y="4283"/>
                  <a:pt x="2059" y="4274"/>
                  <a:pt x="2059" y="4266"/>
                </a:cubicBezTo>
              </a:path>
              <a:path w="1366" h="1638">
                <a:moveTo>
                  <a:pt x="1687" y="3001"/>
                </a:moveTo>
                <a:cubicBezTo>
                  <a:pt x="1833" y="2966"/>
                  <a:pt x="1922" y="3004"/>
                  <a:pt x="2059" y="3076"/>
                </a:cubicBezTo>
                <a:cubicBezTo>
                  <a:pt x="2244" y="3173"/>
                  <a:pt x="2369" y="3322"/>
                  <a:pt x="2431" y="3522"/>
                </a:cubicBezTo>
                <a:cubicBezTo>
                  <a:pt x="2478" y="3673"/>
                  <a:pt x="2471" y="3866"/>
                  <a:pt x="2431" y="4018"/>
                </a:cubicBezTo>
                <a:cubicBezTo>
                  <a:pt x="2373" y="4240"/>
                  <a:pt x="2278" y="4421"/>
                  <a:pt x="2158" y="46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920" y="1839960"/>
            <a:ext cx="1098360" cy="758880"/>
          </a:xfrm>
          <a:custGeom>
            <a:avLst/>
            <a:gdLst/>
            <a:ahLst/>
            <a:rect l="l" t="t" r="r" b="b"/>
            <a:pathLst>
              <a:path w="3052" h="2109">
                <a:moveTo>
                  <a:pt x="1910" y="5110"/>
                </a:moveTo>
                <a:cubicBezTo>
                  <a:pt x="1853" y="5117"/>
                  <a:pt x="1779" y="5138"/>
                  <a:pt x="1736" y="5184"/>
                </a:cubicBezTo>
                <a:cubicBezTo>
                  <a:pt x="1684" y="5240"/>
                  <a:pt x="1644" y="5302"/>
                  <a:pt x="1588" y="5358"/>
                </a:cubicBezTo>
                <a:cubicBezTo>
                  <a:pt x="1507" y="5438"/>
                  <a:pt x="1474" y="5549"/>
                  <a:pt x="1439" y="5655"/>
                </a:cubicBezTo>
                <a:cubicBezTo>
                  <a:pt x="1397" y="5782"/>
                  <a:pt x="1373" y="5918"/>
                  <a:pt x="1364" y="6052"/>
                </a:cubicBezTo>
                <a:cubicBezTo>
                  <a:pt x="1347" y="6301"/>
                  <a:pt x="1369" y="6552"/>
                  <a:pt x="1389" y="6796"/>
                </a:cubicBezTo>
                <a:cubicBezTo>
                  <a:pt x="1398" y="6905"/>
                  <a:pt x="1402" y="7015"/>
                  <a:pt x="1439" y="7119"/>
                </a:cubicBezTo>
                <a:cubicBezTo>
                  <a:pt x="1457" y="7169"/>
                  <a:pt x="1481" y="7182"/>
                  <a:pt x="1513" y="7218"/>
                </a:cubicBezTo>
              </a:path>
              <a:path w="3052" h="2109">
                <a:moveTo>
                  <a:pt x="471" y="5581"/>
                </a:moveTo>
                <a:cubicBezTo>
                  <a:pt x="484" y="5542"/>
                  <a:pt x="510" y="5554"/>
                  <a:pt x="546" y="5531"/>
                </a:cubicBezTo>
                <a:cubicBezTo>
                  <a:pt x="590" y="5503"/>
                  <a:pt x="637" y="5485"/>
                  <a:pt x="695" y="5482"/>
                </a:cubicBezTo>
                <a:cubicBezTo>
                  <a:pt x="754" y="5479"/>
                  <a:pt x="774" y="5482"/>
                  <a:pt x="819" y="5507"/>
                </a:cubicBezTo>
                <a:cubicBezTo>
                  <a:pt x="884" y="5544"/>
                  <a:pt x="861" y="5542"/>
                  <a:pt x="893" y="5606"/>
                </a:cubicBezTo>
                <a:cubicBezTo>
                  <a:pt x="919" y="5657"/>
                  <a:pt x="918" y="5692"/>
                  <a:pt x="918" y="5755"/>
                </a:cubicBezTo>
                <a:cubicBezTo>
                  <a:pt x="918" y="5819"/>
                  <a:pt x="895" y="5878"/>
                  <a:pt x="868" y="5928"/>
                </a:cubicBezTo>
                <a:cubicBezTo>
                  <a:pt x="812" y="6033"/>
                  <a:pt x="759" y="6129"/>
                  <a:pt x="695" y="6226"/>
                </a:cubicBezTo>
                <a:cubicBezTo>
                  <a:pt x="659" y="6280"/>
                  <a:pt x="619" y="6338"/>
                  <a:pt x="595" y="6400"/>
                </a:cubicBezTo>
                <a:cubicBezTo>
                  <a:pt x="581" y="6437"/>
                  <a:pt x="567" y="6493"/>
                  <a:pt x="546" y="6524"/>
                </a:cubicBezTo>
                <a:cubicBezTo>
                  <a:pt x="517" y="6566"/>
                  <a:pt x="494" y="6604"/>
                  <a:pt x="571" y="6623"/>
                </a:cubicBezTo>
                <a:cubicBezTo>
                  <a:pt x="602" y="6631"/>
                  <a:pt x="668" y="6644"/>
                  <a:pt x="695" y="6648"/>
                </a:cubicBezTo>
                <a:cubicBezTo>
                  <a:pt x="750" y="6656"/>
                  <a:pt x="813" y="6648"/>
                  <a:pt x="868" y="6648"/>
                </a:cubicBezTo>
              </a:path>
              <a:path w="3052" h="2109">
                <a:moveTo>
                  <a:pt x="2084" y="6871"/>
                </a:moveTo>
                <a:cubicBezTo>
                  <a:pt x="2096" y="6833"/>
                  <a:pt x="2113" y="6846"/>
                  <a:pt x="2158" y="6846"/>
                </a:cubicBezTo>
                <a:cubicBezTo>
                  <a:pt x="2231" y="6846"/>
                  <a:pt x="2289" y="6832"/>
                  <a:pt x="2356" y="6821"/>
                </a:cubicBezTo>
                <a:cubicBezTo>
                  <a:pt x="2445" y="6806"/>
                  <a:pt x="2539" y="6809"/>
                  <a:pt x="2629" y="6796"/>
                </a:cubicBezTo>
                <a:cubicBezTo>
                  <a:pt x="2758" y="6778"/>
                  <a:pt x="2872" y="6772"/>
                  <a:pt x="3001" y="6772"/>
                </a:cubicBezTo>
                <a:cubicBezTo>
                  <a:pt x="3130" y="6772"/>
                  <a:pt x="3249" y="6761"/>
                  <a:pt x="3373" y="6747"/>
                </a:cubicBezTo>
                <a:cubicBezTo>
                  <a:pt x="3448" y="6747"/>
                  <a:pt x="3472" y="6747"/>
                  <a:pt x="3522" y="6747"/>
                </a:cubicBezTo>
              </a:path>
              <a:path w="3052" h="2109">
                <a:moveTo>
                  <a:pt x="2381" y="6003"/>
                </a:moveTo>
                <a:cubicBezTo>
                  <a:pt x="2405" y="6058"/>
                  <a:pt x="2405" y="6104"/>
                  <a:pt x="2431" y="6152"/>
                </a:cubicBezTo>
                <a:cubicBezTo>
                  <a:pt x="2464" y="6213"/>
                  <a:pt x="2472" y="6262"/>
                  <a:pt x="2505" y="6325"/>
                </a:cubicBezTo>
                <a:cubicBezTo>
                  <a:pt x="2544" y="6399"/>
                  <a:pt x="2573" y="6486"/>
                  <a:pt x="2629" y="6548"/>
                </a:cubicBezTo>
                <a:cubicBezTo>
                  <a:pt x="2666" y="6589"/>
                  <a:pt x="2671" y="6635"/>
                  <a:pt x="2704" y="6672"/>
                </a:cubicBezTo>
                <a:cubicBezTo>
                  <a:pt x="2712" y="6680"/>
                  <a:pt x="2721" y="6689"/>
                  <a:pt x="2729" y="6697"/>
                </a:cubicBezTo>
              </a:path>
              <a:path w="3052" h="2109">
                <a:moveTo>
                  <a:pt x="2753" y="6052"/>
                </a:moveTo>
                <a:cubicBezTo>
                  <a:pt x="2724" y="6123"/>
                  <a:pt x="2726" y="6118"/>
                  <a:pt x="2704" y="6176"/>
                </a:cubicBezTo>
                <a:cubicBezTo>
                  <a:pt x="2673" y="6259"/>
                  <a:pt x="2629" y="6330"/>
                  <a:pt x="2580" y="6400"/>
                </a:cubicBezTo>
                <a:cubicBezTo>
                  <a:pt x="2518" y="6487"/>
                  <a:pt x="2477" y="6594"/>
                  <a:pt x="2406" y="6672"/>
                </a:cubicBezTo>
                <a:cubicBezTo>
                  <a:pt x="2375" y="6706"/>
                  <a:pt x="2351" y="6722"/>
                  <a:pt x="2381" y="6722"/>
                </a:cubicBezTo>
              </a:path>
              <a:path w="3052" h="2109">
                <a:moveTo>
                  <a:pt x="3001" y="5507"/>
                </a:moveTo>
                <a:cubicBezTo>
                  <a:pt x="3001" y="5598"/>
                  <a:pt x="3001" y="5688"/>
                  <a:pt x="3001" y="5779"/>
                </a:cubicBezTo>
              </a:path>
              <a:path w="3052" h="2109">
                <a:moveTo>
                  <a:pt x="3026" y="5482"/>
                </a:moveTo>
                <a:cubicBezTo>
                  <a:pt x="2989" y="5491"/>
                  <a:pt x="2957" y="5505"/>
                  <a:pt x="2927" y="5531"/>
                </a:cubicBezTo>
                <a:cubicBezTo>
                  <a:pt x="2902" y="5556"/>
                  <a:pt x="2894" y="5564"/>
                  <a:pt x="2877" y="5581"/>
                </a:cubicBezTo>
                <a:cubicBezTo>
                  <a:pt x="2899" y="5598"/>
                  <a:pt x="2944" y="5625"/>
                  <a:pt x="2977" y="5606"/>
                </a:cubicBezTo>
                <a:cubicBezTo>
                  <a:pt x="3025" y="5579"/>
                  <a:pt x="3067" y="5561"/>
                  <a:pt x="3125" y="5556"/>
                </a:cubicBezTo>
                <a:cubicBezTo>
                  <a:pt x="3173" y="5552"/>
                  <a:pt x="3188" y="5559"/>
                  <a:pt x="3225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71760" y="1990800"/>
            <a:ext cx="3813120" cy="617400"/>
          </a:xfrm>
          <a:custGeom>
            <a:avLst/>
            <a:gdLst/>
            <a:ahLst/>
            <a:rect l="l" t="t" r="r" b="b"/>
            <a:pathLst>
              <a:path w="10592" h="1713">
                <a:moveTo>
                  <a:pt x="4440" y="6796"/>
                </a:moveTo>
                <a:cubicBezTo>
                  <a:pt x="4492" y="6767"/>
                  <a:pt x="4508" y="6750"/>
                  <a:pt x="4564" y="6747"/>
                </a:cubicBezTo>
                <a:cubicBezTo>
                  <a:pt x="4625" y="6743"/>
                  <a:pt x="4656" y="6753"/>
                  <a:pt x="4713" y="6747"/>
                </a:cubicBezTo>
                <a:cubicBezTo>
                  <a:pt x="5006" y="6714"/>
                  <a:pt x="5314" y="6747"/>
                  <a:pt x="5606" y="6722"/>
                </a:cubicBezTo>
                <a:cubicBezTo>
                  <a:pt x="5780" y="6707"/>
                  <a:pt x="5955" y="6713"/>
                  <a:pt x="6127" y="6697"/>
                </a:cubicBezTo>
                <a:cubicBezTo>
                  <a:pt x="6203" y="6697"/>
                  <a:pt x="6229" y="6696"/>
                  <a:pt x="6276" y="6672"/>
                </a:cubicBezTo>
              </a:path>
              <a:path w="10592" h="1713">
                <a:moveTo>
                  <a:pt x="7342" y="6747"/>
                </a:moveTo>
                <a:cubicBezTo>
                  <a:pt x="7400" y="6772"/>
                  <a:pt x="7427" y="6772"/>
                  <a:pt x="7491" y="6772"/>
                </a:cubicBezTo>
                <a:cubicBezTo>
                  <a:pt x="7585" y="6772"/>
                  <a:pt x="7666" y="6747"/>
                  <a:pt x="7764" y="6747"/>
                </a:cubicBezTo>
                <a:cubicBezTo>
                  <a:pt x="7914" y="6747"/>
                  <a:pt x="8059" y="6722"/>
                  <a:pt x="8210" y="6722"/>
                </a:cubicBezTo>
                <a:cubicBezTo>
                  <a:pt x="8409" y="6722"/>
                  <a:pt x="8607" y="6722"/>
                  <a:pt x="8806" y="6722"/>
                </a:cubicBezTo>
              </a:path>
              <a:path w="10592" h="1713">
                <a:moveTo>
                  <a:pt x="9773" y="6796"/>
                </a:moveTo>
                <a:cubicBezTo>
                  <a:pt x="9847" y="6796"/>
                  <a:pt x="9899" y="6812"/>
                  <a:pt x="9971" y="6821"/>
                </a:cubicBezTo>
                <a:cubicBezTo>
                  <a:pt x="10075" y="6834"/>
                  <a:pt x="10118" y="6831"/>
                  <a:pt x="10220" y="6821"/>
                </a:cubicBezTo>
                <a:cubicBezTo>
                  <a:pt x="10584" y="6785"/>
                  <a:pt x="10970" y="6821"/>
                  <a:pt x="11336" y="6821"/>
                </a:cubicBezTo>
              </a:path>
              <a:path w="10592" h="1713">
                <a:moveTo>
                  <a:pt x="12675" y="6921"/>
                </a:moveTo>
                <a:cubicBezTo>
                  <a:pt x="12675" y="6890"/>
                  <a:pt x="12673" y="6921"/>
                  <a:pt x="12725" y="6921"/>
                </a:cubicBezTo>
                <a:cubicBezTo>
                  <a:pt x="12992" y="6921"/>
                  <a:pt x="13254" y="6929"/>
                  <a:pt x="13519" y="6945"/>
                </a:cubicBezTo>
                <a:cubicBezTo>
                  <a:pt x="13684" y="6955"/>
                  <a:pt x="13850" y="6966"/>
                  <a:pt x="14015" y="6970"/>
                </a:cubicBezTo>
                <a:cubicBezTo>
                  <a:pt x="14048" y="6970"/>
                  <a:pt x="14081" y="6970"/>
                  <a:pt x="14114" y="6970"/>
                </a:cubicBezTo>
              </a:path>
              <a:path w="10592" h="1713">
                <a:moveTo>
                  <a:pt x="14635" y="5631"/>
                </a:moveTo>
                <a:cubicBezTo>
                  <a:pt x="14661" y="5672"/>
                  <a:pt x="14693" y="5714"/>
                  <a:pt x="14734" y="5755"/>
                </a:cubicBezTo>
                <a:cubicBezTo>
                  <a:pt x="14806" y="5826"/>
                  <a:pt x="14805" y="5900"/>
                  <a:pt x="14858" y="5978"/>
                </a:cubicBezTo>
                <a:cubicBezTo>
                  <a:pt x="14919" y="6069"/>
                  <a:pt x="14911" y="6140"/>
                  <a:pt x="14932" y="6251"/>
                </a:cubicBezTo>
                <a:cubicBezTo>
                  <a:pt x="14951" y="6352"/>
                  <a:pt x="14976" y="6468"/>
                  <a:pt x="14957" y="6573"/>
                </a:cubicBezTo>
                <a:cubicBezTo>
                  <a:pt x="14939" y="6671"/>
                  <a:pt x="14946" y="6811"/>
                  <a:pt x="14883" y="6896"/>
                </a:cubicBezTo>
                <a:cubicBezTo>
                  <a:pt x="14825" y="6974"/>
                  <a:pt x="14763" y="7029"/>
                  <a:pt x="14684" y="7069"/>
                </a:cubicBezTo>
                <a:cubicBezTo>
                  <a:pt x="14623" y="7099"/>
                  <a:pt x="14567" y="7136"/>
                  <a:pt x="14511" y="7169"/>
                </a:cubicBezTo>
                <a:cubicBezTo>
                  <a:pt x="14464" y="7196"/>
                  <a:pt x="14426" y="7212"/>
                  <a:pt x="14387" y="7243"/>
                </a:cubicBezTo>
              </a:path>
              <a:path w="10592" h="1713">
                <a:moveTo>
                  <a:pt x="5135" y="6028"/>
                </a:moveTo>
                <a:cubicBezTo>
                  <a:pt x="5166" y="6101"/>
                  <a:pt x="5152" y="6115"/>
                  <a:pt x="5209" y="6176"/>
                </a:cubicBezTo>
                <a:cubicBezTo>
                  <a:pt x="5242" y="6212"/>
                  <a:pt x="5290" y="6256"/>
                  <a:pt x="5308" y="6300"/>
                </a:cubicBezTo>
                <a:cubicBezTo>
                  <a:pt x="5325" y="6344"/>
                  <a:pt x="5372" y="6403"/>
                  <a:pt x="5383" y="6449"/>
                </a:cubicBezTo>
                <a:cubicBezTo>
                  <a:pt x="5394" y="6497"/>
                  <a:pt x="5406" y="6534"/>
                  <a:pt x="5432" y="6573"/>
                </a:cubicBezTo>
                <a:cubicBezTo>
                  <a:pt x="5455" y="6596"/>
                  <a:pt x="5463" y="6600"/>
                  <a:pt x="5457" y="6623"/>
                </a:cubicBezTo>
              </a:path>
              <a:path w="10592" h="1713">
                <a:moveTo>
                  <a:pt x="5507" y="6102"/>
                </a:moveTo>
                <a:cubicBezTo>
                  <a:pt x="5452" y="6165"/>
                  <a:pt x="5432" y="6236"/>
                  <a:pt x="5383" y="6300"/>
                </a:cubicBezTo>
                <a:cubicBezTo>
                  <a:pt x="5303" y="6404"/>
                  <a:pt x="5263" y="6517"/>
                  <a:pt x="5184" y="6623"/>
                </a:cubicBezTo>
                <a:cubicBezTo>
                  <a:pt x="5162" y="6645"/>
                  <a:pt x="5153" y="6650"/>
                  <a:pt x="5159" y="6672"/>
                </a:cubicBezTo>
              </a:path>
              <a:path w="10592" h="1713">
                <a:moveTo>
                  <a:pt x="5730" y="5531"/>
                </a:moveTo>
                <a:cubicBezTo>
                  <a:pt x="5771" y="5531"/>
                  <a:pt x="5813" y="5531"/>
                  <a:pt x="5854" y="5531"/>
                </a:cubicBezTo>
                <a:cubicBezTo>
                  <a:pt x="5854" y="5591"/>
                  <a:pt x="5846" y="5569"/>
                  <a:pt x="5804" y="5606"/>
                </a:cubicBezTo>
                <a:cubicBezTo>
                  <a:pt x="5787" y="5621"/>
                  <a:pt x="5734" y="5653"/>
                  <a:pt x="5730" y="5655"/>
                </a:cubicBezTo>
                <a:cubicBezTo>
                  <a:pt x="5710" y="5664"/>
                  <a:pt x="5735" y="5665"/>
                  <a:pt x="5779" y="5680"/>
                </a:cubicBezTo>
                <a:cubicBezTo>
                  <a:pt x="5827" y="5696"/>
                  <a:pt x="5829" y="5702"/>
                  <a:pt x="5829" y="5755"/>
                </a:cubicBezTo>
                <a:cubicBezTo>
                  <a:pt x="5829" y="5787"/>
                  <a:pt x="5785" y="5862"/>
                  <a:pt x="5755" y="5879"/>
                </a:cubicBezTo>
                <a:cubicBezTo>
                  <a:pt x="5747" y="5879"/>
                  <a:pt x="5738" y="5879"/>
                  <a:pt x="5730" y="5879"/>
                </a:cubicBezTo>
              </a:path>
              <a:path w="10592" h="1713">
                <a:moveTo>
                  <a:pt x="7987" y="6127"/>
                </a:moveTo>
                <a:cubicBezTo>
                  <a:pt x="8032" y="6200"/>
                  <a:pt x="8068" y="6276"/>
                  <a:pt x="8111" y="6350"/>
                </a:cubicBezTo>
                <a:cubicBezTo>
                  <a:pt x="8151" y="6418"/>
                  <a:pt x="8207" y="6490"/>
                  <a:pt x="8260" y="6548"/>
                </a:cubicBezTo>
                <a:cubicBezTo>
                  <a:pt x="8288" y="6579"/>
                  <a:pt x="8322" y="6610"/>
                  <a:pt x="8334" y="6648"/>
                </a:cubicBezTo>
                <a:cubicBezTo>
                  <a:pt x="8334" y="6656"/>
                  <a:pt x="8334" y="6664"/>
                  <a:pt x="8334" y="6672"/>
                </a:cubicBezTo>
              </a:path>
              <a:path w="10592" h="1713">
                <a:moveTo>
                  <a:pt x="8409" y="6201"/>
                </a:moveTo>
                <a:cubicBezTo>
                  <a:pt x="8332" y="6201"/>
                  <a:pt x="8326" y="6209"/>
                  <a:pt x="8285" y="6276"/>
                </a:cubicBezTo>
                <a:cubicBezTo>
                  <a:pt x="8235" y="6359"/>
                  <a:pt x="8173" y="6448"/>
                  <a:pt x="8111" y="6524"/>
                </a:cubicBezTo>
                <a:cubicBezTo>
                  <a:pt x="8069" y="6575"/>
                  <a:pt x="7989" y="6637"/>
                  <a:pt x="7962" y="6697"/>
                </a:cubicBezTo>
                <a:cubicBezTo>
                  <a:pt x="7962" y="6705"/>
                  <a:pt x="7962" y="6714"/>
                  <a:pt x="7962" y="6722"/>
                </a:cubicBezTo>
              </a:path>
              <a:path w="10592" h="1713">
                <a:moveTo>
                  <a:pt x="8533" y="5779"/>
                </a:moveTo>
                <a:cubicBezTo>
                  <a:pt x="8560" y="5764"/>
                  <a:pt x="8647" y="5695"/>
                  <a:pt x="8682" y="5730"/>
                </a:cubicBezTo>
                <a:cubicBezTo>
                  <a:pt x="8705" y="5753"/>
                  <a:pt x="8716" y="5750"/>
                  <a:pt x="8731" y="5779"/>
                </a:cubicBezTo>
                <a:cubicBezTo>
                  <a:pt x="8745" y="5806"/>
                  <a:pt x="8717" y="5862"/>
                  <a:pt x="8706" y="5879"/>
                </a:cubicBezTo>
                <a:cubicBezTo>
                  <a:pt x="8687" y="5909"/>
                  <a:pt x="8637" y="5958"/>
                  <a:pt x="8607" y="5978"/>
                </a:cubicBezTo>
                <a:cubicBezTo>
                  <a:pt x="8564" y="6006"/>
                  <a:pt x="8520" y="6017"/>
                  <a:pt x="8508" y="6052"/>
                </a:cubicBezTo>
                <a:cubicBezTo>
                  <a:pt x="8607" y="6052"/>
                  <a:pt x="8707" y="6052"/>
                  <a:pt x="8806" y="6052"/>
                </a:cubicBezTo>
              </a:path>
              <a:path w="10592" h="1713">
                <a:moveTo>
                  <a:pt x="10567" y="6127"/>
                </a:moveTo>
                <a:cubicBezTo>
                  <a:pt x="10567" y="6135"/>
                  <a:pt x="10567" y="6144"/>
                  <a:pt x="10567" y="6152"/>
                </a:cubicBezTo>
                <a:cubicBezTo>
                  <a:pt x="10607" y="6165"/>
                  <a:pt x="10593" y="6191"/>
                  <a:pt x="10616" y="6226"/>
                </a:cubicBezTo>
                <a:cubicBezTo>
                  <a:pt x="10643" y="6266"/>
                  <a:pt x="10679" y="6354"/>
                  <a:pt x="10691" y="6400"/>
                </a:cubicBezTo>
                <a:cubicBezTo>
                  <a:pt x="10707" y="6462"/>
                  <a:pt x="10711" y="6518"/>
                  <a:pt x="10740" y="6573"/>
                </a:cubicBezTo>
                <a:cubicBezTo>
                  <a:pt x="10770" y="6630"/>
                  <a:pt x="10769" y="6651"/>
                  <a:pt x="10815" y="6697"/>
                </a:cubicBezTo>
                <a:cubicBezTo>
                  <a:pt x="10844" y="6726"/>
                  <a:pt x="10852" y="6738"/>
                  <a:pt x="10889" y="6747"/>
                </a:cubicBezTo>
              </a:path>
              <a:path w="10592" h="1713">
                <a:moveTo>
                  <a:pt x="11063" y="6102"/>
                </a:moveTo>
                <a:cubicBezTo>
                  <a:pt x="10985" y="6186"/>
                  <a:pt x="10921" y="6269"/>
                  <a:pt x="10840" y="6350"/>
                </a:cubicBezTo>
                <a:cubicBezTo>
                  <a:pt x="10764" y="6427"/>
                  <a:pt x="10694" y="6527"/>
                  <a:pt x="10616" y="6598"/>
                </a:cubicBezTo>
                <a:cubicBezTo>
                  <a:pt x="10545" y="6663"/>
                  <a:pt x="10491" y="6709"/>
                  <a:pt x="10443" y="6796"/>
                </a:cubicBezTo>
                <a:cubicBezTo>
                  <a:pt x="10435" y="6813"/>
                  <a:pt x="10426" y="6829"/>
                  <a:pt x="10418" y="6846"/>
                </a:cubicBezTo>
              </a:path>
              <a:path w="10592" h="1713">
                <a:moveTo>
                  <a:pt x="4713" y="5755"/>
                </a:moveTo>
                <a:cubicBezTo>
                  <a:pt x="4713" y="5833"/>
                  <a:pt x="4706" y="5880"/>
                  <a:pt x="4688" y="5953"/>
                </a:cubicBezTo>
                <a:cubicBezTo>
                  <a:pt x="4673" y="6012"/>
                  <a:pt x="4672" y="6093"/>
                  <a:pt x="4663" y="6152"/>
                </a:cubicBezTo>
                <a:cubicBezTo>
                  <a:pt x="4653" y="6212"/>
                  <a:pt x="4638" y="6262"/>
                  <a:pt x="4638" y="6325"/>
                </a:cubicBezTo>
                <a:cubicBezTo>
                  <a:pt x="4638" y="6394"/>
                  <a:pt x="4630" y="6442"/>
                  <a:pt x="4614" y="6499"/>
                </a:cubicBezTo>
                <a:cubicBezTo>
                  <a:pt x="4604" y="6534"/>
                  <a:pt x="4670" y="6615"/>
                  <a:pt x="4638" y="6598"/>
                </a:cubicBezTo>
                <a:cubicBezTo>
                  <a:pt x="4630" y="6590"/>
                  <a:pt x="4622" y="6581"/>
                  <a:pt x="4614" y="6573"/>
                </a:cubicBezTo>
              </a:path>
              <a:path w="10592" h="1713">
                <a:moveTo>
                  <a:pt x="4738" y="5755"/>
                </a:moveTo>
                <a:cubicBezTo>
                  <a:pt x="4701" y="5782"/>
                  <a:pt x="4673" y="5793"/>
                  <a:pt x="4638" y="5829"/>
                </a:cubicBezTo>
                <a:cubicBezTo>
                  <a:pt x="4600" y="5868"/>
                  <a:pt x="4556" y="5922"/>
                  <a:pt x="4514" y="5953"/>
                </a:cubicBezTo>
                <a:cubicBezTo>
                  <a:pt x="4468" y="5986"/>
                  <a:pt x="4431" y="6011"/>
                  <a:pt x="4390" y="6052"/>
                </a:cubicBezTo>
                <a:cubicBezTo>
                  <a:pt x="4368" y="6075"/>
                  <a:pt x="4360" y="6080"/>
                  <a:pt x="4366" y="6102"/>
                </a:cubicBezTo>
                <a:cubicBezTo>
                  <a:pt x="4487" y="6102"/>
                  <a:pt x="4599" y="6096"/>
                  <a:pt x="4713" y="6077"/>
                </a:cubicBezTo>
                <a:cubicBezTo>
                  <a:pt x="4767" y="6068"/>
                  <a:pt x="4824" y="6102"/>
                  <a:pt x="4887" y="6102"/>
                </a:cubicBezTo>
                <a:cubicBezTo>
                  <a:pt x="4912" y="6102"/>
                  <a:pt x="4936" y="6102"/>
                  <a:pt x="4961" y="6102"/>
                </a:cubicBezTo>
              </a:path>
              <a:path w="10592" h="1713">
                <a:moveTo>
                  <a:pt x="7714" y="5755"/>
                </a:moveTo>
                <a:cubicBezTo>
                  <a:pt x="7665" y="5755"/>
                  <a:pt x="7655" y="5766"/>
                  <a:pt x="7615" y="5779"/>
                </a:cubicBezTo>
                <a:cubicBezTo>
                  <a:pt x="7577" y="5791"/>
                  <a:pt x="7547" y="5801"/>
                  <a:pt x="7516" y="5829"/>
                </a:cubicBezTo>
                <a:cubicBezTo>
                  <a:pt x="7471" y="5869"/>
                  <a:pt x="7411" y="5919"/>
                  <a:pt x="7392" y="5978"/>
                </a:cubicBezTo>
                <a:cubicBezTo>
                  <a:pt x="7369" y="6049"/>
                  <a:pt x="7343" y="6129"/>
                  <a:pt x="7317" y="6201"/>
                </a:cubicBezTo>
                <a:cubicBezTo>
                  <a:pt x="7291" y="6271"/>
                  <a:pt x="7293" y="6325"/>
                  <a:pt x="7293" y="6400"/>
                </a:cubicBezTo>
                <a:cubicBezTo>
                  <a:pt x="7293" y="6424"/>
                  <a:pt x="7345" y="6513"/>
                  <a:pt x="7367" y="6524"/>
                </a:cubicBezTo>
                <a:cubicBezTo>
                  <a:pt x="7393" y="6537"/>
                  <a:pt x="7462" y="6545"/>
                  <a:pt x="7491" y="6548"/>
                </a:cubicBezTo>
                <a:cubicBezTo>
                  <a:pt x="7535" y="6552"/>
                  <a:pt x="7554" y="6507"/>
                  <a:pt x="7590" y="6499"/>
                </a:cubicBezTo>
                <a:cubicBezTo>
                  <a:pt x="7618" y="6493"/>
                  <a:pt x="7672" y="6475"/>
                  <a:pt x="7689" y="6449"/>
                </a:cubicBezTo>
                <a:cubicBezTo>
                  <a:pt x="7711" y="6414"/>
                  <a:pt x="7717" y="6373"/>
                  <a:pt x="7665" y="6350"/>
                </a:cubicBezTo>
                <a:cubicBezTo>
                  <a:pt x="7619" y="6329"/>
                  <a:pt x="7574" y="6364"/>
                  <a:pt x="7541" y="6375"/>
                </a:cubicBezTo>
                <a:cubicBezTo>
                  <a:pt x="7483" y="6394"/>
                  <a:pt x="7441" y="6429"/>
                  <a:pt x="7392" y="6474"/>
                </a:cubicBezTo>
                <a:cubicBezTo>
                  <a:pt x="7364" y="6500"/>
                  <a:pt x="7351" y="6538"/>
                  <a:pt x="7342" y="6573"/>
                </a:cubicBezTo>
              </a:path>
              <a:path w="10592" h="1713">
                <a:moveTo>
                  <a:pt x="10269" y="5755"/>
                </a:moveTo>
                <a:cubicBezTo>
                  <a:pt x="10269" y="5837"/>
                  <a:pt x="10257" y="5902"/>
                  <a:pt x="10244" y="5978"/>
                </a:cubicBezTo>
                <a:cubicBezTo>
                  <a:pt x="10233" y="6042"/>
                  <a:pt x="10223" y="6112"/>
                  <a:pt x="10220" y="6176"/>
                </a:cubicBezTo>
                <a:cubicBezTo>
                  <a:pt x="10216" y="6259"/>
                  <a:pt x="10174" y="6314"/>
                  <a:pt x="10170" y="6400"/>
                </a:cubicBezTo>
                <a:cubicBezTo>
                  <a:pt x="10167" y="6463"/>
                  <a:pt x="10149" y="6515"/>
                  <a:pt x="10145" y="6573"/>
                </a:cubicBezTo>
                <a:cubicBezTo>
                  <a:pt x="10141" y="6629"/>
                  <a:pt x="10170" y="6643"/>
                  <a:pt x="10170" y="6697"/>
                </a:cubicBezTo>
              </a:path>
              <a:path w="10592" h="1713">
                <a:moveTo>
                  <a:pt x="10294" y="5804"/>
                </a:moveTo>
                <a:cubicBezTo>
                  <a:pt x="10260" y="5815"/>
                  <a:pt x="10265" y="5843"/>
                  <a:pt x="10244" y="5854"/>
                </a:cubicBezTo>
                <a:cubicBezTo>
                  <a:pt x="10213" y="5870"/>
                  <a:pt x="10179" y="5914"/>
                  <a:pt x="10145" y="5928"/>
                </a:cubicBezTo>
                <a:cubicBezTo>
                  <a:pt x="10106" y="5945"/>
                  <a:pt x="10062" y="5987"/>
                  <a:pt x="10021" y="6003"/>
                </a:cubicBezTo>
                <a:cubicBezTo>
                  <a:pt x="9954" y="6030"/>
                  <a:pt x="9934" y="6066"/>
                  <a:pt x="9872" y="6102"/>
                </a:cubicBezTo>
                <a:cubicBezTo>
                  <a:pt x="9847" y="6102"/>
                  <a:pt x="9839" y="6102"/>
                  <a:pt x="9847" y="6127"/>
                </a:cubicBezTo>
                <a:cubicBezTo>
                  <a:pt x="9904" y="6141"/>
                  <a:pt x="9891" y="6133"/>
                  <a:pt x="9947" y="6127"/>
                </a:cubicBezTo>
                <a:cubicBezTo>
                  <a:pt x="9993" y="6122"/>
                  <a:pt x="10035" y="6109"/>
                  <a:pt x="10071" y="6102"/>
                </a:cubicBezTo>
                <a:cubicBezTo>
                  <a:pt x="10159" y="6084"/>
                  <a:pt x="10271" y="6102"/>
                  <a:pt x="10344" y="6127"/>
                </a:cubicBezTo>
                <a:cubicBezTo>
                  <a:pt x="10363" y="6133"/>
                  <a:pt x="10398" y="6127"/>
                  <a:pt x="10418" y="6127"/>
                </a:cubicBezTo>
              </a:path>
              <a:path w="10592" h="1713">
                <a:moveTo>
                  <a:pt x="13171" y="5879"/>
                </a:moveTo>
                <a:cubicBezTo>
                  <a:pt x="13134" y="5888"/>
                  <a:pt x="13102" y="5902"/>
                  <a:pt x="13072" y="5928"/>
                </a:cubicBezTo>
                <a:cubicBezTo>
                  <a:pt x="13037" y="5958"/>
                  <a:pt x="13009" y="5967"/>
                  <a:pt x="12973" y="6003"/>
                </a:cubicBezTo>
                <a:cubicBezTo>
                  <a:pt x="12931" y="6045"/>
                  <a:pt x="12887" y="6092"/>
                  <a:pt x="12874" y="6152"/>
                </a:cubicBezTo>
                <a:cubicBezTo>
                  <a:pt x="12853" y="6248"/>
                  <a:pt x="12840" y="6303"/>
                  <a:pt x="12849" y="6400"/>
                </a:cubicBezTo>
                <a:cubicBezTo>
                  <a:pt x="12857" y="6489"/>
                  <a:pt x="12853" y="6523"/>
                  <a:pt x="12898" y="6598"/>
                </a:cubicBezTo>
                <a:cubicBezTo>
                  <a:pt x="12936" y="6662"/>
                  <a:pt x="12967" y="6714"/>
                  <a:pt x="13047" y="6722"/>
                </a:cubicBezTo>
                <a:cubicBezTo>
                  <a:pt x="13072" y="6722"/>
                  <a:pt x="13080" y="6722"/>
                  <a:pt x="13097" y="6722"/>
                </a:cubicBezTo>
              </a:path>
              <a:path w="10592" h="1713">
                <a:moveTo>
                  <a:pt x="13146" y="6375"/>
                </a:moveTo>
                <a:cubicBezTo>
                  <a:pt x="13154" y="6375"/>
                  <a:pt x="13163" y="6375"/>
                  <a:pt x="13171" y="6375"/>
                </a:cubicBezTo>
                <a:cubicBezTo>
                  <a:pt x="13189" y="6320"/>
                  <a:pt x="13217" y="6373"/>
                  <a:pt x="13271" y="6350"/>
                </a:cubicBezTo>
                <a:cubicBezTo>
                  <a:pt x="13313" y="6332"/>
                  <a:pt x="13319" y="6325"/>
                  <a:pt x="13370" y="6325"/>
                </a:cubicBezTo>
              </a:path>
              <a:path w="10592" h="1713">
                <a:moveTo>
                  <a:pt x="13494" y="6102"/>
                </a:moveTo>
                <a:cubicBezTo>
                  <a:pt x="13532" y="6073"/>
                  <a:pt x="13545" y="6077"/>
                  <a:pt x="13593" y="6077"/>
                </a:cubicBezTo>
                <a:cubicBezTo>
                  <a:pt x="13636" y="6077"/>
                  <a:pt x="13672" y="6116"/>
                  <a:pt x="13717" y="6127"/>
                </a:cubicBezTo>
                <a:cubicBezTo>
                  <a:pt x="13770" y="6140"/>
                  <a:pt x="13781" y="6157"/>
                  <a:pt x="13742" y="6201"/>
                </a:cubicBezTo>
                <a:cubicBezTo>
                  <a:pt x="13714" y="6233"/>
                  <a:pt x="13673" y="6230"/>
                  <a:pt x="13643" y="6251"/>
                </a:cubicBezTo>
                <a:cubicBezTo>
                  <a:pt x="13620" y="6274"/>
                  <a:pt x="13616" y="6282"/>
                  <a:pt x="13593" y="6276"/>
                </a:cubicBezTo>
                <a:cubicBezTo>
                  <a:pt x="13629" y="6302"/>
                  <a:pt x="13662" y="6300"/>
                  <a:pt x="13667" y="6350"/>
                </a:cubicBezTo>
                <a:cubicBezTo>
                  <a:pt x="13667" y="6378"/>
                  <a:pt x="13669" y="6389"/>
                  <a:pt x="13692" y="6400"/>
                </a:cubicBezTo>
                <a:cubicBezTo>
                  <a:pt x="13643" y="6464"/>
                  <a:pt x="13623" y="6518"/>
                  <a:pt x="13543" y="6548"/>
                </a:cubicBezTo>
                <a:cubicBezTo>
                  <a:pt x="13524" y="6555"/>
                  <a:pt x="13362" y="6573"/>
                  <a:pt x="13419" y="6573"/>
                </a:cubicBezTo>
              </a:path>
              <a:path w="10592" h="1713">
                <a:moveTo>
                  <a:pt x="14039" y="5953"/>
                </a:moveTo>
                <a:cubicBezTo>
                  <a:pt x="14066" y="6017"/>
                  <a:pt x="14064" y="6056"/>
                  <a:pt x="14064" y="6127"/>
                </a:cubicBezTo>
                <a:cubicBezTo>
                  <a:pt x="14064" y="6216"/>
                  <a:pt x="14051" y="6289"/>
                  <a:pt x="14039" y="6375"/>
                </a:cubicBezTo>
                <a:cubicBezTo>
                  <a:pt x="14027" y="6465"/>
                  <a:pt x="13997" y="6538"/>
                  <a:pt x="13965" y="6623"/>
                </a:cubicBezTo>
                <a:cubicBezTo>
                  <a:pt x="13936" y="6700"/>
                  <a:pt x="13903" y="6772"/>
                  <a:pt x="13866" y="6846"/>
                </a:cubicBezTo>
                <a:cubicBezTo>
                  <a:pt x="13844" y="6891"/>
                  <a:pt x="13825" y="6934"/>
                  <a:pt x="13791" y="6945"/>
                </a:cubicBezTo>
              </a:path>
              <a:path w="10592" h="1713">
                <a:moveTo>
                  <a:pt x="14387" y="5779"/>
                </a:moveTo>
                <a:cubicBezTo>
                  <a:pt x="14387" y="5845"/>
                  <a:pt x="14377" y="5891"/>
                  <a:pt x="14362" y="5953"/>
                </a:cubicBezTo>
                <a:cubicBezTo>
                  <a:pt x="14353" y="5990"/>
                  <a:pt x="14362" y="6039"/>
                  <a:pt x="14362" y="6077"/>
                </a:cubicBezTo>
              </a:path>
              <a:path w="10592" h="1713">
                <a:moveTo>
                  <a:pt x="14362" y="5779"/>
                </a:moveTo>
                <a:cubicBezTo>
                  <a:pt x="14316" y="5786"/>
                  <a:pt x="14262" y="5801"/>
                  <a:pt x="14238" y="5854"/>
                </a:cubicBezTo>
                <a:cubicBezTo>
                  <a:pt x="14231" y="5870"/>
                  <a:pt x="14238" y="5910"/>
                  <a:pt x="14238" y="5928"/>
                </a:cubicBezTo>
                <a:cubicBezTo>
                  <a:pt x="14355" y="5928"/>
                  <a:pt x="14507" y="5920"/>
                  <a:pt x="14585" y="5953"/>
                </a:cubicBezTo>
                <a:cubicBezTo>
                  <a:pt x="14593" y="5953"/>
                  <a:pt x="14602" y="5953"/>
                  <a:pt x="14610" y="5953"/>
                </a:cubicBezTo>
              </a:path>
              <a:path w="10592" h="1713">
                <a:moveTo>
                  <a:pt x="11509" y="5854"/>
                </a:moveTo>
                <a:cubicBezTo>
                  <a:pt x="11431" y="5888"/>
                  <a:pt x="11436" y="5885"/>
                  <a:pt x="11385" y="5953"/>
                </a:cubicBezTo>
                <a:cubicBezTo>
                  <a:pt x="11346" y="6006"/>
                  <a:pt x="11298" y="6057"/>
                  <a:pt x="11286" y="6127"/>
                </a:cubicBezTo>
                <a:cubicBezTo>
                  <a:pt x="11268" y="6237"/>
                  <a:pt x="11247" y="6340"/>
                  <a:pt x="11212" y="6449"/>
                </a:cubicBezTo>
                <a:cubicBezTo>
                  <a:pt x="11190" y="6518"/>
                  <a:pt x="11164" y="6589"/>
                  <a:pt x="11212" y="6648"/>
                </a:cubicBezTo>
                <a:cubicBezTo>
                  <a:pt x="11249" y="6693"/>
                  <a:pt x="11284" y="6700"/>
                  <a:pt x="11336" y="6722"/>
                </a:cubicBezTo>
              </a:path>
              <a:path w="10592" h="1713">
                <a:moveTo>
                  <a:pt x="11410" y="6300"/>
                </a:moveTo>
                <a:cubicBezTo>
                  <a:pt x="11418" y="6300"/>
                  <a:pt x="11427" y="6300"/>
                  <a:pt x="11435" y="6300"/>
                </a:cubicBezTo>
                <a:cubicBezTo>
                  <a:pt x="11442" y="6322"/>
                  <a:pt x="11477" y="6339"/>
                  <a:pt x="11509" y="6350"/>
                </a:cubicBezTo>
                <a:cubicBezTo>
                  <a:pt x="11549" y="6363"/>
                  <a:pt x="11581" y="6346"/>
                  <a:pt x="11609" y="6325"/>
                </a:cubicBezTo>
              </a:path>
              <a:path w="10592" h="1713">
                <a:moveTo>
                  <a:pt x="11658" y="6102"/>
                </a:moveTo>
                <a:cubicBezTo>
                  <a:pt x="11680" y="6095"/>
                  <a:pt x="11773" y="6058"/>
                  <a:pt x="11807" y="6077"/>
                </a:cubicBezTo>
                <a:cubicBezTo>
                  <a:pt x="11832" y="6102"/>
                  <a:pt x="11840" y="6110"/>
                  <a:pt x="11857" y="6127"/>
                </a:cubicBezTo>
                <a:cubicBezTo>
                  <a:pt x="11847" y="6157"/>
                  <a:pt x="11836" y="6168"/>
                  <a:pt x="11807" y="6201"/>
                </a:cubicBezTo>
                <a:cubicBezTo>
                  <a:pt x="11779" y="6232"/>
                  <a:pt x="11717" y="6251"/>
                  <a:pt x="11757" y="6251"/>
                </a:cubicBezTo>
                <a:cubicBezTo>
                  <a:pt x="11794" y="6251"/>
                  <a:pt x="11830" y="6258"/>
                  <a:pt x="11857" y="6276"/>
                </a:cubicBezTo>
                <a:cubicBezTo>
                  <a:pt x="11884" y="6294"/>
                  <a:pt x="11892" y="6344"/>
                  <a:pt x="11881" y="6375"/>
                </a:cubicBezTo>
                <a:cubicBezTo>
                  <a:pt x="11853" y="6456"/>
                  <a:pt x="11805" y="6510"/>
                  <a:pt x="11733" y="6548"/>
                </a:cubicBezTo>
                <a:cubicBezTo>
                  <a:pt x="11679" y="6577"/>
                  <a:pt x="11609" y="6568"/>
                  <a:pt x="11559" y="6598"/>
                </a:cubicBezTo>
                <a:cubicBezTo>
                  <a:pt x="11534" y="6623"/>
                  <a:pt x="11526" y="6631"/>
                  <a:pt x="11509" y="6598"/>
                </a:cubicBezTo>
              </a:path>
              <a:path w="10592" h="1713">
                <a:moveTo>
                  <a:pt x="12129" y="5879"/>
                </a:moveTo>
                <a:cubicBezTo>
                  <a:pt x="12161" y="5890"/>
                  <a:pt x="12159" y="5919"/>
                  <a:pt x="12179" y="5928"/>
                </a:cubicBezTo>
                <a:cubicBezTo>
                  <a:pt x="12214" y="5945"/>
                  <a:pt x="12204" y="5955"/>
                  <a:pt x="12204" y="6003"/>
                </a:cubicBezTo>
                <a:cubicBezTo>
                  <a:pt x="12204" y="6059"/>
                  <a:pt x="12186" y="6101"/>
                  <a:pt x="12179" y="6152"/>
                </a:cubicBezTo>
                <a:cubicBezTo>
                  <a:pt x="12164" y="6262"/>
                  <a:pt x="12133" y="6323"/>
                  <a:pt x="12080" y="6424"/>
                </a:cubicBezTo>
                <a:cubicBezTo>
                  <a:pt x="12001" y="6574"/>
                  <a:pt x="11968" y="6672"/>
                  <a:pt x="11857" y="6796"/>
                </a:cubicBezTo>
                <a:cubicBezTo>
                  <a:pt x="11832" y="6821"/>
                  <a:pt x="11824" y="6829"/>
                  <a:pt x="11807" y="6846"/>
                </a:cubicBezTo>
              </a:path>
              <a:path w="10592" h="1713">
                <a:moveTo>
                  <a:pt x="12378" y="5680"/>
                </a:moveTo>
                <a:cubicBezTo>
                  <a:pt x="12421" y="5680"/>
                  <a:pt x="12528" y="5659"/>
                  <a:pt x="12551" y="5705"/>
                </a:cubicBezTo>
                <a:cubicBezTo>
                  <a:pt x="12572" y="5747"/>
                  <a:pt x="12537" y="5775"/>
                  <a:pt x="12502" y="5779"/>
                </a:cubicBezTo>
                <a:cubicBezTo>
                  <a:pt x="12478" y="5782"/>
                  <a:pt x="12451" y="5779"/>
                  <a:pt x="12427" y="5779"/>
                </a:cubicBezTo>
                <a:cubicBezTo>
                  <a:pt x="12440" y="5819"/>
                  <a:pt x="12464" y="5794"/>
                  <a:pt x="12502" y="5829"/>
                </a:cubicBezTo>
                <a:cubicBezTo>
                  <a:pt x="12523" y="5848"/>
                  <a:pt x="12542" y="5898"/>
                  <a:pt x="12526" y="5928"/>
                </a:cubicBezTo>
                <a:cubicBezTo>
                  <a:pt x="12506" y="5965"/>
                  <a:pt x="12462" y="5994"/>
                  <a:pt x="12427" y="6003"/>
                </a:cubicBezTo>
              </a:path>
              <a:path w="10592" h="1713">
                <a:moveTo>
                  <a:pt x="9153" y="5904"/>
                </a:moveTo>
                <a:cubicBezTo>
                  <a:pt x="9117" y="5904"/>
                  <a:pt x="9080" y="5910"/>
                  <a:pt x="9054" y="5928"/>
                </a:cubicBezTo>
                <a:cubicBezTo>
                  <a:pt x="9008" y="5958"/>
                  <a:pt x="8958" y="6034"/>
                  <a:pt x="8930" y="6077"/>
                </a:cubicBezTo>
                <a:cubicBezTo>
                  <a:pt x="8868" y="6171"/>
                  <a:pt x="8827" y="6316"/>
                  <a:pt x="8806" y="6424"/>
                </a:cubicBezTo>
                <a:cubicBezTo>
                  <a:pt x="8793" y="6488"/>
                  <a:pt x="8827" y="6574"/>
                  <a:pt x="8880" y="6598"/>
                </a:cubicBezTo>
                <a:cubicBezTo>
                  <a:pt x="8933" y="6622"/>
                  <a:pt x="8995" y="6643"/>
                  <a:pt x="9054" y="6648"/>
                </a:cubicBezTo>
                <a:cubicBezTo>
                  <a:pt x="9062" y="6648"/>
                  <a:pt x="9071" y="6648"/>
                  <a:pt x="9079" y="6648"/>
                </a:cubicBezTo>
              </a:path>
              <a:path w="10592" h="1713">
                <a:moveTo>
                  <a:pt x="9054" y="6325"/>
                </a:moveTo>
                <a:cubicBezTo>
                  <a:pt x="9092" y="6296"/>
                  <a:pt x="9105" y="6300"/>
                  <a:pt x="9153" y="6300"/>
                </a:cubicBezTo>
                <a:cubicBezTo>
                  <a:pt x="9194" y="6300"/>
                  <a:pt x="9236" y="6300"/>
                  <a:pt x="9277" y="6300"/>
                </a:cubicBezTo>
              </a:path>
              <a:path w="10592" h="1713">
                <a:moveTo>
                  <a:pt x="9376" y="6102"/>
                </a:moveTo>
                <a:cubicBezTo>
                  <a:pt x="9427" y="6102"/>
                  <a:pt x="9434" y="6103"/>
                  <a:pt x="9475" y="6127"/>
                </a:cubicBezTo>
                <a:cubicBezTo>
                  <a:pt x="9504" y="6144"/>
                  <a:pt x="9580" y="6148"/>
                  <a:pt x="9550" y="6201"/>
                </a:cubicBezTo>
                <a:cubicBezTo>
                  <a:pt x="9536" y="6226"/>
                  <a:pt x="9497" y="6234"/>
                  <a:pt x="9475" y="6251"/>
                </a:cubicBezTo>
                <a:cubicBezTo>
                  <a:pt x="9510" y="6251"/>
                  <a:pt x="9555" y="6238"/>
                  <a:pt x="9575" y="6276"/>
                </a:cubicBezTo>
                <a:cubicBezTo>
                  <a:pt x="9596" y="6317"/>
                  <a:pt x="9545" y="6395"/>
                  <a:pt x="9525" y="6424"/>
                </a:cubicBezTo>
                <a:cubicBezTo>
                  <a:pt x="9508" y="6449"/>
                  <a:pt x="9454" y="6512"/>
                  <a:pt x="9426" y="6524"/>
                </a:cubicBezTo>
                <a:cubicBezTo>
                  <a:pt x="9397" y="6537"/>
                  <a:pt x="9356" y="6563"/>
                  <a:pt x="9327" y="6573"/>
                </a:cubicBezTo>
                <a:cubicBezTo>
                  <a:pt x="9319" y="6573"/>
                  <a:pt x="9310" y="6573"/>
                  <a:pt x="9302" y="6573"/>
                </a:cubicBezTo>
              </a:path>
              <a:path w="10592" h="1713">
                <a:moveTo>
                  <a:pt x="9674" y="5928"/>
                </a:moveTo>
                <a:cubicBezTo>
                  <a:pt x="9699" y="5953"/>
                  <a:pt x="9741" y="5996"/>
                  <a:pt x="9748" y="6028"/>
                </a:cubicBezTo>
                <a:cubicBezTo>
                  <a:pt x="9774" y="6148"/>
                  <a:pt x="9754" y="6248"/>
                  <a:pt x="9748" y="6375"/>
                </a:cubicBezTo>
                <a:cubicBezTo>
                  <a:pt x="9744" y="6466"/>
                  <a:pt x="9717" y="6521"/>
                  <a:pt x="9674" y="6598"/>
                </a:cubicBezTo>
                <a:cubicBezTo>
                  <a:pt x="9642" y="6655"/>
                  <a:pt x="9621" y="6700"/>
                  <a:pt x="9575" y="6747"/>
                </a:cubicBezTo>
                <a:cubicBezTo>
                  <a:pt x="9552" y="6770"/>
                  <a:pt x="9548" y="6778"/>
                  <a:pt x="9525" y="6772"/>
                </a:cubicBezTo>
              </a:path>
              <a:path w="10592" h="1713">
                <a:moveTo>
                  <a:pt x="9823" y="5680"/>
                </a:moveTo>
                <a:cubicBezTo>
                  <a:pt x="9868" y="5680"/>
                  <a:pt x="9882" y="5659"/>
                  <a:pt x="9922" y="5655"/>
                </a:cubicBezTo>
                <a:cubicBezTo>
                  <a:pt x="9950" y="5652"/>
                  <a:pt x="10018" y="5657"/>
                  <a:pt x="9996" y="5705"/>
                </a:cubicBezTo>
                <a:cubicBezTo>
                  <a:pt x="9980" y="5742"/>
                  <a:pt x="9909" y="5761"/>
                  <a:pt x="9897" y="5779"/>
                </a:cubicBezTo>
                <a:cubicBezTo>
                  <a:pt x="9880" y="5804"/>
                  <a:pt x="9857" y="5813"/>
                  <a:pt x="9847" y="5854"/>
                </a:cubicBezTo>
                <a:cubicBezTo>
                  <a:pt x="9888" y="5854"/>
                  <a:pt x="9930" y="5854"/>
                  <a:pt x="9971" y="5854"/>
                </a:cubicBezTo>
              </a:path>
              <a:path w="10592" h="1713">
                <a:moveTo>
                  <a:pt x="6052" y="5804"/>
                </a:moveTo>
                <a:cubicBezTo>
                  <a:pt x="6025" y="5871"/>
                  <a:pt x="5941" y="6001"/>
                  <a:pt x="5928" y="6077"/>
                </a:cubicBezTo>
                <a:cubicBezTo>
                  <a:pt x="5912" y="6169"/>
                  <a:pt x="5917" y="6215"/>
                  <a:pt x="5928" y="6300"/>
                </a:cubicBezTo>
                <a:cubicBezTo>
                  <a:pt x="5938" y="6383"/>
                  <a:pt x="5952" y="6451"/>
                  <a:pt x="6003" y="6524"/>
                </a:cubicBezTo>
                <a:cubicBezTo>
                  <a:pt x="6031" y="6564"/>
                  <a:pt x="6084" y="6548"/>
                  <a:pt x="6127" y="6548"/>
                </a:cubicBezTo>
              </a:path>
              <a:path w="10592" h="1713">
                <a:moveTo>
                  <a:pt x="6127" y="6077"/>
                </a:moveTo>
                <a:cubicBezTo>
                  <a:pt x="6135" y="6077"/>
                  <a:pt x="6144" y="6077"/>
                  <a:pt x="6152" y="6077"/>
                </a:cubicBezTo>
              </a:path>
              <a:path w="10592" h="1713">
                <a:moveTo>
                  <a:pt x="6127" y="6077"/>
                </a:moveTo>
                <a:cubicBezTo>
                  <a:pt x="6143" y="6061"/>
                  <a:pt x="6160" y="6044"/>
                  <a:pt x="6176" y="6028"/>
                </a:cubicBezTo>
              </a:path>
              <a:path w="10592" h="1713">
                <a:moveTo>
                  <a:pt x="6176" y="6028"/>
                </a:moveTo>
                <a:cubicBezTo>
                  <a:pt x="6184" y="6028"/>
                  <a:pt x="6193" y="6028"/>
                  <a:pt x="6201" y="6028"/>
                </a:cubicBezTo>
              </a:path>
              <a:path w="10592" h="1713">
                <a:moveTo>
                  <a:pt x="6176" y="6028"/>
                </a:moveTo>
                <a:cubicBezTo>
                  <a:pt x="6176" y="6044"/>
                  <a:pt x="6176" y="6061"/>
                  <a:pt x="6176" y="6077"/>
                </a:cubicBezTo>
              </a:path>
              <a:path w="10592" h="1713">
                <a:moveTo>
                  <a:pt x="6176" y="6077"/>
                </a:moveTo>
                <a:cubicBezTo>
                  <a:pt x="6176" y="6085"/>
                  <a:pt x="6176" y="6094"/>
                  <a:pt x="6176" y="6102"/>
                </a:cubicBezTo>
                <a:cubicBezTo>
                  <a:pt x="6242" y="6102"/>
                  <a:pt x="6309" y="6102"/>
                  <a:pt x="6375" y="6102"/>
                </a:cubicBezTo>
              </a:path>
              <a:path w="10592" h="1713">
                <a:moveTo>
                  <a:pt x="6499" y="5854"/>
                </a:moveTo>
                <a:cubicBezTo>
                  <a:pt x="6559" y="5854"/>
                  <a:pt x="6573" y="5835"/>
                  <a:pt x="6623" y="5829"/>
                </a:cubicBezTo>
                <a:cubicBezTo>
                  <a:pt x="6655" y="5825"/>
                  <a:pt x="6699" y="5859"/>
                  <a:pt x="6722" y="5879"/>
                </a:cubicBezTo>
                <a:cubicBezTo>
                  <a:pt x="6771" y="5923"/>
                  <a:pt x="6734" y="5941"/>
                  <a:pt x="6697" y="5978"/>
                </a:cubicBezTo>
                <a:cubicBezTo>
                  <a:pt x="6669" y="6006"/>
                  <a:pt x="6570" y="6000"/>
                  <a:pt x="6598" y="6028"/>
                </a:cubicBezTo>
                <a:cubicBezTo>
                  <a:pt x="6610" y="6040"/>
                  <a:pt x="6684" y="6033"/>
                  <a:pt x="6697" y="6052"/>
                </a:cubicBezTo>
                <a:cubicBezTo>
                  <a:pt x="6707" y="6067"/>
                  <a:pt x="6736" y="6127"/>
                  <a:pt x="6722" y="6152"/>
                </a:cubicBezTo>
                <a:cubicBezTo>
                  <a:pt x="6695" y="6199"/>
                  <a:pt x="6643" y="6251"/>
                  <a:pt x="6598" y="6276"/>
                </a:cubicBezTo>
                <a:cubicBezTo>
                  <a:pt x="6545" y="6305"/>
                  <a:pt x="6455" y="6356"/>
                  <a:pt x="6400" y="6375"/>
                </a:cubicBezTo>
                <a:cubicBezTo>
                  <a:pt x="6392" y="6375"/>
                  <a:pt x="6383" y="6375"/>
                  <a:pt x="6375" y="6375"/>
                </a:cubicBezTo>
              </a:path>
              <a:path w="10592" h="1713">
                <a:moveTo>
                  <a:pt x="6821" y="5705"/>
                </a:moveTo>
                <a:cubicBezTo>
                  <a:pt x="6892" y="5712"/>
                  <a:pt x="6920" y="5711"/>
                  <a:pt x="6970" y="5755"/>
                </a:cubicBezTo>
                <a:cubicBezTo>
                  <a:pt x="6995" y="5777"/>
                  <a:pt x="7018" y="5821"/>
                  <a:pt x="7020" y="5854"/>
                </a:cubicBezTo>
                <a:cubicBezTo>
                  <a:pt x="7027" y="5952"/>
                  <a:pt x="7002" y="6012"/>
                  <a:pt x="6970" y="6102"/>
                </a:cubicBezTo>
                <a:cubicBezTo>
                  <a:pt x="6930" y="6216"/>
                  <a:pt x="6888" y="6278"/>
                  <a:pt x="6821" y="6375"/>
                </a:cubicBezTo>
                <a:cubicBezTo>
                  <a:pt x="6771" y="6448"/>
                  <a:pt x="6735" y="6510"/>
                  <a:pt x="6672" y="6573"/>
                </a:cubicBezTo>
                <a:cubicBezTo>
                  <a:pt x="6631" y="6615"/>
                  <a:pt x="6597" y="6642"/>
                  <a:pt x="6548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9840" y="2786040"/>
            <a:ext cx="973080" cy="393840"/>
          </a:xfrm>
          <a:custGeom>
            <a:avLst/>
            <a:gdLst/>
            <a:ahLst/>
            <a:rect l="l" t="t" r="r" b="b"/>
            <a:pathLst>
              <a:path w="2704" h="1092">
                <a:moveTo>
                  <a:pt x="1736" y="7789"/>
                </a:moveTo>
                <a:cubicBezTo>
                  <a:pt x="1681" y="7798"/>
                  <a:pt x="1681" y="7799"/>
                  <a:pt x="1637" y="7838"/>
                </a:cubicBezTo>
                <a:cubicBezTo>
                  <a:pt x="1595" y="7876"/>
                  <a:pt x="1564" y="7912"/>
                  <a:pt x="1538" y="7962"/>
                </a:cubicBezTo>
                <a:cubicBezTo>
                  <a:pt x="1498" y="8037"/>
                  <a:pt x="1451" y="8125"/>
                  <a:pt x="1439" y="8210"/>
                </a:cubicBezTo>
                <a:cubicBezTo>
                  <a:pt x="1422" y="8329"/>
                  <a:pt x="1447" y="8406"/>
                  <a:pt x="1488" y="8508"/>
                </a:cubicBezTo>
                <a:cubicBezTo>
                  <a:pt x="1527" y="8603"/>
                  <a:pt x="1558" y="8650"/>
                  <a:pt x="1612" y="8731"/>
                </a:cubicBezTo>
                <a:cubicBezTo>
                  <a:pt x="1646" y="8782"/>
                  <a:pt x="1656" y="8808"/>
                  <a:pt x="1712" y="8830"/>
                </a:cubicBezTo>
              </a:path>
              <a:path w="2704" h="1092">
                <a:moveTo>
                  <a:pt x="943" y="8062"/>
                </a:moveTo>
                <a:cubicBezTo>
                  <a:pt x="956" y="8022"/>
                  <a:pt x="982" y="8035"/>
                  <a:pt x="1017" y="8012"/>
                </a:cubicBezTo>
                <a:cubicBezTo>
                  <a:pt x="1040" y="7997"/>
                  <a:pt x="1082" y="7968"/>
                  <a:pt x="1116" y="7987"/>
                </a:cubicBezTo>
                <a:cubicBezTo>
                  <a:pt x="1159" y="8011"/>
                  <a:pt x="1166" y="8043"/>
                  <a:pt x="1166" y="8086"/>
                </a:cubicBezTo>
                <a:cubicBezTo>
                  <a:pt x="1166" y="8122"/>
                  <a:pt x="1159" y="8160"/>
                  <a:pt x="1141" y="8186"/>
                </a:cubicBezTo>
                <a:cubicBezTo>
                  <a:pt x="1119" y="8218"/>
                  <a:pt x="1110" y="8256"/>
                  <a:pt x="1091" y="8285"/>
                </a:cubicBezTo>
                <a:cubicBezTo>
                  <a:pt x="1071" y="8316"/>
                  <a:pt x="1060" y="8356"/>
                  <a:pt x="1042" y="8384"/>
                </a:cubicBezTo>
                <a:cubicBezTo>
                  <a:pt x="1029" y="8404"/>
                  <a:pt x="980" y="8457"/>
                  <a:pt x="992" y="8483"/>
                </a:cubicBezTo>
                <a:cubicBezTo>
                  <a:pt x="1003" y="8508"/>
                  <a:pt x="1068" y="8530"/>
                  <a:pt x="1091" y="8533"/>
                </a:cubicBezTo>
                <a:cubicBezTo>
                  <a:pt x="1139" y="8538"/>
                  <a:pt x="1191" y="8533"/>
                  <a:pt x="1240" y="8533"/>
                </a:cubicBezTo>
              </a:path>
              <a:path w="2704" h="1092">
                <a:moveTo>
                  <a:pt x="1960" y="8136"/>
                </a:moveTo>
                <a:cubicBezTo>
                  <a:pt x="1970" y="8176"/>
                  <a:pt x="1997" y="8199"/>
                  <a:pt x="2009" y="8235"/>
                </a:cubicBezTo>
                <a:cubicBezTo>
                  <a:pt x="2024" y="8281"/>
                  <a:pt x="2058" y="8293"/>
                  <a:pt x="2084" y="8334"/>
                </a:cubicBezTo>
                <a:cubicBezTo>
                  <a:pt x="2117" y="8385"/>
                  <a:pt x="2142" y="8437"/>
                  <a:pt x="2183" y="8483"/>
                </a:cubicBezTo>
                <a:cubicBezTo>
                  <a:pt x="2222" y="8526"/>
                  <a:pt x="2240" y="8554"/>
                  <a:pt x="2282" y="8582"/>
                </a:cubicBezTo>
                <a:cubicBezTo>
                  <a:pt x="2305" y="8605"/>
                  <a:pt x="2309" y="8613"/>
                  <a:pt x="2332" y="8607"/>
                </a:cubicBezTo>
              </a:path>
              <a:path w="2704" h="1092">
                <a:moveTo>
                  <a:pt x="2381" y="8062"/>
                </a:moveTo>
                <a:cubicBezTo>
                  <a:pt x="2375" y="8087"/>
                  <a:pt x="2353" y="8167"/>
                  <a:pt x="2332" y="8186"/>
                </a:cubicBezTo>
                <a:cubicBezTo>
                  <a:pt x="2273" y="8240"/>
                  <a:pt x="2221" y="8326"/>
                  <a:pt x="2183" y="8409"/>
                </a:cubicBezTo>
                <a:cubicBezTo>
                  <a:pt x="2161" y="8456"/>
                  <a:pt x="2018" y="8683"/>
                  <a:pt x="2034" y="8706"/>
                </a:cubicBezTo>
                <a:cubicBezTo>
                  <a:pt x="2042" y="8698"/>
                  <a:pt x="2051" y="8690"/>
                  <a:pt x="2059" y="8682"/>
                </a:cubicBezTo>
              </a:path>
              <a:path w="2704" h="1092">
                <a:moveTo>
                  <a:pt x="2778" y="7764"/>
                </a:moveTo>
                <a:cubicBezTo>
                  <a:pt x="2767" y="7809"/>
                  <a:pt x="2753" y="7834"/>
                  <a:pt x="2753" y="7888"/>
                </a:cubicBezTo>
                <a:cubicBezTo>
                  <a:pt x="2753" y="7938"/>
                  <a:pt x="2753" y="7987"/>
                  <a:pt x="2753" y="8037"/>
                </a:cubicBezTo>
                <a:cubicBezTo>
                  <a:pt x="2753" y="8012"/>
                  <a:pt x="2753" y="8004"/>
                  <a:pt x="2778" y="8012"/>
                </a:cubicBezTo>
              </a:path>
              <a:path w="2704" h="1092">
                <a:moveTo>
                  <a:pt x="2803" y="7739"/>
                </a:moveTo>
                <a:cubicBezTo>
                  <a:pt x="2749" y="7739"/>
                  <a:pt x="2743" y="7751"/>
                  <a:pt x="2704" y="7789"/>
                </a:cubicBezTo>
                <a:cubicBezTo>
                  <a:pt x="2684" y="7808"/>
                  <a:pt x="2632" y="7857"/>
                  <a:pt x="2629" y="7863"/>
                </a:cubicBezTo>
                <a:cubicBezTo>
                  <a:pt x="2629" y="7871"/>
                  <a:pt x="2629" y="7880"/>
                  <a:pt x="2629" y="7888"/>
                </a:cubicBezTo>
                <a:cubicBezTo>
                  <a:pt x="2639" y="7917"/>
                  <a:pt x="2663" y="7933"/>
                  <a:pt x="2704" y="7938"/>
                </a:cubicBezTo>
                <a:cubicBezTo>
                  <a:pt x="2749" y="7943"/>
                  <a:pt x="2801" y="7913"/>
                  <a:pt x="2853" y="7913"/>
                </a:cubicBezTo>
                <a:cubicBezTo>
                  <a:pt x="2902" y="7913"/>
                  <a:pt x="2952" y="7913"/>
                  <a:pt x="3001" y="7913"/>
                </a:cubicBezTo>
              </a:path>
              <a:path w="2704" h="1092">
                <a:moveTo>
                  <a:pt x="3225" y="8334"/>
                </a:moveTo>
                <a:cubicBezTo>
                  <a:pt x="3365" y="8334"/>
                  <a:pt x="3506" y="8334"/>
                  <a:pt x="3646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82840" y="2857680"/>
            <a:ext cx="276120" cy="312480"/>
          </a:xfrm>
          <a:custGeom>
            <a:avLst/>
            <a:gdLst/>
            <a:ahLst/>
            <a:rect l="l" t="t" r="r" b="b"/>
            <a:pathLst>
              <a:path w="770" h="869">
                <a:moveTo>
                  <a:pt x="4167" y="7938"/>
                </a:moveTo>
                <a:cubicBezTo>
                  <a:pt x="4142" y="7938"/>
                  <a:pt x="4134" y="7938"/>
                  <a:pt x="4142" y="7962"/>
                </a:cubicBezTo>
                <a:cubicBezTo>
                  <a:pt x="4160" y="8017"/>
                  <a:pt x="4158" y="7964"/>
                  <a:pt x="4167" y="7987"/>
                </a:cubicBezTo>
                <a:cubicBezTo>
                  <a:pt x="4184" y="8028"/>
                  <a:pt x="4179" y="8096"/>
                  <a:pt x="4192" y="8136"/>
                </a:cubicBezTo>
                <a:cubicBezTo>
                  <a:pt x="4217" y="8212"/>
                  <a:pt x="4184" y="8315"/>
                  <a:pt x="4167" y="8384"/>
                </a:cubicBezTo>
                <a:cubicBezTo>
                  <a:pt x="4153" y="8439"/>
                  <a:pt x="4155" y="8502"/>
                  <a:pt x="4142" y="8558"/>
                </a:cubicBezTo>
                <a:cubicBezTo>
                  <a:pt x="4128" y="8618"/>
                  <a:pt x="4123" y="8696"/>
                  <a:pt x="4118" y="8756"/>
                </a:cubicBezTo>
                <a:cubicBezTo>
                  <a:pt x="4118" y="8781"/>
                  <a:pt x="4118" y="8789"/>
                  <a:pt x="4118" y="8806"/>
                </a:cubicBezTo>
              </a:path>
              <a:path w="770" h="869">
                <a:moveTo>
                  <a:pt x="4465" y="8012"/>
                </a:moveTo>
                <a:cubicBezTo>
                  <a:pt x="4503" y="7999"/>
                  <a:pt x="4485" y="7987"/>
                  <a:pt x="4539" y="7987"/>
                </a:cubicBezTo>
                <a:cubicBezTo>
                  <a:pt x="4595" y="7987"/>
                  <a:pt x="4627" y="7951"/>
                  <a:pt x="4688" y="7962"/>
                </a:cubicBezTo>
                <a:cubicBezTo>
                  <a:pt x="4775" y="7978"/>
                  <a:pt x="4804" y="7993"/>
                  <a:pt x="4837" y="8037"/>
                </a:cubicBezTo>
                <a:cubicBezTo>
                  <a:pt x="4860" y="8067"/>
                  <a:pt x="4877" y="8119"/>
                  <a:pt x="4862" y="8161"/>
                </a:cubicBezTo>
                <a:cubicBezTo>
                  <a:pt x="4842" y="8217"/>
                  <a:pt x="4792" y="8260"/>
                  <a:pt x="4762" y="8310"/>
                </a:cubicBezTo>
                <a:cubicBezTo>
                  <a:pt x="4722" y="8377"/>
                  <a:pt x="4675" y="8407"/>
                  <a:pt x="4638" y="8483"/>
                </a:cubicBezTo>
                <a:cubicBezTo>
                  <a:pt x="4607" y="8547"/>
                  <a:pt x="4574" y="8621"/>
                  <a:pt x="4539" y="8682"/>
                </a:cubicBezTo>
                <a:cubicBezTo>
                  <a:pt x="4521" y="8714"/>
                  <a:pt x="4505" y="8739"/>
                  <a:pt x="4539" y="8756"/>
                </a:cubicBezTo>
                <a:cubicBezTo>
                  <a:pt x="4607" y="8790"/>
                  <a:pt x="4831" y="8764"/>
                  <a:pt x="488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8880" y="2803680"/>
            <a:ext cx="312840" cy="35856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5383" y="8260"/>
                </a:moveTo>
                <a:cubicBezTo>
                  <a:pt x="5405" y="8283"/>
                  <a:pt x="5413" y="8288"/>
                  <a:pt x="5407" y="8310"/>
                </a:cubicBezTo>
                <a:cubicBezTo>
                  <a:pt x="5442" y="8321"/>
                  <a:pt x="5432" y="8317"/>
                  <a:pt x="5432" y="8359"/>
                </a:cubicBezTo>
                <a:cubicBezTo>
                  <a:pt x="5455" y="8367"/>
                  <a:pt x="5471" y="8402"/>
                  <a:pt x="5482" y="8434"/>
                </a:cubicBezTo>
                <a:cubicBezTo>
                  <a:pt x="5493" y="8467"/>
                  <a:pt x="5488" y="8503"/>
                  <a:pt x="5507" y="8533"/>
                </a:cubicBezTo>
                <a:cubicBezTo>
                  <a:pt x="5534" y="8561"/>
                  <a:pt x="5542" y="8575"/>
                  <a:pt x="5531" y="8607"/>
                </a:cubicBezTo>
                <a:cubicBezTo>
                  <a:pt x="5568" y="8619"/>
                  <a:pt x="5555" y="8664"/>
                  <a:pt x="5581" y="8682"/>
                </a:cubicBezTo>
                <a:cubicBezTo>
                  <a:pt x="5589" y="8682"/>
                  <a:pt x="5598" y="8682"/>
                  <a:pt x="5606" y="8682"/>
                </a:cubicBezTo>
              </a:path>
              <a:path w="869" h="993">
                <a:moveTo>
                  <a:pt x="5730" y="8260"/>
                </a:moveTo>
                <a:cubicBezTo>
                  <a:pt x="5694" y="8272"/>
                  <a:pt x="5698" y="8280"/>
                  <a:pt x="5680" y="8310"/>
                </a:cubicBezTo>
                <a:cubicBezTo>
                  <a:pt x="5626" y="8398"/>
                  <a:pt x="5559" y="8468"/>
                  <a:pt x="5507" y="8558"/>
                </a:cubicBezTo>
                <a:cubicBezTo>
                  <a:pt x="5473" y="8617"/>
                  <a:pt x="5407" y="8669"/>
                  <a:pt x="5383" y="8731"/>
                </a:cubicBezTo>
                <a:cubicBezTo>
                  <a:pt x="5368" y="8769"/>
                  <a:pt x="5371" y="8742"/>
                  <a:pt x="5358" y="8781"/>
                </a:cubicBezTo>
              </a:path>
              <a:path w="869" h="993">
                <a:moveTo>
                  <a:pt x="6003" y="7813"/>
                </a:moveTo>
                <a:cubicBezTo>
                  <a:pt x="6017" y="7773"/>
                  <a:pt x="6052" y="7789"/>
                  <a:pt x="6102" y="7789"/>
                </a:cubicBezTo>
                <a:cubicBezTo>
                  <a:pt x="6143" y="7789"/>
                  <a:pt x="6185" y="7789"/>
                  <a:pt x="6226" y="7789"/>
                </a:cubicBezTo>
                <a:cubicBezTo>
                  <a:pt x="6226" y="7815"/>
                  <a:pt x="6218" y="7876"/>
                  <a:pt x="6201" y="7888"/>
                </a:cubicBezTo>
                <a:cubicBezTo>
                  <a:pt x="6187" y="7897"/>
                  <a:pt x="6118" y="7911"/>
                  <a:pt x="6102" y="7913"/>
                </a:cubicBezTo>
                <a:cubicBezTo>
                  <a:pt x="6052" y="7919"/>
                  <a:pt x="6128" y="7935"/>
                  <a:pt x="6152" y="7938"/>
                </a:cubicBezTo>
                <a:cubicBezTo>
                  <a:pt x="6178" y="7941"/>
                  <a:pt x="6222" y="7978"/>
                  <a:pt x="6226" y="7987"/>
                </a:cubicBezTo>
                <a:cubicBezTo>
                  <a:pt x="6226" y="7995"/>
                  <a:pt x="6226" y="8004"/>
                  <a:pt x="6226" y="8012"/>
                </a:cubicBezTo>
                <a:cubicBezTo>
                  <a:pt x="6194" y="8092"/>
                  <a:pt x="6180" y="8082"/>
                  <a:pt x="6127" y="8111"/>
                </a:cubicBezTo>
                <a:cubicBezTo>
                  <a:pt x="6088" y="8132"/>
                  <a:pt x="6044" y="8149"/>
                  <a:pt x="6003" y="8161"/>
                </a:cubicBezTo>
                <a:cubicBezTo>
                  <a:pt x="5978" y="8161"/>
                  <a:pt x="5970" y="8161"/>
                  <a:pt x="597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847960"/>
            <a:ext cx="1463760" cy="314280"/>
          </a:xfrm>
          <a:custGeom>
            <a:avLst/>
            <a:gdLst/>
            <a:ahLst/>
            <a:rect l="l" t="t" r="r" b="b"/>
            <a:pathLst>
              <a:path w="4069" h="869">
                <a:moveTo>
                  <a:pt x="6697" y="8359"/>
                </a:moveTo>
                <a:cubicBezTo>
                  <a:pt x="6697" y="8351"/>
                  <a:pt x="6697" y="8342"/>
                  <a:pt x="6697" y="8334"/>
                </a:cubicBezTo>
                <a:cubicBezTo>
                  <a:pt x="6707" y="8363"/>
                  <a:pt x="6731" y="8379"/>
                  <a:pt x="6772" y="8384"/>
                </a:cubicBezTo>
                <a:cubicBezTo>
                  <a:pt x="6876" y="8396"/>
                  <a:pt x="6989" y="8384"/>
                  <a:pt x="7094" y="8384"/>
                </a:cubicBezTo>
              </a:path>
              <a:path w="4069" h="869">
                <a:moveTo>
                  <a:pt x="6921" y="8186"/>
                </a:moveTo>
                <a:cubicBezTo>
                  <a:pt x="6921" y="8251"/>
                  <a:pt x="6900" y="8296"/>
                  <a:pt x="6896" y="8359"/>
                </a:cubicBezTo>
                <a:cubicBezTo>
                  <a:pt x="6891" y="8445"/>
                  <a:pt x="6859" y="8526"/>
                  <a:pt x="6846" y="8607"/>
                </a:cubicBezTo>
                <a:cubicBezTo>
                  <a:pt x="6838" y="8660"/>
                  <a:pt x="6836" y="8670"/>
                  <a:pt x="6871" y="8682"/>
                </a:cubicBezTo>
              </a:path>
              <a:path w="4069" h="869">
                <a:moveTo>
                  <a:pt x="7541" y="7987"/>
                </a:moveTo>
                <a:cubicBezTo>
                  <a:pt x="7604" y="7987"/>
                  <a:pt x="7602" y="7980"/>
                  <a:pt x="7665" y="7987"/>
                </a:cubicBezTo>
                <a:cubicBezTo>
                  <a:pt x="7778" y="8000"/>
                  <a:pt x="7914" y="7991"/>
                  <a:pt x="8012" y="7962"/>
                </a:cubicBezTo>
                <a:cubicBezTo>
                  <a:pt x="8020" y="7962"/>
                  <a:pt x="8029" y="7962"/>
                  <a:pt x="8037" y="7962"/>
                </a:cubicBezTo>
              </a:path>
              <a:path w="4069" h="869">
                <a:moveTo>
                  <a:pt x="7590" y="8037"/>
                </a:moveTo>
                <a:cubicBezTo>
                  <a:pt x="7549" y="8068"/>
                  <a:pt x="7542" y="8073"/>
                  <a:pt x="7516" y="8111"/>
                </a:cubicBezTo>
                <a:cubicBezTo>
                  <a:pt x="7508" y="8119"/>
                  <a:pt x="7499" y="8128"/>
                  <a:pt x="7491" y="8136"/>
                </a:cubicBezTo>
                <a:cubicBezTo>
                  <a:pt x="7513" y="8165"/>
                  <a:pt x="7526" y="8202"/>
                  <a:pt x="7565" y="8210"/>
                </a:cubicBezTo>
                <a:cubicBezTo>
                  <a:pt x="7630" y="8224"/>
                  <a:pt x="7705" y="8224"/>
                  <a:pt x="7764" y="8260"/>
                </a:cubicBezTo>
                <a:cubicBezTo>
                  <a:pt x="7803" y="8284"/>
                  <a:pt x="7849" y="8317"/>
                  <a:pt x="7863" y="8359"/>
                </a:cubicBezTo>
                <a:cubicBezTo>
                  <a:pt x="7883" y="8419"/>
                  <a:pt x="7838" y="8459"/>
                  <a:pt x="7813" y="8508"/>
                </a:cubicBezTo>
                <a:cubicBezTo>
                  <a:pt x="7777" y="8577"/>
                  <a:pt x="7698" y="8624"/>
                  <a:pt x="7640" y="8682"/>
                </a:cubicBezTo>
                <a:cubicBezTo>
                  <a:pt x="7587" y="8735"/>
                  <a:pt x="7529" y="8762"/>
                  <a:pt x="7466" y="8781"/>
                </a:cubicBezTo>
                <a:cubicBezTo>
                  <a:pt x="7458" y="8781"/>
                  <a:pt x="7449" y="8781"/>
                  <a:pt x="7441" y="8781"/>
                </a:cubicBezTo>
              </a:path>
              <a:path w="4069" h="869">
                <a:moveTo>
                  <a:pt x="8409" y="8062"/>
                </a:moveTo>
                <a:cubicBezTo>
                  <a:pt x="8409" y="8247"/>
                  <a:pt x="8410" y="8427"/>
                  <a:pt x="8384" y="8607"/>
                </a:cubicBezTo>
                <a:cubicBezTo>
                  <a:pt x="8377" y="8658"/>
                  <a:pt x="8364" y="8707"/>
                  <a:pt x="8359" y="8756"/>
                </a:cubicBezTo>
                <a:cubicBezTo>
                  <a:pt x="8359" y="8781"/>
                  <a:pt x="8359" y="8789"/>
                  <a:pt x="8359" y="8756"/>
                </a:cubicBezTo>
              </a:path>
              <a:path w="4069" h="869">
                <a:moveTo>
                  <a:pt x="8434" y="8062"/>
                </a:moveTo>
                <a:cubicBezTo>
                  <a:pt x="8379" y="8115"/>
                  <a:pt x="8243" y="8211"/>
                  <a:pt x="8235" y="8285"/>
                </a:cubicBezTo>
                <a:cubicBezTo>
                  <a:pt x="8230" y="8331"/>
                  <a:pt x="8238" y="8354"/>
                  <a:pt x="8285" y="8359"/>
                </a:cubicBezTo>
                <a:cubicBezTo>
                  <a:pt x="8341" y="8365"/>
                  <a:pt x="8418" y="8334"/>
                  <a:pt x="8483" y="8334"/>
                </a:cubicBezTo>
                <a:cubicBezTo>
                  <a:pt x="8547" y="8334"/>
                  <a:pt x="8592" y="8310"/>
                  <a:pt x="8657" y="8310"/>
                </a:cubicBezTo>
              </a:path>
              <a:path w="4069" h="869">
                <a:moveTo>
                  <a:pt x="9029" y="8384"/>
                </a:moveTo>
                <a:cubicBezTo>
                  <a:pt x="9039" y="8423"/>
                  <a:pt x="9054" y="8439"/>
                  <a:pt x="9054" y="8483"/>
                </a:cubicBezTo>
                <a:cubicBezTo>
                  <a:pt x="9094" y="8496"/>
                  <a:pt x="9079" y="8523"/>
                  <a:pt x="9103" y="8558"/>
                </a:cubicBezTo>
                <a:cubicBezTo>
                  <a:pt x="9124" y="8590"/>
                  <a:pt x="9134" y="8629"/>
                  <a:pt x="9153" y="8657"/>
                </a:cubicBezTo>
                <a:cubicBezTo>
                  <a:pt x="9174" y="8688"/>
                  <a:pt x="9196" y="8698"/>
                  <a:pt x="9227" y="8706"/>
                </a:cubicBezTo>
              </a:path>
              <a:path w="4069" h="869">
                <a:moveTo>
                  <a:pt x="9302" y="8384"/>
                </a:moveTo>
                <a:cubicBezTo>
                  <a:pt x="9248" y="8446"/>
                  <a:pt x="9204" y="8500"/>
                  <a:pt x="9153" y="8558"/>
                </a:cubicBezTo>
                <a:cubicBezTo>
                  <a:pt x="9114" y="8602"/>
                  <a:pt x="9036" y="8706"/>
                  <a:pt x="8979" y="8731"/>
                </a:cubicBezTo>
                <a:cubicBezTo>
                  <a:pt x="8954" y="8731"/>
                  <a:pt x="8946" y="8731"/>
                  <a:pt x="8954" y="8756"/>
                </a:cubicBezTo>
              </a:path>
              <a:path w="4069" h="869">
                <a:moveTo>
                  <a:pt x="9550" y="7962"/>
                </a:moveTo>
                <a:cubicBezTo>
                  <a:pt x="9580" y="7918"/>
                  <a:pt x="9605" y="7962"/>
                  <a:pt x="9649" y="7938"/>
                </a:cubicBezTo>
                <a:cubicBezTo>
                  <a:pt x="9713" y="7903"/>
                  <a:pt x="9712" y="7931"/>
                  <a:pt x="9773" y="7938"/>
                </a:cubicBezTo>
                <a:cubicBezTo>
                  <a:pt x="9825" y="7944"/>
                  <a:pt x="9823" y="7966"/>
                  <a:pt x="9823" y="8012"/>
                </a:cubicBezTo>
                <a:cubicBezTo>
                  <a:pt x="9823" y="8047"/>
                  <a:pt x="9796" y="8086"/>
                  <a:pt x="9773" y="8111"/>
                </a:cubicBezTo>
                <a:cubicBezTo>
                  <a:pt x="9745" y="8142"/>
                  <a:pt x="9709" y="8188"/>
                  <a:pt x="9674" y="8210"/>
                </a:cubicBezTo>
                <a:cubicBezTo>
                  <a:pt x="9665" y="8216"/>
                  <a:pt x="9551" y="8272"/>
                  <a:pt x="9599" y="8310"/>
                </a:cubicBezTo>
                <a:cubicBezTo>
                  <a:pt x="9622" y="8328"/>
                  <a:pt x="9666" y="8334"/>
                  <a:pt x="9699" y="8334"/>
                </a:cubicBezTo>
                <a:cubicBezTo>
                  <a:pt x="9773" y="8334"/>
                  <a:pt x="9834" y="8328"/>
                  <a:pt x="9897" y="8310"/>
                </a:cubicBezTo>
                <a:cubicBezTo>
                  <a:pt x="9917" y="8304"/>
                  <a:pt x="9950" y="8310"/>
                  <a:pt x="9971" y="8310"/>
                </a:cubicBezTo>
              </a:path>
              <a:path w="4069" h="869">
                <a:moveTo>
                  <a:pt x="10344" y="8260"/>
                </a:moveTo>
                <a:cubicBezTo>
                  <a:pt x="10484" y="8260"/>
                  <a:pt x="10625" y="8260"/>
                  <a:pt x="10765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7320" y="2857680"/>
            <a:ext cx="563760" cy="322200"/>
          </a:xfrm>
          <a:custGeom>
            <a:avLst/>
            <a:gdLst/>
            <a:ahLst/>
            <a:rect l="l" t="t" r="r" b="b"/>
            <a:pathLst>
              <a:path w="1564" h="893">
                <a:moveTo>
                  <a:pt x="11311" y="7938"/>
                </a:moveTo>
                <a:cubicBezTo>
                  <a:pt x="11311" y="8051"/>
                  <a:pt x="11304" y="8154"/>
                  <a:pt x="11286" y="8260"/>
                </a:cubicBezTo>
                <a:cubicBezTo>
                  <a:pt x="11273" y="8336"/>
                  <a:pt x="11278" y="8409"/>
                  <a:pt x="11261" y="8483"/>
                </a:cubicBezTo>
                <a:cubicBezTo>
                  <a:pt x="11243" y="8565"/>
                  <a:pt x="11225" y="8651"/>
                  <a:pt x="11212" y="8731"/>
                </a:cubicBezTo>
                <a:cubicBezTo>
                  <a:pt x="11203" y="8783"/>
                  <a:pt x="11198" y="8823"/>
                  <a:pt x="11212" y="8830"/>
                </a:cubicBezTo>
              </a:path>
              <a:path w="1564" h="893">
                <a:moveTo>
                  <a:pt x="11881" y="7962"/>
                </a:moveTo>
                <a:cubicBezTo>
                  <a:pt x="11831" y="7962"/>
                  <a:pt x="11823" y="7963"/>
                  <a:pt x="11782" y="7987"/>
                </a:cubicBezTo>
                <a:cubicBezTo>
                  <a:pt x="11718" y="8024"/>
                  <a:pt x="11708" y="8076"/>
                  <a:pt x="11683" y="8136"/>
                </a:cubicBezTo>
                <a:cubicBezTo>
                  <a:pt x="11638" y="8245"/>
                  <a:pt x="11609" y="8313"/>
                  <a:pt x="11609" y="8434"/>
                </a:cubicBezTo>
                <a:cubicBezTo>
                  <a:pt x="11609" y="8486"/>
                  <a:pt x="11612" y="8562"/>
                  <a:pt x="11633" y="8607"/>
                </a:cubicBezTo>
                <a:cubicBezTo>
                  <a:pt x="11655" y="8654"/>
                  <a:pt x="11693" y="8691"/>
                  <a:pt x="11733" y="8731"/>
                </a:cubicBezTo>
                <a:cubicBezTo>
                  <a:pt x="11762" y="8760"/>
                  <a:pt x="11796" y="8794"/>
                  <a:pt x="11832" y="8806"/>
                </a:cubicBezTo>
                <a:cubicBezTo>
                  <a:pt x="11890" y="8825"/>
                  <a:pt x="11919" y="8793"/>
                  <a:pt x="11956" y="8756"/>
                </a:cubicBezTo>
                <a:cubicBezTo>
                  <a:pt x="12020" y="8692"/>
                  <a:pt x="12088" y="8613"/>
                  <a:pt x="12129" y="8533"/>
                </a:cubicBezTo>
                <a:cubicBezTo>
                  <a:pt x="12166" y="8462"/>
                  <a:pt x="12180" y="8381"/>
                  <a:pt x="12204" y="8310"/>
                </a:cubicBezTo>
                <a:cubicBezTo>
                  <a:pt x="12232" y="8228"/>
                  <a:pt x="12239" y="8197"/>
                  <a:pt x="12204" y="8111"/>
                </a:cubicBezTo>
                <a:cubicBezTo>
                  <a:pt x="12177" y="8045"/>
                  <a:pt x="12147" y="8016"/>
                  <a:pt x="12080" y="8012"/>
                </a:cubicBezTo>
                <a:cubicBezTo>
                  <a:pt x="11992" y="8007"/>
                  <a:pt x="12019" y="7990"/>
                  <a:pt x="11931" y="8012"/>
                </a:cubicBezTo>
                <a:cubicBezTo>
                  <a:pt x="11923" y="8012"/>
                  <a:pt x="11914" y="8012"/>
                  <a:pt x="11906" y="8012"/>
                </a:cubicBezTo>
              </a:path>
              <a:path w="1564" h="893">
                <a:moveTo>
                  <a:pt x="12452" y="7962"/>
                </a:moveTo>
                <a:cubicBezTo>
                  <a:pt x="12480" y="7958"/>
                  <a:pt x="12547" y="7922"/>
                  <a:pt x="12576" y="7938"/>
                </a:cubicBezTo>
                <a:cubicBezTo>
                  <a:pt x="12619" y="7961"/>
                  <a:pt x="12661" y="7956"/>
                  <a:pt x="12700" y="7987"/>
                </a:cubicBezTo>
                <a:cubicBezTo>
                  <a:pt x="12740" y="8019"/>
                  <a:pt x="12750" y="8037"/>
                  <a:pt x="12750" y="8086"/>
                </a:cubicBezTo>
                <a:cubicBezTo>
                  <a:pt x="12750" y="8129"/>
                  <a:pt x="12705" y="8157"/>
                  <a:pt x="12675" y="8186"/>
                </a:cubicBezTo>
                <a:cubicBezTo>
                  <a:pt x="12636" y="8224"/>
                  <a:pt x="12590" y="8246"/>
                  <a:pt x="12551" y="8285"/>
                </a:cubicBezTo>
                <a:cubicBezTo>
                  <a:pt x="12510" y="8326"/>
                  <a:pt x="12480" y="8357"/>
                  <a:pt x="12452" y="8409"/>
                </a:cubicBezTo>
                <a:cubicBezTo>
                  <a:pt x="12408" y="8491"/>
                  <a:pt x="12402" y="8567"/>
                  <a:pt x="12402" y="8657"/>
                </a:cubicBezTo>
                <a:cubicBezTo>
                  <a:pt x="12402" y="8699"/>
                  <a:pt x="12441" y="8778"/>
                  <a:pt x="12477" y="8806"/>
                </a:cubicBezTo>
                <a:cubicBezTo>
                  <a:pt x="12506" y="8829"/>
                  <a:pt x="12582" y="8798"/>
                  <a:pt x="12601" y="8781"/>
                </a:cubicBezTo>
                <a:cubicBezTo>
                  <a:pt x="12640" y="8746"/>
                  <a:pt x="12671" y="8711"/>
                  <a:pt x="12675" y="8657"/>
                </a:cubicBezTo>
                <a:cubicBezTo>
                  <a:pt x="12680" y="8586"/>
                  <a:pt x="12700" y="8532"/>
                  <a:pt x="12700" y="8458"/>
                </a:cubicBezTo>
                <a:cubicBezTo>
                  <a:pt x="12700" y="8391"/>
                  <a:pt x="12695" y="8321"/>
                  <a:pt x="12675" y="8260"/>
                </a:cubicBezTo>
                <a:cubicBezTo>
                  <a:pt x="12654" y="8196"/>
                  <a:pt x="12631" y="8150"/>
                  <a:pt x="12626" y="8086"/>
                </a:cubicBezTo>
                <a:cubicBezTo>
                  <a:pt x="12623" y="8045"/>
                  <a:pt x="12626" y="8003"/>
                  <a:pt x="12626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1920" y="3017880"/>
            <a:ext cx="125280" cy="14436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13171" y="8384"/>
                </a:moveTo>
                <a:cubicBezTo>
                  <a:pt x="13206" y="8419"/>
                  <a:pt x="13216" y="8449"/>
                  <a:pt x="13246" y="8483"/>
                </a:cubicBezTo>
                <a:cubicBezTo>
                  <a:pt x="13279" y="8520"/>
                  <a:pt x="13283" y="8566"/>
                  <a:pt x="13320" y="8607"/>
                </a:cubicBezTo>
                <a:cubicBezTo>
                  <a:pt x="13340" y="8629"/>
                  <a:pt x="13382" y="8678"/>
                  <a:pt x="13395" y="8706"/>
                </a:cubicBezTo>
                <a:cubicBezTo>
                  <a:pt x="13395" y="8731"/>
                  <a:pt x="13395" y="8739"/>
                  <a:pt x="13419" y="8731"/>
                </a:cubicBezTo>
              </a:path>
              <a:path w="349" h="398">
                <a:moveTo>
                  <a:pt x="13519" y="8384"/>
                </a:moveTo>
                <a:cubicBezTo>
                  <a:pt x="13479" y="8424"/>
                  <a:pt x="13456" y="8468"/>
                  <a:pt x="13419" y="8508"/>
                </a:cubicBezTo>
                <a:cubicBezTo>
                  <a:pt x="13362" y="8570"/>
                  <a:pt x="13328" y="8643"/>
                  <a:pt x="13271" y="8706"/>
                </a:cubicBezTo>
                <a:cubicBezTo>
                  <a:pt x="13242" y="8738"/>
                  <a:pt x="13246" y="8740"/>
                  <a:pt x="13246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7760" y="2867040"/>
            <a:ext cx="5443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3965" y="8458"/>
                </a:moveTo>
                <a:cubicBezTo>
                  <a:pt x="14056" y="8458"/>
                  <a:pt x="14135" y="8457"/>
                  <a:pt x="14213" y="8483"/>
                </a:cubicBezTo>
                <a:cubicBezTo>
                  <a:pt x="14284" y="8507"/>
                  <a:pt x="14379" y="8477"/>
                  <a:pt x="14436" y="8458"/>
                </a:cubicBezTo>
                <a:cubicBezTo>
                  <a:pt x="14461" y="8458"/>
                  <a:pt x="14469" y="8458"/>
                  <a:pt x="14486" y="8458"/>
                </a:cubicBezTo>
              </a:path>
              <a:path w="1514" h="1043">
                <a:moveTo>
                  <a:pt x="14263" y="8310"/>
                </a:moveTo>
                <a:cubicBezTo>
                  <a:pt x="14250" y="8362"/>
                  <a:pt x="14238" y="8395"/>
                  <a:pt x="14238" y="8458"/>
                </a:cubicBezTo>
                <a:cubicBezTo>
                  <a:pt x="14238" y="8508"/>
                  <a:pt x="14233" y="8639"/>
                  <a:pt x="14213" y="8682"/>
                </a:cubicBezTo>
                <a:cubicBezTo>
                  <a:pt x="14194" y="8724"/>
                  <a:pt x="14188" y="8730"/>
                  <a:pt x="14188" y="8781"/>
                </a:cubicBezTo>
              </a:path>
              <a:path w="1514" h="1043">
                <a:moveTo>
                  <a:pt x="14883" y="7987"/>
                </a:moveTo>
                <a:cubicBezTo>
                  <a:pt x="14926" y="7976"/>
                  <a:pt x="14924" y="7966"/>
                  <a:pt x="14957" y="7962"/>
                </a:cubicBezTo>
                <a:cubicBezTo>
                  <a:pt x="15080" y="7947"/>
                  <a:pt x="15244" y="7941"/>
                  <a:pt x="15354" y="7987"/>
                </a:cubicBezTo>
                <a:cubicBezTo>
                  <a:pt x="15413" y="8012"/>
                  <a:pt x="15492" y="8034"/>
                  <a:pt x="15478" y="8111"/>
                </a:cubicBezTo>
                <a:cubicBezTo>
                  <a:pt x="15461" y="8202"/>
                  <a:pt x="15403" y="8281"/>
                  <a:pt x="15329" y="8334"/>
                </a:cubicBezTo>
                <a:cubicBezTo>
                  <a:pt x="15242" y="8397"/>
                  <a:pt x="15166" y="8466"/>
                  <a:pt x="15081" y="8533"/>
                </a:cubicBezTo>
                <a:cubicBezTo>
                  <a:pt x="14997" y="8600"/>
                  <a:pt x="14897" y="8699"/>
                  <a:pt x="14858" y="8806"/>
                </a:cubicBezTo>
                <a:cubicBezTo>
                  <a:pt x="14829" y="8884"/>
                  <a:pt x="14864" y="8938"/>
                  <a:pt x="14908" y="8979"/>
                </a:cubicBezTo>
                <a:cubicBezTo>
                  <a:pt x="14943" y="9011"/>
                  <a:pt x="15007" y="9018"/>
                  <a:pt x="15056" y="9004"/>
                </a:cubicBezTo>
                <a:cubicBezTo>
                  <a:pt x="15138" y="8981"/>
                  <a:pt x="15160" y="8940"/>
                  <a:pt x="15205" y="8880"/>
                </a:cubicBezTo>
                <a:cubicBezTo>
                  <a:pt x="15238" y="8836"/>
                  <a:pt x="15244" y="8741"/>
                  <a:pt x="15230" y="8682"/>
                </a:cubicBezTo>
                <a:cubicBezTo>
                  <a:pt x="15199" y="8551"/>
                  <a:pt x="15153" y="8433"/>
                  <a:pt x="15106" y="8310"/>
                </a:cubicBezTo>
                <a:cubicBezTo>
                  <a:pt x="15076" y="8231"/>
                  <a:pt x="15036" y="8145"/>
                  <a:pt x="15032" y="8062"/>
                </a:cubicBezTo>
                <a:cubicBezTo>
                  <a:pt x="15028" y="7995"/>
                  <a:pt x="15035" y="7992"/>
                  <a:pt x="15056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42000" y="2874960"/>
            <a:ext cx="231840" cy="48276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16024" y="8012"/>
                </a:moveTo>
                <a:cubicBezTo>
                  <a:pt x="16050" y="8073"/>
                  <a:pt x="16049" y="8095"/>
                  <a:pt x="16049" y="8161"/>
                </a:cubicBezTo>
                <a:cubicBezTo>
                  <a:pt x="16049" y="8231"/>
                  <a:pt x="16027" y="8290"/>
                  <a:pt x="16024" y="8359"/>
                </a:cubicBezTo>
                <a:cubicBezTo>
                  <a:pt x="16020" y="8461"/>
                  <a:pt x="16001" y="8585"/>
                  <a:pt x="15974" y="8682"/>
                </a:cubicBezTo>
                <a:cubicBezTo>
                  <a:pt x="15956" y="8747"/>
                  <a:pt x="15929" y="8833"/>
                  <a:pt x="15949" y="8905"/>
                </a:cubicBezTo>
                <a:cubicBezTo>
                  <a:pt x="15965" y="8961"/>
                  <a:pt x="15978" y="9026"/>
                  <a:pt x="15999" y="9079"/>
                </a:cubicBezTo>
                <a:cubicBezTo>
                  <a:pt x="16007" y="9095"/>
                  <a:pt x="16016" y="9112"/>
                  <a:pt x="16024" y="9128"/>
                </a:cubicBezTo>
              </a:path>
              <a:path w="646" h="1341">
                <a:moveTo>
                  <a:pt x="16495" y="7987"/>
                </a:moveTo>
                <a:cubicBezTo>
                  <a:pt x="16518" y="8028"/>
                  <a:pt x="16542" y="8060"/>
                  <a:pt x="16545" y="8111"/>
                </a:cubicBezTo>
                <a:cubicBezTo>
                  <a:pt x="16548" y="8155"/>
                  <a:pt x="16563" y="8177"/>
                  <a:pt x="16570" y="8210"/>
                </a:cubicBezTo>
                <a:cubicBezTo>
                  <a:pt x="16583" y="8276"/>
                  <a:pt x="16588" y="8396"/>
                  <a:pt x="16594" y="8458"/>
                </a:cubicBezTo>
                <a:cubicBezTo>
                  <a:pt x="16603" y="8547"/>
                  <a:pt x="16574" y="8620"/>
                  <a:pt x="16570" y="8706"/>
                </a:cubicBezTo>
                <a:cubicBezTo>
                  <a:pt x="16567" y="8776"/>
                  <a:pt x="16538" y="8872"/>
                  <a:pt x="16495" y="8930"/>
                </a:cubicBezTo>
                <a:cubicBezTo>
                  <a:pt x="16437" y="9010"/>
                  <a:pt x="16369" y="9060"/>
                  <a:pt x="16297" y="9128"/>
                </a:cubicBezTo>
                <a:cubicBezTo>
                  <a:pt x="16229" y="9192"/>
                  <a:pt x="16147" y="9220"/>
                  <a:pt x="16073" y="9277"/>
                </a:cubicBezTo>
                <a:cubicBezTo>
                  <a:pt x="16008" y="9328"/>
                  <a:pt x="16011" y="9323"/>
                  <a:pt x="15949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4040" y="3303720"/>
            <a:ext cx="4473720" cy="384120"/>
          </a:xfrm>
          <a:custGeom>
            <a:avLst/>
            <a:gdLst/>
            <a:ahLst/>
            <a:rect l="l" t="t" r="r" b="b"/>
            <a:pathLst>
              <a:path w="12428" h="1067">
                <a:moveTo>
                  <a:pt x="1662" y="9451"/>
                </a:moveTo>
                <a:cubicBezTo>
                  <a:pt x="1639" y="9428"/>
                  <a:pt x="1631" y="9424"/>
                  <a:pt x="1637" y="9401"/>
                </a:cubicBezTo>
                <a:cubicBezTo>
                  <a:pt x="1685" y="9389"/>
                  <a:pt x="1733" y="9360"/>
                  <a:pt x="1786" y="9351"/>
                </a:cubicBezTo>
                <a:cubicBezTo>
                  <a:pt x="1829" y="9344"/>
                  <a:pt x="1917" y="9350"/>
                  <a:pt x="1935" y="9401"/>
                </a:cubicBezTo>
                <a:cubicBezTo>
                  <a:pt x="1956" y="9461"/>
                  <a:pt x="1910" y="9526"/>
                  <a:pt x="1885" y="9575"/>
                </a:cubicBezTo>
                <a:cubicBezTo>
                  <a:pt x="1847" y="9651"/>
                  <a:pt x="1807" y="9690"/>
                  <a:pt x="1761" y="9748"/>
                </a:cubicBezTo>
                <a:cubicBezTo>
                  <a:pt x="1717" y="9803"/>
                  <a:pt x="1651" y="9863"/>
                  <a:pt x="1612" y="9922"/>
                </a:cubicBezTo>
                <a:cubicBezTo>
                  <a:pt x="1585" y="9963"/>
                  <a:pt x="1573" y="9986"/>
                  <a:pt x="1538" y="10021"/>
                </a:cubicBezTo>
                <a:cubicBezTo>
                  <a:pt x="1613" y="10077"/>
                  <a:pt x="1602" y="10056"/>
                  <a:pt x="1712" y="10046"/>
                </a:cubicBezTo>
                <a:cubicBezTo>
                  <a:pt x="1783" y="10040"/>
                  <a:pt x="1843" y="10032"/>
                  <a:pt x="1910" y="10021"/>
                </a:cubicBezTo>
                <a:cubicBezTo>
                  <a:pt x="1986" y="10008"/>
                  <a:pt x="2021" y="10028"/>
                  <a:pt x="2084" y="9971"/>
                </a:cubicBezTo>
                <a:cubicBezTo>
                  <a:pt x="2126" y="9933"/>
                  <a:pt x="2146" y="9887"/>
                  <a:pt x="2183" y="9847"/>
                </a:cubicBezTo>
                <a:cubicBezTo>
                  <a:pt x="2207" y="9821"/>
                  <a:pt x="2241" y="9759"/>
                  <a:pt x="2257" y="9723"/>
                </a:cubicBezTo>
                <a:cubicBezTo>
                  <a:pt x="2257" y="9715"/>
                  <a:pt x="2257" y="9707"/>
                  <a:pt x="2257" y="9699"/>
                </a:cubicBezTo>
              </a:path>
              <a:path w="12428" h="1067">
                <a:moveTo>
                  <a:pt x="2282" y="9674"/>
                </a:moveTo>
                <a:cubicBezTo>
                  <a:pt x="2282" y="9682"/>
                  <a:pt x="2282" y="9691"/>
                  <a:pt x="2282" y="9699"/>
                </a:cubicBezTo>
                <a:cubicBezTo>
                  <a:pt x="2323" y="9712"/>
                  <a:pt x="2314" y="9752"/>
                  <a:pt x="2332" y="9798"/>
                </a:cubicBezTo>
                <a:cubicBezTo>
                  <a:pt x="2359" y="9867"/>
                  <a:pt x="2402" y="9909"/>
                  <a:pt x="2431" y="9971"/>
                </a:cubicBezTo>
                <a:cubicBezTo>
                  <a:pt x="2445" y="10001"/>
                  <a:pt x="2465" y="10053"/>
                  <a:pt x="2505" y="10071"/>
                </a:cubicBezTo>
                <a:cubicBezTo>
                  <a:pt x="2530" y="10071"/>
                  <a:pt x="2538" y="10071"/>
                  <a:pt x="2555" y="10071"/>
                </a:cubicBezTo>
              </a:path>
              <a:path w="12428" h="1067">
                <a:moveTo>
                  <a:pt x="2580" y="9699"/>
                </a:moveTo>
                <a:cubicBezTo>
                  <a:pt x="2531" y="9759"/>
                  <a:pt x="2474" y="9831"/>
                  <a:pt x="2431" y="9897"/>
                </a:cubicBezTo>
                <a:cubicBezTo>
                  <a:pt x="2394" y="9954"/>
                  <a:pt x="2364" y="10018"/>
                  <a:pt x="2332" y="10071"/>
                </a:cubicBezTo>
                <a:cubicBezTo>
                  <a:pt x="2310" y="10093"/>
                  <a:pt x="2301" y="10098"/>
                  <a:pt x="2307" y="10120"/>
                </a:cubicBezTo>
              </a:path>
              <a:path w="12428" h="1067">
                <a:moveTo>
                  <a:pt x="3001" y="9227"/>
                </a:moveTo>
                <a:cubicBezTo>
                  <a:pt x="2989" y="9264"/>
                  <a:pt x="2977" y="9249"/>
                  <a:pt x="2977" y="9302"/>
                </a:cubicBezTo>
                <a:cubicBezTo>
                  <a:pt x="2977" y="9360"/>
                  <a:pt x="2957" y="9399"/>
                  <a:pt x="2952" y="9451"/>
                </a:cubicBezTo>
                <a:cubicBezTo>
                  <a:pt x="2947" y="9504"/>
                  <a:pt x="2952" y="9568"/>
                  <a:pt x="2952" y="9624"/>
                </a:cubicBezTo>
              </a:path>
              <a:path w="12428" h="1067">
                <a:moveTo>
                  <a:pt x="3026" y="9252"/>
                </a:moveTo>
                <a:cubicBezTo>
                  <a:pt x="3007" y="9194"/>
                  <a:pt x="2991" y="9244"/>
                  <a:pt x="2952" y="9252"/>
                </a:cubicBezTo>
                <a:cubicBezTo>
                  <a:pt x="2890" y="9265"/>
                  <a:pt x="2855" y="9281"/>
                  <a:pt x="2803" y="9327"/>
                </a:cubicBezTo>
                <a:cubicBezTo>
                  <a:pt x="2789" y="9339"/>
                  <a:pt x="2720" y="9399"/>
                  <a:pt x="2753" y="9426"/>
                </a:cubicBezTo>
                <a:cubicBezTo>
                  <a:pt x="2784" y="9451"/>
                  <a:pt x="2834" y="9451"/>
                  <a:pt x="2877" y="9451"/>
                </a:cubicBezTo>
                <a:cubicBezTo>
                  <a:pt x="2943" y="9451"/>
                  <a:pt x="2987" y="9430"/>
                  <a:pt x="3051" y="9426"/>
                </a:cubicBezTo>
                <a:cubicBezTo>
                  <a:pt x="3115" y="9422"/>
                  <a:pt x="3162" y="9409"/>
                  <a:pt x="3225" y="9401"/>
                </a:cubicBezTo>
              </a:path>
              <a:path w="12428" h="1067">
                <a:moveTo>
                  <a:pt x="3473" y="9872"/>
                </a:moveTo>
                <a:cubicBezTo>
                  <a:pt x="3514" y="9841"/>
                  <a:pt x="3534" y="9867"/>
                  <a:pt x="3572" y="9847"/>
                </a:cubicBezTo>
                <a:cubicBezTo>
                  <a:pt x="3618" y="9823"/>
                  <a:pt x="3638" y="9823"/>
                  <a:pt x="3696" y="9823"/>
                </a:cubicBezTo>
                <a:cubicBezTo>
                  <a:pt x="3762" y="9823"/>
                  <a:pt x="3828" y="9823"/>
                  <a:pt x="3894" y="9823"/>
                </a:cubicBezTo>
              </a:path>
              <a:path w="12428" h="1067">
                <a:moveTo>
                  <a:pt x="4192" y="9500"/>
                </a:moveTo>
                <a:cubicBezTo>
                  <a:pt x="4205" y="9462"/>
                  <a:pt x="4221" y="9475"/>
                  <a:pt x="4266" y="9475"/>
                </a:cubicBezTo>
                <a:cubicBezTo>
                  <a:pt x="4346" y="9475"/>
                  <a:pt x="4400" y="9478"/>
                  <a:pt x="4465" y="9500"/>
                </a:cubicBezTo>
                <a:cubicBezTo>
                  <a:pt x="4520" y="9518"/>
                  <a:pt x="4478" y="9536"/>
                  <a:pt x="4465" y="9575"/>
                </a:cubicBezTo>
                <a:cubicBezTo>
                  <a:pt x="4438" y="9653"/>
                  <a:pt x="4403" y="9664"/>
                  <a:pt x="4341" y="9723"/>
                </a:cubicBezTo>
                <a:cubicBezTo>
                  <a:pt x="4277" y="9783"/>
                  <a:pt x="4224" y="9834"/>
                  <a:pt x="4167" y="9897"/>
                </a:cubicBezTo>
                <a:cubicBezTo>
                  <a:pt x="4143" y="9923"/>
                  <a:pt x="4119" y="9972"/>
                  <a:pt x="4167" y="9996"/>
                </a:cubicBezTo>
                <a:cubicBezTo>
                  <a:pt x="4209" y="10017"/>
                  <a:pt x="4238" y="10021"/>
                  <a:pt x="4291" y="10021"/>
                </a:cubicBezTo>
                <a:cubicBezTo>
                  <a:pt x="4347" y="10021"/>
                  <a:pt x="4417" y="10025"/>
                  <a:pt x="4465" y="9996"/>
                </a:cubicBezTo>
                <a:cubicBezTo>
                  <a:pt x="4493" y="9968"/>
                  <a:pt x="4506" y="9959"/>
                  <a:pt x="4539" y="9971"/>
                </a:cubicBezTo>
              </a:path>
              <a:path w="12428" h="1067">
                <a:moveTo>
                  <a:pt x="5060" y="9426"/>
                </a:moveTo>
                <a:cubicBezTo>
                  <a:pt x="5060" y="9507"/>
                  <a:pt x="5043" y="9572"/>
                  <a:pt x="5035" y="9649"/>
                </a:cubicBezTo>
                <a:cubicBezTo>
                  <a:pt x="5026" y="9742"/>
                  <a:pt x="5011" y="9829"/>
                  <a:pt x="5011" y="9922"/>
                </a:cubicBezTo>
                <a:cubicBezTo>
                  <a:pt x="5011" y="9963"/>
                  <a:pt x="5011" y="9971"/>
                  <a:pt x="5011" y="9996"/>
                </a:cubicBezTo>
              </a:path>
              <a:path w="12428" h="1067">
                <a:moveTo>
                  <a:pt x="5159" y="9351"/>
                </a:moveTo>
                <a:cubicBezTo>
                  <a:pt x="5121" y="9378"/>
                  <a:pt x="5018" y="9438"/>
                  <a:pt x="4986" y="9475"/>
                </a:cubicBezTo>
                <a:cubicBezTo>
                  <a:pt x="4977" y="9485"/>
                  <a:pt x="4930" y="9586"/>
                  <a:pt x="4936" y="9599"/>
                </a:cubicBezTo>
                <a:cubicBezTo>
                  <a:pt x="4957" y="9645"/>
                  <a:pt x="5047" y="9624"/>
                  <a:pt x="5085" y="9624"/>
                </a:cubicBezTo>
                <a:cubicBezTo>
                  <a:pt x="5153" y="9624"/>
                  <a:pt x="5196" y="9614"/>
                  <a:pt x="5259" y="9599"/>
                </a:cubicBezTo>
                <a:cubicBezTo>
                  <a:pt x="5267" y="9599"/>
                  <a:pt x="5275" y="9599"/>
                  <a:pt x="5283" y="9599"/>
                </a:cubicBezTo>
              </a:path>
              <a:path w="12428" h="1067">
                <a:moveTo>
                  <a:pt x="5507" y="9599"/>
                </a:moveTo>
                <a:lnTo>
                  <a:pt x="5507" y="9599"/>
                </a:lnTo>
              </a:path>
              <a:path w="12428" h="1067">
                <a:moveTo>
                  <a:pt x="5507" y="9599"/>
                </a:moveTo>
                <a:cubicBezTo>
                  <a:pt x="5515" y="9599"/>
                  <a:pt x="5523" y="9599"/>
                  <a:pt x="5531" y="9599"/>
                </a:cubicBezTo>
              </a:path>
              <a:path w="12428" h="1067">
                <a:moveTo>
                  <a:pt x="5531" y="9599"/>
                </a:moveTo>
                <a:cubicBezTo>
                  <a:pt x="5531" y="9616"/>
                  <a:pt x="5531" y="9632"/>
                  <a:pt x="5531" y="9649"/>
                </a:cubicBezTo>
                <a:cubicBezTo>
                  <a:pt x="5582" y="9666"/>
                  <a:pt x="5557" y="9700"/>
                  <a:pt x="5581" y="9748"/>
                </a:cubicBezTo>
                <a:cubicBezTo>
                  <a:pt x="5599" y="9783"/>
                  <a:pt x="5639" y="9811"/>
                  <a:pt x="5655" y="9847"/>
                </a:cubicBezTo>
                <a:cubicBezTo>
                  <a:pt x="5673" y="9887"/>
                  <a:pt x="5694" y="9912"/>
                  <a:pt x="5730" y="9947"/>
                </a:cubicBezTo>
                <a:cubicBezTo>
                  <a:pt x="5738" y="9955"/>
                  <a:pt x="5747" y="9963"/>
                  <a:pt x="5755" y="9971"/>
                </a:cubicBezTo>
              </a:path>
              <a:path w="12428" h="1067">
                <a:moveTo>
                  <a:pt x="5879" y="9599"/>
                </a:moveTo>
                <a:cubicBezTo>
                  <a:pt x="5831" y="9611"/>
                  <a:pt x="5821" y="9647"/>
                  <a:pt x="5779" y="9674"/>
                </a:cubicBezTo>
                <a:cubicBezTo>
                  <a:pt x="5712" y="9718"/>
                  <a:pt x="5663" y="9766"/>
                  <a:pt x="5606" y="9823"/>
                </a:cubicBezTo>
                <a:cubicBezTo>
                  <a:pt x="5574" y="9855"/>
                  <a:pt x="5481" y="9882"/>
                  <a:pt x="5507" y="9947"/>
                </a:cubicBezTo>
                <a:cubicBezTo>
                  <a:pt x="5529" y="9969"/>
                  <a:pt x="5537" y="9980"/>
                  <a:pt x="5531" y="9947"/>
                </a:cubicBezTo>
              </a:path>
              <a:path w="12428" h="1067">
                <a:moveTo>
                  <a:pt x="6077" y="9178"/>
                </a:moveTo>
                <a:cubicBezTo>
                  <a:pt x="6150" y="9178"/>
                  <a:pt x="6191" y="9183"/>
                  <a:pt x="6251" y="9203"/>
                </a:cubicBezTo>
                <a:cubicBezTo>
                  <a:pt x="6280" y="9213"/>
                  <a:pt x="6325" y="9231"/>
                  <a:pt x="6300" y="9277"/>
                </a:cubicBezTo>
                <a:cubicBezTo>
                  <a:pt x="6292" y="9291"/>
                  <a:pt x="6218" y="9344"/>
                  <a:pt x="6201" y="9351"/>
                </a:cubicBezTo>
                <a:cubicBezTo>
                  <a:pt x="6193" y="9351"/>
                  <a:pt x="6184" y="9351"/>
                  <a:pt x="6176" y="9351"/>
                </a:cubicBezTo>
                <a:cubicBezTo>
                  <a:pt x="6185" y="9378"/>
                  <a:pt x="6194" y="9397"/>
                  <a:pt x="6226" y="9401"/>
                </a:cubicBezTo>
                <a:cubicBezTo>
                  <a:pt x="6262" y="9406"/>
                  <a:pt x="6296" y="9420"/>
                  <a:pt x="6300" y="9451"/>
                </a:cubicBezTo>
                <a:cubicBezTo>
                  <a:pt x="6306" y="9502"/>
                  <a:pt x="6285" y="9516"/>
                  <a:pt x="6251" y="9550"/>
                </a:cubicBezTo>
                <a:cubicBezTo>
                  <a:pt x="6220" y="9581"/>
                  <a:pt x="6194" y="9591"/>
                  <a:pt x="6152" y="9599"/>
                </a:cubicBezTo>
              </a:path>
              <a:path w="12428" h="1067">
                <a:moveTo>
                  <a:pt x="6772" y="9649"/>
                </a:moveTo>
                <a:cubicBezTo>
                  <a:pt x="6829" y="9657"/>
                  <a:pt x="6859" y="9674"/>
                  <a:pt x="6921" y="9674"/>
                </a:cubicBezTo>
                <a:cubicBezTo>
                  <a:pt x="6992" y="9674"/>
                  <a:pt x="7037" y="9668"/>
                  <a:pt x="7094" y="9649"/>
                </a:cubicBezTo>
                <a:cubicBezTo>
                  <a:pt x="7127" y="9638"/>
                  <a:pt x="7161" y="9632"/>
                  <a:pt x="7193" y="9624"/>
                </a:cubicBezTo>
              </a:path>
              <a:path w="12428" h="1067">
                <a:moveTo>
                  <a:pt x="7119" y="9426"/>
                </a:moveTo>
                <a:cubicBezTo>
                  <a:pt x="7110" y="9488"/>
                  <a:pt x="7096" y="9538"/>
                  <a:pt x="7069" y="9599"/>
                </a:cubicBezTo>
                <a:cubicBezTo>
                  <a:pt x="7042" y="9662"/>
                  <a:pt x="7025" y="9730"/>
                  <a:pt x="7020" y="9798"/>
                </a:cubicBezTo>
                <a:cubicBezTo>
                  <a:pt x="7016" y="9850"/>
                  <a:pt x="7021" y="9847"/>
                  <a:pt x="7069" y="9847"/>
                </a:cubicBezTo>
              </a:path>
              <a:path w="12428" h="1067">
                <a:moveTo>
                  <a:pt x="7665" y="9302"/>
                </a:moveTo>
                <a:cubicBezTo>
                  <a:pt x="7654" y="9356"/>
                  <a:pt x="7636" y="9422"/>
                  <a:pt x="7615" y="9475"/>
                </a:cubicBezTo>
                <a:cubicBezTo>
                  <a:pt x="7574" y="9577"/>
                  <a:pt x="7564" y="9668"/>
                  <a:pt x="7541" y="9773"/>
                </a:cubicBezTo>
                <a:cubicBezTo>
                  <a:pt x="7520" y="9869"/>
                  <a:pt x="7516" y="9913"/>
                  <a:pt x="7541" y="9996"/>
                </a:cubicBezTo>
                <a:cubicBezTo>
                  <a:pt x="7553" y="10037"/>
                  <a:pt x="7513" y="10057"/>
                  <a:pt x="7565" y="10021"/>
                </a:cubicBezTo>
              </a:path>
              <a:path w="12428" h="1067">
                <a:moveTo>
                  <a:pt x="8186" y="9401"/>
                </a:moveTo>
                <a:cubicBezTo>
                  <a:pt x="8153" y="9381"/>
                  <a:pt x="8106" y="9360"/>
                  <a:pt x="8062" y="9376"/>
                </a:cubicBezTo>
                <a:cubicBezTo>
                  <a:pt x="8027" y="9389"/>
                  <a:pt x="7931" y="9442"/>
                  <a:pt x="7913" y="9475"/>
                </a:cubicBezTo>
                <a:cubicBezTo>
                  <a:pt x="7847" y="9601"/>
                  <a:pt x="7825" y="9764"/>
                  <a:pt x="7863" y="9897"/>
                </a:cubicBezTo>
                <a:cubicBezTo>
                  <a:pt x="7880" y="9956"/>
                  <a:pt x="7927" y="9993"/>
                  <a:pt x="7987" y="9996"/>
                </a:cubicBezTo>
                <a:cubicBezTo>
                  <a:pt x="8073" y="10000"/>
                  <a:pt x="8156" y="9968"/>
                  <a:pt x="8210" y="9897"/>
                </a:cubicBezTo>
                <a:cubicBezTo>
                  <a:pt x="8265" y="9824"/>
                  <a:pt x="8304" y="9762"/>
                  <a:pt x="8334" y="9674"/>
                </a:cubicBezTo>
                <a:cubicBezTo>
                  <a:pt x="8350" y="9628"/>
                  <a:pt x="8411" y="9528"/>
                  <a:pt x="8384" y="9475"/>
                </a:cubicBezTo>
                <a:cubicBezTo>
                  <a:pt x="8371" y="9450"/>
                  <a:pt x="8309" y="9429"/>
                  <a:pt x="8285" y="9426"/>
                </a:cubicBezTo>
                <a:cubicBezTo>
                  <a:pt x="8253" y="9422"/>
                  <a:pt x="8218" y="9426"/>
                  <a:pt x="8186" y="9426"/>
                </a:cubicBezTo>
              </a:path>
              <a:path w="12428" h="1067">
                <a:moveTo>
                  <a:pt x="8607" y="9401"/>
                </a:moveTo>
                <a:cubicBezTo>
                  <a:pt x="8646" y="9391"/>
                  <a:pt x="8662" y="9376"/>
                  <a:pt x="8706" y="9376"/>
                </a:cubicBezTo>
                <a:cubicBezTo>
                  <a:pt x="8769" y="9376"/>
                  <a:pt x="8803" y="9385"/>
                  <a:pt x="8855" y="9401"/>
                </a:cubicBezTo>
                <a:cubicBezTo>
                  <a:pt x="8890" y="9412"/>
                  <a:pt x="8920" y="9417"/>
                  <a:pt x="8954" y="9426"/>
                </a:cubicBezTo>
                <a:cubicBezTo>
                  <a:pt x="8954" y="9461"/>
                  <a:pt x="8947" y="9499"/>
                  <a:pt x="8930" y="9525"/>
                </a:cubicBezTo>
                <a:cubicBezTo>
                  <a:pt x="8899" y="9572"/>
                  <a:pt x="8848" y="9592"/>
                  <a:pt x="8806" y="9624"/>
                </a:cubicBezTo>
                <a:cubicBezTo>
                  <a:pt x="8744" y="9671"/>
                  <a:pt x="8693" y="9730"/>
                  <a:pt x="8657" y="9798"/>
                </a:cubicBezTo>
                <a:cubicBezTo>
                  <a:pt x="8634" y="9842"/>
                  <a:pt x="8575" y="9949"/>
                  <a:pt x="8582" y="9996"/>
                </a:cubicBezTo>
                <a:cubicBezTo>
                  <a:pt x="8587" y="10029"/>
                  <a:pt x="8625" y="10067"/>
                  <a:pt x="8657" y="10071"/>
                </a:cubicBezTo>
                <a:cubicBezTo>
                  <a:pt x="8687" y="10074"/>
                  <a:pt x="8724" y="10060"/>
                  <a:pt x="8731" y="10046"/>
                </a:cubicBezTo>
                <a:cubicBezTo>
                  <a:pt x="8754" y="10000"/>
                  <a:pt x="8756" y="9955"/>
                  <a:pt x="8756" y="9897"/>
                </a:cubicBezTo>
                <a:cubicBezTo>
                  <a:pt x="8756" y="9826"/>
                  <a:pt x="8742" y="9787"/>
                  <a:pt x="8731" y="9723"/>
                </a:cubicBezTo>
                <a:cubicBezTo>
                  <a:pt x="8720" y="9660"/>
                  <a:pt x="8709" y="9609"/>
                  <a:pt x="8682" y="9550"/>
                </a:cubicBezTo>
                <a:cubicBezTo>
                  <a:pt x="8661" y="9506"/>
                  <a:pt x="8643" y="9468"/>
                  <a:pt x="8632" y="9426"/>
                </a:cubicBezTo>
              </a:path>
              <a:path w="12428" h="1067">
                <a:moveTo>
                  <a:pt x="9178" y="9748"/>
                </a:moveTo>
                <a:cubicBezTo>
                  <a:pt x="9187" y="9793"/>
                  <a:pt x="9189" y="9854"/>
                  <a:pt x="9203" y="9897"/>
                </a:cubicBezTo>
                <a:cubicBezTo>
                  <a:pt x="9214" y="9932"/>
                  <a:pt x="9234" y="9995"/>
                  <a:pt x="9252" y="10021"/>
                </a:cubicBezTo>
                <a:cubicBezTo>
                  <a:pt x="9271" y="10050"/>
                  <a:pt x="9346" y="10063"/>
                  <a:pt x="9376" y="10071"/>
                </a:cubicBezTo>
              </a:path>
              <a:path w="12428" h="1067">
                <a:moveTo>
                  <a:pt x="9426" y="9748"/>
                </a:moveTo>
                <a:cubicBezTo>
                  <a:pt x="9385" y="9789"/>
                  <a:pt x="9355" y="9820"/>
                  <a:pt x="9327" y="9872"/>
                </a:cubicBezTo>
                <a:cubicBezTo>
                  <a:pt x="9309" y="9906"/>
                  <a:pt x="9198" y="10070"/>
                  <a:pt x="9203" y="10096"/>
                </a:cubicBezTo>
                <a:cubicBezTo>
                  <a:pt x="9211" y="10096"/>
                  <a:pt x="9219" y="10096"/>
                  <a:pt x="9227" y="10096"/>
                </a:cubicBezTo>
              </a:path>
              <a:path w="12428" h="1067">
                <a:moveTo>
                  <a:pt x="9649" y="9426"/>
                </a:moveTo>
                <a:cubicBezTo>
                  <a:pt x="9725" y="9426"/>
                  <a:pt x="9776" y="9433"/>
                  <a:pt x="9847" y="9451"/>
                </a:cubicBezTo>
                <a:cubicBezTo>
                  <a:pt x="9889" y="9462"/>
                  <a:pt x="9856" y="9462"/>
                  <a:pt x="9897" y="9475"/>
                </a:cubicBezTo>
                <a:cubicBezTo>
                  <a:pt x="9866" y="9516"/>
                  <a:pt x="9861" y="9524"/>
                  <a:pt x="9823" y="9550"/>
                </a:cubicBezTo>
                <a:cubicBezTo>
                  <a:pt x="9790" y="9572"/>
                  <a:pt x="9751" y="9605"/>
                  <a:pt x="9723" y="9624"/>
                </a:cubicBezTo>
                <a:cubicBezTo>
                  <a:pt x="9701" y="9647"/>
                  <a:pt x="9693" y="9652"/>
                  <a:pt x="9699" y="9674"/>
                </a:cubicBezTo>
                <a:cubicBezTo>
                  <a:pt x="9773" y="9674"/>
                  <a:pt x="9848" y="9674"/>
                  <a:pt x="9922" y="9674"/>
                </a:cubicBezTo>
              </a:path>
              <a:path w="12428" h="1067">
                <a:moveTo>
                  <a:pt x="10344" y="9872"/>
                </a:moveTo>
                <a:cubicBezTo>
                  <a:pt x="10427" y="9872"/>
                  <a:pt x="10490" y="9878"/>
                  <a:pt x="10567" y="9897"/>
                </a:cubicBezTo>
                <a:cubicBezTo>
                  <a:pt x="10603" y="9906"/>
                  <a:pt x="10654" y="9897"/>
                  <a:pt x="10691" y="9897"/>
                </a:cubicBezTo>
              </a:path>
              <a:path w="12428" h="1067">
                <a:moveTo>
                  <a:pt x="11013" y="9624"/>
                </a:moveTo>
                <a:cubicBezTo>
                  <a:pt x="11092" y="9588"/>
                  <a:pt x="11152" y="9555"/>
                  <a:pt x="11237" y="9550"/>
                </a:cubicBezTo>
                <a:cubicBezTo>
                  <a:pt x="11285" y="9547"/>
                  <a:pt x="11406" y="9530"/>
                  <a:pt x="11435" y="9575"/>
                </a:cubicBezTo>
                <a:cubicBezTo>
                  <a:pt x="11465" y="9622"/>
                  <a:pt x="11428" y="9758"/>
                  <a:pt x="11410" y="9798"/>
                </a:cubicBezTo>
                <a:cubicBezTo>
                  <a:pt x="11382" y="9860"/>
                  <a:pt x="11309" y="9932"/>
                  <a:pt x="11261" y="9971"/>
                </a:cubicBezTo>
                <a:cubicBezTo>
                  <a:pt x="11202" y="10019"/>
                  <a:pt x="11160" y="10038"/>
                  <a:pt x="11112" y="10096"/>
                </a:cubicBezTo>
                <a:cubicBezTo>
                  <a:pt x="11080" y="10135"/>
                  <a:pt x="11027" y="10165"/>
                  <a:pt x="11088" y="10220"/>
                </a:cubicBezTo>
                <a:cubicBezTo>
                  <a:pt x="11116" y="10245"/>
                  <a:pt x="11222" y="10255"/>
                  <a:pt x="11261" y="10244"/>
                </a:cubicBezTo>
                <a:cubicBezTo>
                  <a:pt x="11336" y="10224"/>
                  <a:pt x="11403" y="10188"/>
                  <a:pt x="11460" y="10145"/>
                </a:cubicBezTo>
              </a:path>
              <a:path w="12428" h="1067">
                <a:moveTo>
                  <a:pt x="11931" y="9575"/>
                </a:moveTo>
                <a:cubicBezTo>
                  <a:pt x="11931" y="9652"/>
                  <a:pt x="11915" y="9702"/>
                  <a:pt x="11906" y="9773"/>
                </a:cubicBezTo>
                <a:cubicBezTo>
                  <a:pt x="11892" y="9877"/>
                  <a:pt x="11904" y="9971"/>
                  <a:pt x="11881" y="10071"/>
                </a:cubicBezTo>
                <a:cubicBezTo>
                  <a:pt x="11871" y="10116"/>
                  <a:pt x="11905" y="10161"/>
                  <a:pt x="11931" y="10170"/>
                </a:cubicBezTo>
              </a:path>
              <a:path w="12428" h="1067">
                <a:moveTo>
                  <a:pt x="12526" y="9599"/>
                </a:moveTo>
                <a:cubicBezTo>
                  <a:pt x="12475" y="9599"/>
                  <a:pt x="12473" y="9614"/>
                  <a:pt x="12452" y="9624"/>
                </a:cubicBezTo>
                <a:cubicBezTo>
                  <a:pt x="12393" y="9653"/>
                  <a:pt x="12399" y="9644"/>
                  <a:pt x="12353" y="9699"/>
                </a:cubicBezTo>
                <a:cubicBezTo>
                  <a:pt x="12312" y="9749"/>
                  <a:pt x="12278" y="9810"/>
                  <a:pt x="12254" y="9872"/>
                </a:cubicBezTo>
                <a:cubicBezTo>
                  <a:pt x="12217" y="9967"/>
                  <a:pt x="12233" y="10006"/>
                  <a:pt x="12254" y="10096"/>
                </a:cubicBezTo>
                <a:cubicBezTo>
                  <a:pt x="12263" y="10134"/>
                  <a:pt x="12312" y="10165"/>
                  <a:pt x="12353" y="10170"/>
                </a:cubicBezTo>
                <a:cubicBezTo>
                  <a:pt x="12429" y="10178"/>
                  <a:pt x="12422" y="10144"/>
                  <a:pt x="12477" y="10120"/>
                </a:cubicBezTo>
                <a:cubicBezTo>
                  <a:pt x="12513" y="10104"/>
                  <a:pt x="12502" y="10094"/>
                  <a:pt x="12502" y="10046"/>
                </a:cubicBezTo>
                <a:cubicBezTo>
                  <a:pt x="12447" y="10046"/>
                  <a:pt x="12420" y="10059"/>
                  <a:pt x="12378" y="10096"/>
                </a:cubicBezTo>
                <a:cubicBezTo>
                  <a:pt x="12348" y="10123"/>
                  <a:pt x="12250" y="10117"/>
                  <a:pt x="12278" y="10145"/>
                </a:cubicBezTo>
                <a:cubicBezTo>
                  <a:pt x="12286" y="10145"/>
                  <a:pt x="12295" y="10145"/>
                  <a:pt x="12303" y="10145"/>
                </a:cubicBezTo>
              </a:path>
              <a:path w="12428" h="1067">
                <a:moveTo>
                  <a:pt x="12923" y="9922"/>
                </a:moveTo>
                <a:cubicBezTo>
                  <a:pt x="12949" y="9967"/>
                  <a:pt x="12966" y="10010"/>
                  <a:pt x="12998" y="10046"/>
                </a:cubicBezTo>
                <a:cubicBezTo>
                  <a:pt x="13030" y="10083"/>
                  <a:pt x="13037" y="10118"/>
                  <a:pt x="13072" y="10145"/>
                </a:cubicBezTo>
                <a:cubicBezTo>
                  <a:pt x="13098" y="10165"/>
                  <a:pt x="13128" y="10219"/>
                  <a:pt x="13171" y="10195"/>
                </a:cubicBezTo>
                <a:cubicBezTo>
                  <a:pt x="13179" y="10187"/>
                  <a:pt x="13188" y="10178"/>
                  <a:pt x="13196" y="10170"/>
                </a:cubicBezTo>
              </a:path>
              <a:path w="12428" h="1067">
                <a:moveTo>
                  <a:pt x="13246" y="9971"/>
                </a:moveTo>
                <a:cubicBezTo>
                  <a:pt x="13221" y="9971"/>
                  <a:pt x="13196" y="9971"/>
                  <a:pt x="13171" y="9971"/>
                </a:cubicBezTo>
                <a:cubicBezTo>
                  <a:pt x="13150" y="10003"/>
                  <a:pt x="13104" y="9996"/>
                  <a:pt x="13072" y="10046"/>
                </a:cubicBezTo>
                <a:cubicBezTo>
                  <a:pt x="13040" y="10095"/>
                  <a:pt x="13015" y="10128"/>
                  <a:pt x="12973" y="10170"/>
                </a:cubicBezTo>
                <a:cubicBezTo>
                  <a:pt x="12937" y="10207"/>
                  <a:pt x="12936" y="10180"/>
                  <a:pt x="12923" y="10220"/>
                </a:cubicBezTo>
              </a:path>
              <a:path w="12428" h="1067">
                <a:moveTo>
                  <a:pt x="13618" y="9971"/>
                </a:moveTo>
                <a:cubicBezTo>
                  <a:pt x="13722" y="9971"/>
                  <a:pt x="13825" y="9976"/>
                  <a:pt x="13915" y="9947"/>
                </a:cubicBezTo>
                <a:cubicBezTo>
                  <a:pt x="13940" y="9947"/>
                  <a:pt x="13948" y="9947"/>
                  <a:pt x="13965" y="9947"/>
                </a:cubicBezTo>
              </a:path>
              <a:path w="12428" h="1067">
                <a:moveTo>
                  <a:pt x="13866" y="9773"/>
                </a:moveTo>
                <a:cubicBezTo>
                  <a:pt x="13857" y="9852"/>
                  <a:pt x="13833" y="9921"/>
                  <a:pt x="13816" y="9996"/>
                </a:cubicBezTo>
                <a:cubicBezTo>
                  <a:pt x="13805" y="10041"/>
                  <a:pt x="13755" y="10112"/>
                  <a:pt x="1381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4960" y="3411360"/>
            <a:ext cx="588960" cy="347760"/>
          </a:xfrm>
          <a:custGeom>
            <a:avLst/>
            <a:gdLst/>
            <a:ahLst/>
            <a:rect l="l" t="t" r="r" b="b"/>
            <a:pathLst>
              <a:path w="1638" h="969">
                <a:moveTo>
                  <a:pt x="14560" y="9475"/>
                </a:moveTo>
                <a:cubicBezTo>
                  <a:pt x="14560" y="9602"/>
                  <a:pt x="14551" y="9726"/>
                  <a:pt x="14536" y="9847"/>
                </a:cubicBezTo>
                <a:cubicBezTo>
                  <a:pt x="14527" y="9926"/>
                  <a:pt x="14500" y="10004"/>
                  <a:pt x="14486" y="10071"/>
                </a:cubicBezTo>
                <a:cubicBezTo>
                  <a:pt x="14471" y="10144"/>
                  <a:pt x="14493" y="10211"/>
                  <a:pt x="14511" y="10269"/>
                </a:cubicBezTo>
                <a:cubicBezTo>
                  <a:pt x="14511" y="10277"/>
                  <a:pt x="14511" y="10286"/>
                  <a:pt x="14511" y="10294"/>
                </a:cubicBezTo>
              </a:path>
              <a:path w="1638" h="969">
                <a:moveTo>
                  <a:pt x="15329" y="9674"/>
                </a:moveTo>
                <a:cubicBezTo>
                  <a:pt x="15224" y="9674"/>
                  <a:pt x="15257" y="9678"/>
                  <a:pt x="15156" y="9748"/>
                </a:cubicBezTo>
                <a:cubicBezTo>
                  <a:pt x="15096" y="9790"/>
                  <a:pt x="15026" y="9834"/>
                  <a:pt x="14982" y="9897"/>
                </a:cubicBezTo>
                <a:cubicBezTo>
                  <a:pt x="14936" y="9962"/>
                  <a:pt x="14912" y="10042"/>
                  <a:pt x="14908" y="10120"/>
                </a:cubicBezTo>
                <a:cubicBezTo>
                  <a:pt x="14903" y="10218"/>
                  <a:pt x="14912" y="10235"/>
                  <a:pt x="14982" y="10294"/>
                </a:cubicBezTo>
                <a:cubicBezTo>
                  <a:pt x="15022" y="10327"/>
                  <a:pt x="15058" y="10359"/>
                  <a:pt x="15106" y="10368"/>
                </a:cubicBezTo>
                <a:cubicBezTo>
                  <a:pt x="15169" y="10380"/>
                  <a:pt x="15182" y="10335"/>
                  <a:pt x="15230" y="10319"/>
                </a:cubicBezTo>
                <a:cubicBezTo>
                  <a:pt x="15285" y="10301"/>
                  <a:pt x="15243" y="10283"/>
                  <a:pt x="15230" y="10244"/>
                </a:cubicBezTo>
                <a:cubicBezTo>
                  <a:pt x="15214" y="10197"/>
                  <a:pt x="15160" y="10183"/>
                  <a:pt x="15106" y="10195"/>
                </a:cubicBezTo>
                <a:cubicBezTo>
                  <a:pt x="15053" y="10207"/>
                  <a:pt x="14995" y="10231"/>
                  <a:pt x="14982" y="10269"/>
                </a:cubicBezTo>
              </a:path>
              <a:path w="1638" h="969">
                <a:moveTo>
                  <a:pt x="15627" y="9798"/>
                </a:moveTo>
                <a:cubicBezTo>
                  <a:pt x="15671" y="9765"/>
                  <a:pt x="15693" y="9773"/>
                  <a:pt x="15751" y="9773"/>
                </a:cubicBezTo>
                <a:cubicBezTo>
                  <a:pt x="15854" y="9773"/>
                  <a:pt x="15936" y="9763"/>
                  <a:pt x="16024" y="9823"/>
                </a:cubicBezTo>
                <a:cubicBezTo>
                  <a:pt x="16055" y="9844"/>
                  <a:pt x="16089" y="9850"/>
                  <a:pt x="16073" y="9897"/>
                </a:cubicBezTo>
                <a:cubicBezTo>
                  <a:pt x="16053" y="9955"/>
                  <a:pt x="16020" y="10009"/>
                  <a:pt x="15974" y="10046"/>
                </a:cubicBezTo>
                <a:cubicBezTo>
                  <a:pt x="15890" y="10114"/>
                  <a:pt x="15658" y="10144"/>
                  <a:pt x="15602" y="10244"/>
                </a:cubicBezTo>
                <a:cubicBezTo>
                  <a:pt x="15584" y="10276"/>
                  <a:pt x="15601" y="10348"/>
                  <a:pt x="15627" y="10368"/>
                </a:cubicBezTo>
                <a:cubicBezTo>
                  <a:pt x="15700" y="10424"/>
                  <a:pt x="15743" y="10396"/>
                  <a:pt x="15825" y="10418"/>
                </a:cubicBezTo>
                <a:cubicBezTo>
                  <a:pt x="15903" y="10439"/>
                  <a:pt x="15964" y="10443"/>
                  <a:pt x="16049" y="10443"/>
                </a:cubicBezTo>
                <a:cubicBezTo>
                  <a:pt x="16074" y="10443"/>
                  <a:pt x="16098" y="10443"/>
                  <a:pt x="16123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11960" y="3313080"/>
            <a:ext cx="1803240" cy="642960"/>
          </a:xfrm>
          <a:custGeom>
            <a:avLst/>
            <a:gdLst/>
            <a:ahLst/>
            <a:rect l="l" t="t" r="r" b="b"/>
            <a:pathLst>
              <a:path w="5011" h="1786">
                <a:moveTo>
                  <a:pt x="17884" y="9203"/>
                </a:moveTo>
                <a:cubicBezTo>
                  <a:pt x="17880" y="9218"/>
                  <a:pt x="17844" y="9308"/>
                  <a:pt x="17835" y="9351"/>
                </a:cubicBezTo>
                <a:cubicBezTo>
                  <a:pt x="17816" y="9439"/>
                  <a:pt x="17803" y="9531"/>
                  <a:pt x="17810" y="9624"/>
                </a:cubicBezTo>
                <a:cubicBezTo>
                  <a:pt x="17815" y="9687"/>
                  <a:pt x="17819" y="9795"/>
                  <a:pt x="17859" y="9847"/>
                </a:cubicBezTo>
                <a:cubicBezTo>
                  <a:pt x="17892" y="9890"/>
                  <a:pt x="17910" y="9894"/>
                  <a:pt x="17959" y="9897"/>
                </a:cubicBezTo>
                <a:cubicBezTo>
                  <a:pt x="18038" y="9901"/>
                  <a:pt x="18069" y="9825"/>
                  <a:pt x="18107" y="9773"/>
                </a:cubicBezTo>
                <a:cubicBezTo>
                  <a:pt x="18171" y="9687"/>
                  <a:pt x="18208" y="9593"/>
                  <a:pt x="18256" y="9500"/>
                </a:cubicBezTo>
                <a:cubicBezTo>
                  <a:pt x="18289" y="9435"/>
                  <a:pt x="18317" y="9332"/>
                  <a:pt x="18355" y="9277"/>
                </a:cubicBezTo>
                <a:cubicBezTo>
                  <a:pt x="18363" y="9277"/>
                  <a:pt x="18372" y="9277"/>
                  <a:pt x="18380" y="9277"/>
                </a:cubicBezTo>
                <a:cubicBezTo>
                  <a:pt x="18364" y="9370"/>
                  <a:pt x="18354" y="9455"/>
                  <a:pt x="18331" y="9550"/>
                </a:cubicBezTo>
                <a:cubicBezTo>
                  <a:pt x="18297" y="9688"/>
                  <a:pt x="18263" y="9831"/>
                  <a:pt x="18256" y="9971"/>
                </a:cubicBezTo>
                <a:cubicBezTo>
                  <a:pt x="18249" y="10123"/>
                  <a:pt x="18272" y="10276"/>
                  <a:pt x="18281" y="10418"/>
                </a:cubicBezTo>
                <a:cubicBezTo>
                  <a:pt x="18284" y="10459"/>
                  <a:pt x="18279" y="10501"/>
                  <a:pt x="18281" y="10542"/>
                </a:cubicBezTo>
                <a:cubicBezTo>
                  <a:pt x="18281" y="10499"/>
                  <a:pt x="18283" y="10486"/>
                  <a:pt x="18281" y="10443"/>
                </a:cubicBezTo>
                <a:cubicBezTo>
                  <a:pt x="18275" y="10342"/>
                  <a:pt x="18261" y="10246"/>
                  <a:pt x="18256" y="10145"/>
                </a:cubicBezTo>
                <a:cubicBezTo>
                  <a:pt x="18246" y="9958"/>
                  <a:pt x="18240" y="9749"/>
                  <a:pt x="18306" y="9575"/>
                </a:cubicBezTo>
                <a:cubicBezTo>
                  <a:pt x="18340" y="9485"/>
                  <a:pt x="18381" y="9431"/>
                  <a:pt x="18455" y="9376"/>
                </a:cubicBezTo>
                <a:cubicBezTo>
                  <a:pt x="18547" y="9307"/>
                  <a:pt x="18649" y="9319"/>
                  <a:pt x="18752" y="9351"/>
                </a:cubicBezTo>
                <a:cubicBezTo>
                  <a:pt x="18833" y="9376"/>
                  <a:pt x="18887" y="9427"/>
                  <a:pt x="18926" y="9500"/>
                </a:cubicBezTo>
                <a:cubicBezTo>
                  <a:pt x="18962" y="9568"/>
                  <a:pt x="18964" y="9672"/>
                  <a:pt x="18951" y="9748"/>
                </a:cubicBezTo>
                <a:cubicBezTo>
                  <a:pt x="18935" y="9840"/>
                  <a:pt x="18877" y="9947"/>
                  <a:pt x="18827" y="10021"/>
                </a:cubicBezTo>
                <a:cubicBezTo>
                  <a:pt x="18772" y="10103"/>
                  <a:pt x="18691" y="10168"/>
                  <a:pt x="18628" y="10244"/>
                </a:cubicBezTo>
                <a:cubicBezTo>
                  <a:pt x="18545" y="10343"/>
                  <a:pt x="18484" y="10405"/>
                  <a:pt x="18355" y="10468"/>
                </a:cubicBezTo>
                <a:cubicBezTo>
                  <a:pt x="18295" y="10497"/>
                  <a:pt x="18272" y="10510"/>
                  <a:pt x="18231" y="10542"/>
                </a:cubicBezTo>
                <a:cubicBezTo>
                  <a:pt x="18239" y="10542"/>
                  <a:pt x="18248" y="10542"/>
                  <a:pt x="18256" y="10542"/>
                </a:cubicBezTo>
                <a:cubicBezTo>
                  <a:pt x="18324" y="10530"/>
                  <a:pt x="18389" y="10534"/>
                  <a:pt x="18455" y="10517"/>
                </a:cubicBezTo>
                <a:cubicBezTo>
                  <a:pt x="18563" y="10490"/>
                  <a:pt x="18669" y="10444"/>
                  <a:pt x="18777" y="10418"/>
                </a:cubicBezTo>
                <a:cubicBezTo>
                  <a:pt x="18873" y="10395"/>
                  <a:pt x="18956" y="10375"/>
                  <a:pt x="19050" y="10344"/>
                </a:cubicBezTo>
                <a:cubicBezTo>
                  <a:pt x="19148" y="10311"/>
                  <a:pt x="19288" y="10265"/>
                  <a:pt x="19372" y="10195"/>
                </a:cubicBezTo>
                <a:cubicBezTo>
                  <a:pt x="19435" y="10142"/>
                  <a:pt x="19471" y="10081"/>
                  <a:pt x="19496" y="10021"/>
                </a:cubicBezTo>
                <a:cubicBezTo>
                  <a:pt x="19514" y="9978"/>
                  <a:pt x="19508" y="9943"/>
                  <a:pt x="19521" y="9897"/>
                </a:cubicBezTo>
                <a:cubicBezTo>
                  <a:pt x="19466" y="9906"/>
                  <a:pt x="19479" y="9847"/>
                  <a:pt x="19397" y="9897"/>
                </a:cubicBezTo>
                <a:cubicBezTo>
                  <a:pt x="19306" y="9952"/>
                  <a:pt x="19245" y="10058"/>
                  <a:pt x="19199" y="10145"/>
                </a:cubicBezTo>
                <a:cubicBezTo>
                  <a:pt x="19157" y="10226"/>
                  <a:pt x="19103" y="10349"/>
                  <a:pt x="19124" y="10443"/>
                </a:cubicBezTo>
                <a:cubicBezTo>
                  <a:pt x="19135" y="10493"/>
                  <a:pt x="19199" y="10555"/>
                  <a:pt x="19248" y="10567"/>
                </a:cubicBezTo>
                <a:cubicBezTo>
                  <a:pt x="19322" y="10585"/>
                  <a:pt x="19432" y="10574"/>
                  <a:pt x="19496" y="10542"/>
                </a:cubicBezTo>
                <a:cubicBezTo>
                  <a:pt x="19547" y="10517"/>
                  <a:pt x="19609" y="10457"/>
                  <a:pt x="19645" y="10418"/>
                </a:cubicBezTo>
                <a:cubicBezTo>
                  <a:pt x="19705" y="10352"/>
                  <a:pt x="19720" y="10264"/>
                  <a:pt x="19769" y="10195"/>
                </a:cubicBezTo>
                <a:cubicBezTo>
                  <a:pt x="19842" y="10092"/>
                  <a:pt x="19969" y="9998"/>
                  <a:pt x="20092" y="9971"/>
                </a:cubicBezTo>
                <a:cubicBezTo>
                  <a:pt x="20157" y="9957"/>
                  <a:pt x="20285" y="9969"/>
                  <a:pt x="20340" y="9996"/>
                </a:cubicBezTo>
                <a:cubicBezTo>
                  <a:pt x="20435" y="10042"/>
                  <a:pt x="20446" y="10097"/>
                  <a:pt x="20489" y="10170"/>
                </a:cubicBezTo>
                <a:cubicBezTo>
                  <a:pt x="20511" y="10193"/>
                  <a:pt x="20519" y="10198"/>
                  <a:pt x="20513" y="10220"/>
                </a:cubicBezTo>
                <a:cubicBezTo>
                  <a:pt x="20497" y="10188"/>
                  <a:pt x="20505" y="10202"/>
                  <a:pt x="20489" y="10170"/>
                </a:cubicBezTo>
                <a:cubicBezTo>
                  <a:pt x="20469" y="10130"/>
                  <a:pt x="20446" y="10080"/>
                  <a:pt x="20414" y="10046"/>
                </a:cubicBezTo>
                <a:cubicBezTo>
                  <a:pt x="20357" y="9987"/>
                  <a:pt x="20322" y="9973"/>
                  <a:pt x="20241" y="9971"/>
                </a:cubicBezTo>
                <a:cubicBezTo>
                  <a:pt x="20182" y="9969"/>
                  <a:pt x="20066" y="10012"/>
                  <a:pt x="20017" y="10046"/>
                </a:cubicBezTo>
                <a:cubicBezTo>
                  <a:pt x="19952" y="10091"/>
                  <a:pt x="19913" y="10159"/>
                  <a:pt x="19869" y="10220"/>
                </a:cubicBezTo>
                <a:cubicBezTo>
                  <a:pt x="19823" y="10285"/>
                  <a:pt x="19769" y="10390"/>
                  <a:pt x="19769" y="10468"/>
                </a:cubicBezTo>
                <a:cubicBezTo>
                  <a:pt x="19769" y="10521"/>
                  <a:pt x="19783" y="10604"/>
                  <a:pt x="19819" y="10641"/>
                </a:cubicBezTo>
                <a:cubicBezTo>
                  <a:pt x="19863" y="10687"/>
                  <a:pt x="19935" y="10667"/>
                  <a:pt x="19968" y="10666"/>
                </a:cubicBezTo>
                <a:cubicBezTo>
                  <a:pt x="20079" y="10663"/>
                  <a:pt x="20155" y="10565"/>
                  <a:pt x="20216" y="10492"/>
                </a:cubicBezTo>
                <a:cubicBezTo>
                  <a:pt x="20282" y="10414"/>
                  <a:pt x="20330" y="10326"/>
                  <a:pt x="20389" y="10244"/>
                </a:cubicBezTo>
                <a:cubicBezTo>
                  <a:pt x="20418" y="10203"/>
                  <a:pt x="20430" y="10207"/>
                  <a:pt x="20464" y="10170"/>
                </a:cubicBezTo>
                <a:cubicBezTo>
                  <a:pt x="20445" y="10235"/>
                  <a:pt x="20428" y="10281"/>
                  <a:pt x="20414" y="10344"/>
                </a:cubicBezTo>
                <a:cubicBezTo>
                  <a:pt x="20398" y="10417"/>
                  <a:pt x="20363" y="10490"/>
                  <a:pt x="20365" y="10567"/>
                </a:cubicBezTo>
                <a:cubicBezTo>
                  <a:pt x="20366" y="10629"/>
                  <a:pt x="20375" y="10712"/>
                  <a:pt x="20414" y="10765"/>
                </a:cubicBezTo>
                <a:cubicBezTo>
                  <a:pt x="20436" y="10796"/>
                  <a:pt x="20504" y="10858"/>
                  <a:pt x="20538" y="10864"/>
                </a:cubicBezTo>
                <a:cubicBezTo>
                  <a:pt x="20638" y="10882"/>
                  <a:pt x="20697" y="10835"/>
                  <a:pt x="20762" y="10765"/>
                </a:cubicBezTo>
                <a:cubicBezTo>
                  <a:pt x="20832" y="10690"/>
                  <a:pt x="20868" y="10586"/>
                  <a:pt x="20910" y="10492"/>
                </a:cubicBezTo>
                <a:cubicBezTo>
                  <a:pt x="20957" y="10385"/>
                  <a:pt x="20997" y="10227"/>
                  <a:pt x="21084" y="10145"/>
                </a:cubicBezTo>
                <a:cubicBezTo>
                  <a:pt x="21120" y="10112"/>
                  <a:pt x="21131" y="10090"/>
                  <a:pt x="21183" y="10096"/>
                </a:cubicBezTo>
                <a:cubicBezTo>
                  <a:pt x="21225" y="10101"/>
                  <a:pt x="21254" y="10136"/>
                  <a:pt x="21282" y="10170"/>
                </a:cubicBezTo>
                <a:cubicBezTo>
                  <a:pt x="21310" y="10204"/>
                  <a:pt x="21318" y="10280"/>
                  <a:pt x="21332" y="10319"/>
                </a:cubicBezTo>
                <a:cubicBezTo>
                  <a:pt x="21356" y="10386"/>
                  <a:pt x="21363" y="10443"/>
                  <a:pt x="21357" y="10517"/>
                </a:cubicBezTo>
                <a:cubicBezTo>
                  <a:pt x="21352" y="10586"/>
                  <a:pt x="21352" y="10651"/>
                  <a:pt x="21332" y="10716"/>
                </a:cubicBezTo>
                <a:cubicBezTo>
                  <a:pt x="21317" y="10766"/>
                  <a:pt x="21273" y="10837"/>
                  <a:pt x="21258" y="10889"/>
                </a:cubicBezTo>
                <a:cubicBezTo>
                  <a:pt x="21258" y="10897"/>
                  <a:pt x="21258" y="10906"/>
                  <a:pt x="21258" y="10914"/>
                </a:cubicBezTo>
                <a:cubicBezTo>
                  <a:pt x="21264" y="10797"/>
                  <a:pt x="21270" y="10701"/>
                  <a:pt x="21307" y="10592"/>
                </a:cubicBezTo>
                <a:cubicBezTo>
                  <a:pt x="21341" y="10492"/>
                  <a:pt x="21398" y="10406"/>
                  <a:pt x="21456" y="10319"/>
                </a:cubicBezTo>
                <a:cubicBezTo>
                  <a:pt x="21491" y="10267"/>
                  <a:pt x="21558" y="10158"/>
                  <a:pt x="21605" y="10120"/>
                </a:cubicBezTo>
                <a:cubicBezTo>
                  <a:pt x="21638" y="10093"/>
                  <a:pt x="21693" y="10062"/>
                  <a:pt x="21729" y="10046"/>
                </a:cubicBezTo>
                <a:cubicBezTo>
                  <a:pt x="21754" y="10046"/>
                  <a:pt x="21762" y="10046"/>
                  <a:pt x="21779" y="10046"/>
                </a:cubicBezTo>
                <a:cubicBezTo>
                  <a:pt x="21786" y="10095"/>
                  <a:pt x="21800" y="10148"/>
                  <a:pt x="21803" y="10195"/>
                </a:cubicBezTo>
                <a:cubicBezTo>
                  <a:pt x="21814" y="10356"/>
                  <a:pt x="21798" y="10512"/>
                  <a:pt x="21828" y="10666"/>
                </a:cubicBezTo>
                <a:cubicBezTo>
                  <a:pt x="21844" y="10750"/>
                  <a:pt x="21844" y="10819"/>
                  <a:pt x="21903" y="10889"/>
                </a:cubicBezTo>
                <a:cubicBezTo>
                  <a:pt x="21936" y="10928"/>
                  <a:pt x="21998" y="10983"/>
                  <a:pt x="22051" y="10988"/>
                </a:cubicBezTo>
                <a:cubicBezTo>
                  <a:pt x="22107" y="10993"/>
                  <a:pt x="22229" y="10986"/>
                  <a:pt x="22275" y="10964"/>
                </a:cubicBezTo>
                <a:cubicBezTo>
                  <a:pt x="22378" y="10915"/>
                  <a:pt x="22448" y="10795"/>
                  <a:pt x="22523" y="10716"/>
                </a:cubicBezTo>
                <a:cubicBezTo>
                  <a:pt x="22660" y="10571"/>
                  <a:pt x="22728" y="10510"/>
                  <a:pt x="22820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040" y="3857760"/>
            <a:ext cx="2563920" cy="536400"/>
          </a:xfrm>
          <a:custGeom>
            <a:avLst/>
            <a:gdLst/>
            <a:ahLst/>
            <a:rect l="l" t="t" r="r" b="b"/>
            <a:pathLst>
              <a:path w="7120" h="1489">
                <a:moveTo>
                  <a:pt x="1240" y="10889"/>
                </a:moveTo>
                <a:cubicBezTo>
                  <a:pt x="1393" y="10889"/>
                  <a:pt x="1542" y="10888"/>
                  <a:pt x="1687" y="10914"/>
                </a:cubicBezTo>
                <a:cubicBezTo>
                  <a:pt x="1743" y="10924"/>
                  <a:pt x="1921" y="10932"/>
                  <a:pt x="1935" y="10889"/>
                </a:cubicBezTo>
              </a:path>
              <a:path w="7120" h="1489">
                <a:moveTo>
                  <a:pt x="1215" y="10864"/>
                </a:moveTo>
                <a:cubicBezTo>
                  <a:pt x="1173" y="10907"/>
                  <a:pt x="1144" y="10946"/>
                  <a:pt x="1116" y="10988"/>
                </a:cubicBezTo>
                <a:cubicBezTo>
                  <a:pt x="1097" y="11016"/>
                  <a:pt x="1080" y="11064"/>
                  <a:pt x="1116" y="11088"/>
                </a:cubicBezTo>
                <a:cubicBezTo>
                  <a:pt x="1154" y="11113"/>
                  <a:pt x="1216" y="11149"/>
                  <a:pt x="1265" y="11162"/>
                </a:cubicBezTo>
                <a:cubicBezTo>
                  <a:pt x="1328" y="11179"/>
                  <a:pt x="1399" y="11202"/>
                  <a:pt x="1463" y="11212"/>
                </a:cubicBezTo>
                <a:cubicBezTo>
                  <a:pt x="1522" y="11221"/>
                  <a:pt x="1591" y="11224"/>
                  <a:pt x="1637" y="11261"/>
                </a:cubicBezTo>
                <a:cubicBezTo>
                  <a:pt x="1686" y="11300"/>
                  <a:pt x="1707" y="11325"/>
                  <a:pt x="1712" y="11385"/>
                </a:cubicBezTo>
                <a:cubicBezTo>
                  <a:pt x="1715" y="11420"/>
                  <a:pt x="1691" y="11489"/>
                  <a:pt x="1662" y="11509"/>
                </a:cubicBezTo>
                <a:cubicBezTo>
                  <a:pt x="1588" y="11559"/>
                  <a:pt x="1573" y="11581"/>
                  <a:pt x="1488" y="11609"/>
                </a:cubicBezTo>
                <a:cubicBezTo>
                  <a:pt x="1410" y="11634"/>
                  <a:pt x="1347" y="11678"/>
                  <a:pt x="1265" y="11683"/>
                </a:cubicBezTo>
                <a:cubicBezTo>
                  <a:pt x="1207" y="11686"/>
                  <a:pt x="1149" y="11683"/>
                  <a:pt x="1091" y="11683"/>
                </a:cubicBezTo>
              </a:path>
              <a:path w="7120" h="1489">
                <a:moveTo>
                  <a:pt x="2456" y="10889"/>
                </a:moveTo>
                <a:cubicBezTo>
                  <a:pt x="2499" y="10889"/>
                  <a:pt x="2432" y="10891"/>
                  <a:pt x="2406" y="10914"/>
                </a:cubicBezTo>
                <a:cubicBezTo>
                  <a:pt x="2368" y="10948"/>
                  <a:pt x="2341" y="11009"/>
                  <a:pt x="2307" y="11038"/>
                </a:cubicBezTo>
                <a:cubicBezTo>
                  <a:pt x="2238" y="11097"/>
                  <a:pt x="2217" y="11146"/>
                  <a:pt x="2183" y="11237"/>
                </a:cubicBezTo>
                <a:cubicBezTo>
                  <a:pt x="2147" y="11334"/>
                  <a:pt x="2158" y="11432"/>
                  <a:pt x="2158" y="11534"/>
                </a:cubicBezTo>
                <a:cubicBezTo>
                  <a:pt x="2158" y="11657"/>
                  <a:pt x="2170" y="11720"/>
                  <a:pt x="2257" y="11807"/>
                </a:cubicBezTo>
                <a:cubicBezTo>
                  <a:pt x="2312" y="11862"/>
                  <a:pt x="2358" y="11857"/>
                  <a:pt x="2431" y="11857"/>
                </a:cubicBezTo>
                <a:cubicBezTo>
                  <a:pt x="2447" y="11857"/>
                  <a:pt x="2464" y="11857"/>
                  <a:pt x="2480" y="11857"/>
                </a:cubicBezTo>
              </a:path>
              <a:path w="7120" h="1489">
                <a:moveTo>
                  <a:pt x="2877" y="11187"/>
                </a:moveTo>
                <a:lnTo>
                  <a:pt x="2877" y="11187"/>
                </a:lnTo>
              </a:path>
              <a:path w="7120" h="1489">
                <a:moveTo>
                  <a:pt x="2877" y="11187"/>
                </a:moveTo>
                <a:cubicBezTo>
                  <a:pt x="2894" y="11195"/>
                  <a:pt x="2910" y="11204"/>
                  <a:pt x="2927" y="11212"/>
                </a:cubicBezTo>
              </a:path>
              <a:path w="7120" h="1489">
                <a:moveTo>
                  <a:pt x="2927" y="11212"/>
                </a:moveTo>
                <a:cubicBezTo>
                  <a:pt x="2935" y="11212"/>
                  <a:pt x="2944" y="11212"/>
                  <a:pt x="2952" y="11212"/>
                </a:cubicBezTo>
                <a:cubicBezTo>
                  <a:pt x="2939" y="11251"/>
                  <a:pt x="2940" y="11222"/>
                  <a:pt x="2927" y="11261"/>
                </a:cubicBezTo>
                <a:cubicBezTo>
                  <a:pt x="2965" y="11274"/>
                  <a:pt x="2948" y="11286"/>
                  <a:pt x="3001" y="11286"/>
                </a:cubicBezTo>
                <a:cubicBezTo>
                  <a:pt x="3009" y="11309"/>
                  <a:pt x="3033" y="11335"/>
                  <a:pt x="3051" y="11361"/>
                </a:cubicBezTo>
                <a:cubicBezTo>
                  <a:pt x="3074" y="11383"/>
                  <a:pt x="3082" y="11388"/>
                  <a:pt x="3076" y="11410"/>
                </a:cubicBezTo>
                <a:cubicBezTo>
                  <a:pt x="3111" y="11422"/>
                  <a:pt x="3101" y="11417"/>
                  <a:pt x="3101" y="11460"/>
                </a:cubicBezTo>
                <a:cubicBezTo>
                  <a:pt x="3132" y="11471"/>
                  <a:pt x="3140" y="11495"/>
                  <a:pt x="3150" y="11534"/>
                </a:cubicBezTo>
                <a:cubicBezTo>
                  <a:pt x="3168" y="11540"/>
                  <a:pt x="3211" y="11578"/>
                  <a:pt x="3225" y="11609"/>
                </a:cubicBezTo>
                <a:cubicBezTo>
                  <a:pt x="3225" y="11617"/>
                  <a:pt x="3225" y="11625"/>
                  <a:pt x="3225" y="11633"/>
                </a:cubicBezTo>
                <a:cubicBezTo>
                  <a:pt x="3264" y="11646"/>
                  <a:pt x="3235" y="11645"/>
                  <a:pt x="3274" y="11658"/>
                </a:cubicBezTo>
                <a:cubicBezTo>
                  <a:pt x="3285" y="11703"/>
                  <a:pt x="3304" y="11722"/>
                  <a:pt x="3349" y="11733"/>
                </a:cubicBezTo>
              </a:path>
              <a:path w="7120" h="1489">
                <a:moveTo>
                  <a:pt x="3373" y="11112"/>
                </a:moveTo>
                <a:cubicBezTo>
                  <a:pt x="3362" y="11156"/>
                  <a:pt x="3333" y="11178"/>
                  <a:pt x="3299" y="11212"/>
                </a:cubicBezTo>
                <a:cubicBezTo>
                  <a:pt x="3245" y="11266"/>
                  <a:pt x="3205" y="11341"/>
                  <a:pt x="3150" y="11385"/>
                </a:cubicBezTo>
                <a:cubicBezTo>
                  <a:pt x="3096" y="11428"/>
                  <a:pt x="3058" y="11466"/>
                  <a:pt x="3001" y="11509"/>
                </a:cubicBezTo>
                <a:cubicBezTo>
                  <a:pt x="2974" y="11529"/>
                  <a:pt x="2951" y="11560"/>
                  <a:pt x="2927" y="11584"/>
                </a:cubicBezTo>
              </a:path>
              <a:path w="7120" h="1489">
                <a:moveTo>
                  <a:pt x="3597" y="10840"/>
                </a:moveTo>
                <a:cubicBezTo>
                  <a:pt x="3666" y="10840"/>
                  <a:pt x="3713" y="10845"/>
                  <a:pt x="3770" y="10864"/>
                </a:cubicBezTo>
                <a:cubicBezTo>
                  <a:pt x="3795" y="10864"/>
                  <a:pt x="3803" y="10864"/>
                  <a:pt x="3795" y="10889"/>
                </a:cubicBezTo>
                <a:cubicBezTo>
                  <a:pt x="3783" y="10926"/>
                  <a:pt x="3773" y="10918"/>
                  <a:pt x="3746" y="10939"/>
                </a:cubicBezTo>
                <a:cubicBezTo>
                  <a:pt x="3730" y="10951"/>
                  <a:pt x="3649" y="11008"/>
                  <a:pt x="3646" y="11013"/>
                </a:cubicBezTo>
                <a:cubicBezTo>
                  <a:pt x="3633" y="11032"/>
                  <a:pt x="3610" y="11082"/>
                  <a:pt x="3597" y="11088"/>
                </a:cubicBezTo>
                <a:cubicBezTo>
                  <a:pt x="3552" y="11110"/>
                  <a:pt x="3547" y="11104"/>
                  <a:pt x="3547" y="11162"/>
                </a:cubicBezTo>
                <a:cubicBezTo>
                  <a:pt x="3638" y="11162"/>
                  <a:pt x="3710" y="11158"/>
                  <a:pt x="3795" y="11137"/>
                </a:cubicBezTo>
                <a:cubicBezTo>
                  <a:pt x="3849" y="11123"/>
                  <a:pt x="3875" y="11152"/>
                  <a:pt x="3894" y="11162"/>
                </a:cubicBezTo>
                <a:cubicBezTo>
                  <a:pt x="3902" y="11162"/>
                  <a:pt x="3911" y="11162"/>
                  <a:pt x="3919" y="11162"/>
                </a:cubicBezTo>
              </a:path>
              <a:path w="7120" h="1489">
                <a:moveTo>
                  <a:pt x="4192" y="11336"/>
                </a:moveTo>
                <a:cubicBezTo>
                  <a:pt x="4230" y="11307"/>
                  <a:pt x="4243" y="11311"/>
                  <a:pt x="4291" y="11311"/>
                </a:cubicBezTo>
                <a:cubicBezTo>
                  <a:pt x="4346" y="11311"/>
                  <a:pt x="4362" y="11299"/>
                  <a:pt x="4415" y="11286"/>
                </a:cubicBezTo>
                <a:cubicBezTo>
                  <a:pt x="4474" y="11271"/>
                  <a:pt x="4520" y="11302"/>
                  <a:pt x="4564" y="11311"/>
                </a:cubicBezTo>
                <a:cubicBezTo>
                  <a:pt x="4627" y="11325"/>
                  <a:pt x="4642" y="11296"/>
                  <a:pt x="4688" y="11286"/>
                </a:cubicBezTo>
                <a:cubicBezTo>
                  <a:pt x="4705" y="11286"/>
                  <a:pt x="4721" y="11286"/>
                  <a:pt x="4738" y="11286"/>
                </a:cubicBezTo>
              </a:path>
              <a:path w="7120" h="1489">
                <a:moveTo>
                  <a:pt x="5432" y="10914"/>
                </a:moveTo>
                <a:cubicBezTo>
                  <a:pt x="5386" y="10929"/>
                  <a:pt x="5429" y="10946"/>
                  <a:pt x="5383" y="10914"/>
                </a:cubicBezTo>
              </a:path>
              <a:path w="7120" h="1489">
                <a:moveTo>
                  <a:pt x="5507" y="10889"/>
                </a:moveTo>
                <a:cubicBezTo>
                  <a:pt x="5507" y="10858"/>
                  <a:pt x="5509" y="10889"/>
                  <a:pt x="5457" y="10889"/>
                </a:cubicBezTo>
                <a:cubicBezTo>
                  <a:pt x="5406" y="10889"/>
                  <a:pt x="5399" y="10900"/>
                  <a:pt x="5358" y="10914"/>
                </a:cubicBezTo>
                <a:cubicBezTo>
                  <a:pt x="5322" y="10926"/>
                  <a:pt x="5299" y="10931"/>
                  <a:pt x="5283" y="10939"/>
                </a:cubicBezTo>
                <a:cubicBezTo>
                  <a:pt x="5262" y="10950"/>
                  <a:pt x="5215" y="10976"/>
                  <a:pt x="5209" y="10988"/>
                </a:cubicBezTo>
                <a:cubicBezTo>
                  <a:pt x="5196" y="11013"/>
                  <a:pt x="5186" y="11044"/>
                  <a:pt x="5184" y="11063"/>
                </a:cubicBezTo>
                <a:cubicBezTo>
                  <a:pt x="5178" y="11113"/>
                  <a:pt x="5159" y="11126"/>
                  <a:pt x="5159" y="11187"/>
                </a:cubicBezTo>
                <a:cubicBezTo>
                  <a:pt x="5159" y="11238"/>
                  <a:pt x="5135" y="11281"/>
                  <a:pt x="5135" y="11336"/>
                </a:cubicBezTo>
                <a:cubicBezTo>
                  <a:pt x="5135" y="11394"/>
                  <a:pt x="5159" y="11423"/>
                  <a:pt x="5159" y="11485"/>
                </a:cubicBezTo>
                <a:cubicBezTo>
                  <a:pt x="5159" y="11545"/>
                  <a:pt x="5189" y="11551"/>
                  <a:pt x="5209" y="11609"/>
                </a:cubicBezTo>
                <a:cubicBezTo>
                  <a:pt x="5222" y="11646"/>
                  <a:pt x="5249" y="11635"/>
                  <a:pt x="5283" y="11658"/>
                </a:cubicBezTo>
                <a:cubicBezTo>
                  <a:pt x="5348" y="11702"/>
                  <a:pt x="5363" y="11675"/>
                  <a:pt x="5432" y="11658"/>
                </a:cubicBezTo>
                <a:cubicBezTo>
                  <a:pt x="5473" y="11648"/>
                  <a:pt x="5535" y="11631"/>
                  <a:pt x="5556" y="11584"/>
                </a:cubicBezTo>
                <a:cubicBezTo>
                  <a:pt x="5569" y="11554"/>
                  <a:pt x="5592" y="11550"/>
                  <a:pt x="5606" y="11509"/>
                </a:cubicBezTo>
                <a:cubicBezTo>
                  <a:pt x="5620" y="11467"/>
                  <a:pt x="5535" y="11419"/>
                  <a:pt x="5507" y="11410"/>
                </a:cubicBezTo>
                <a:cubicBezTo>
                  <a:pt x="5472" y="11398"/>
                  <a:pt x="5386" y="11421"/>
                  <a:pt x="5358" y="11435"/>
                </a:cubicBezTo>
                <a:cubicBezTo>
                  <a:pt x="5323" y="11453"/>
                  <a:pt x="5295" y="11493"/>
                  <a:pt x="5259" y="11509"/>
                </a:cubicBezTo>
                <a:cubicBezTo>
                  <a:pt x="5222" y="11525"/>
                  <a:pt x="5220" y="11515"/>
                  <a:pt x="5209" y="11559"/>
                </a:cubicBezTo>
              </a:path>
              <a:path w="7120" h="1489">
                <a:moveTo>
                  <a:pt x="5978" y="11212"/>
                </a:moveTo>
                <a:cubicBezTo>
                  <a:pt x="5988" y="11251"/>
                  <a:pt x="6016" y="11274"/>
                  <a:pt x="6028" y="11311"/>
                </a:cubicBezTo>
                <a:cubicBezTo>
                  <a:pt x="6044" y="11358"/>
                  <a:pt x="6048" y="11416"/>
                  <a:pt x="6077" y="11460"/>
                </a:cubicBezTo>
                <a:cubicBezTo>
                  <a:pt x="6103" y="11499"/>
                  <a:pt x="6130" y="11550"/>
                  <a:pt x="6152" y="11584"/>
                </a:cubicBezTo>
                <a:cubicBezTo>
                  <a:pt x="6179" y="11626"/>
                  <a:pt x="6214" y="11635"/>
                  <a:pt x="6226" y="11683"/>
                </a:cubicBezTo>
                <a:cubicBezTo>
                  <a:pt x="6266" y="11696"/>
                  <a:pt x="6236" y="11695"/>
                  <a:pt x="6276" y="11708"/>
                </a:cubicBezTo>
                <a:cubicBezTo>
                  <a:pt x="6276" y="11673"/>
                  <a:pt x="6280" y="11655"/>
                  <a:pt x="6300" y="11633"/>
                </a:cubicBezTo>
              </a:path>
              <a:path w="7120" h="1489">
                <a:moveTo>
                  <a:pt x="6400" y="11212"/>
                </a:moveTo>
                <a:cubicBezTo>
                  <a:pt x="6392" y="11212"/>
                  <a:pt x="6383" y="11212"/>
                  <a:pt x="6375" y="11212"/>
                </a:cubicBezTo>
                <a:cubicBezTo>
                  <a:pt x="6364" y="11244"/>
                  <a:pt x="6341" y="11251"/>
                  <a:pt x="6300" y="11261"/>
                </a:cubicBezTo>
                <a:cubicBezTo>
                  <a:pt x="6280" y="11302"/>
                  <a:pt x="6231" y="11336"/>
                  <a:pt x="6201" y="11385"/>
                </a:cubicBezTo>
                <a:cubicBezTo>
                  <a:pt x="6146" y="11476"/>
                  <a:pt x="6076" y="11555"/>
                  <a:pt x="6003" y="11633"/>
                </a:cubicBezTo>
                <a:cubicBezTo>
                  <a:pt x="5969" y="11670"/>
                  <a:pt x="5956" y="11696"/>
                  <a:pt x="5928" y="11733"/>
                </a:cubicBezTo>
              </a:path>
              <a:path w="7120" h="1489">
                <a:moveTo>
                  <a:pt x="6772" y="11410"/>
                </a:moveTo>
                <a:cubicBezTo>
                  <a:pt x="6817" y="11410"/>
                  <a:pt x="6831" y="11431"/>
                  <a:pt x="6871" y="11435"/>
                </a:cubicBezTo>
                <a:cubicBezTo>
                  <a:pt x="6925" y="11441"/>
                  <a:pt x="6949" y="11445"/>
                  <a:pt x="6995" y="11460"/>
                </a:cubicBezTo>
                <a:cubicBezTo>
                  <a:pt x="7038" y="11474"/>
                  <a:pt x="7057" y="11439"/>
                  <a:pt x="7094" y="11435"/>
                </a:cubicBezTo>
                <a:cubicBezTo>
                  <a:pt x="7131" y="11431"/>
                  <a:pt x="7121" y="11397"/>
                  <a:pt x="7169" y="11385"/>
                </a:cubicBezTo>
              </a:path>
              <a:path w="7120" h="1489">
                <a:moveTo>
                  <a:pt x="7045" y="11237"/>
                </a:moveTo>
                <a:cubicBezTo>
                  <a:pt x="7045" y="11303"/>
                  <a:pt x="7024" y="11346"/>
                  <a:pt x="7020" y="11410"/>
                </a:cubicBezTo>
                <a:cubicBezTo>
                  <a:pt x="7017" y="11466"/>
                  <a:pt x="7012" y="11557"/>
                  <a:pt x="6995" y="11609"/>
                </a:cubicBezTo>
                <a:cubicBezTo>
                  <a:pt x="6974" y="11675"/>
                  <a:pt x="6959" y="11658"/>
                  <a:pt x="7020" y="11658"/>
                </a:cubicBezTo>
              </a:path>
              <a:path w="7120" h="1489">
                <a:moveTo>
                  <a:pt x="7813" y="10964"/>
                </a:moveTo>
                <a:cubicBezTo>
                  <a:pt x="7805" y="10962"/>
                  <a:pt x="7716" y="10942"/>
                  <a:pt x="7714" y="10939"/>
                </a:cubicBezTo>
                <a:cubicBezTo>
                  <a:pt x="7703" y="10926"/>
                  <a:pt x="7680" y="10892"/>
                  <a:pt x="7640" y="10914"/>
                </a:cubicBezTo>
                <a:cubicBezTo>
                  <a:pt x="7595" y="10939"/>
                  <a:pt x="7532" y="11016"/>
                  <a:pt x="7516" y="11063"/>
                </a:cubicBezTo>
                <a:cubicBezTo>
                  <a:pt x="7504" y="11100"/>
                  <a:pt x="7491" y="11118"/>
                  <a:pt x="7491" y="11162"/>
                </a:cubicBezTo>
                <a:cubicBezTo>
                  <a:pt x="7491" y="11189"/>
                  <a:pt x="7516" y="11209"/>
                  <a:pt x="7541" y="11212"/>
                </a:cubicBezTo>
                <a:cubicBezTo>
                  <a:pt x="7591" y="11218"/>
                  <a:pt x="7596" y="11213"/>
                  <a:pt x="7615" y="11187"/>
                </a:cubicBezTo>
                <a:cubicBezTo>
                  <a:pt x="7640" y="11153"/>
                  <a:pt x="7669" y="11118"/>
                  <a:pt x="7689" y="11088"/>
                </a:cubicBezTo>
                <a:cubicBezTo>
                  <a:pt x="7715" y="11049"/>
                  <a:pt x="7741" y="10997"/>
                  <a:pt x="7764" y="10964"/>
                </a:cubicBezTo>
                <a:cubicBezTo>
                  <a:pt x="7789" y="10939"/>
                  <a:pt x="7797" y="10931"/>
                  <a:pt x="7813" y="10914"/>
                </a:cubicBezTo>
                <a:cubicBezTo>
                  <a:pt x="7813" y="10967"/>
                  <a:pt x="7813" y="10987"/>
                  <a:pt x="7789" y="11038"/>
                </a:cubicBezTo>
                <a:cubicBezTo>
                  <a:pt x="7752" y="11118"/>
                  <a:pt x="7758" y="11202"/>
                  <a:pt x="7739" y="11286"/>
                </a:cubicBezTo>
                <a:cubicBezTo>
                  <a:pt x="7716" y="11389"/>
                  <a:pt x="7714" y="11477"/>
                  <a:pt x="7714" y="11584"/>
                </a:cubicBezTo>
                <a:cubicBezTo>
                  <a:pt x="7714" y="11667"/>
                  <a:pt x="7714" y="11749"/>
                  <a:pt x="7714" y="11832"/>
                </a:cubicBezTo>
              </a:path>
              <a:path w="7120" h="1489">
                <a:moveTo>
                  <a:pt x="8086" y="10716"/>
                </a:moveTo>
                <a:cubicBezTo>
                  <a:pt x="8105" y="10748"/>
                  <a:pt x="8096" y="10747"/>
                  <a:pt x="8111" y="10790"/>
                </a:cubicBezTo>
                <a:cubicBezTo>
                  <a:pt x="8124" y="10827"/>
                  <a:pt x="8154" y="10878"/>
                  <a:pt x="8161" y="10914"/>
                </a:cubicBezTo>
                <a:cubicBezTo>
                  <a:pt x="8180" y="11008"/>
                  <a:pt x="8197" y="11117"/>
                  <a:pt x="8210" y="11212"/>
                </a:cubicBezTo>
                <a:cubicBezTo>
                  <a:pt x="8227" y="11338"/>
                  <a:pt x="8223" y="11516"/>
                  <a:pt x="8186" y="11633"/>
                </a:cubicBezTo>
                <a:cubicBezTo>
                  <a:pt x="8143" y="11770"/>
                  <a:pt x="8047" y="11916"/>
                  <a:pt x="7962" y="12030"/>
                </a:cubicBezTo>
                <a:cubicBezTo>
                  <a:pt x="7914" y="12094"/>
                  <a:pt x="7850" y="12160"/>
                  <a:pt x="7789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3160" y="4456080"/>
            <a:ext cx="2224080" cy="330120"/>
          </a:xfrm>
          <a:custGeom>
            <a:avLst/>
            <a:gdLst/>
            <a:ahLst/>
            <a:rect l="l" t="t" r="r" b="b"/>
            <a:pathLst>
              <a:path w="6178" h="918">
                <a:moveTo>
                  <a:pt x="2332" y="12502"/>
                </a:moveTo>
                <a:cubicBezTo>
                  <a:pt x="2340" y="12502"/>
                  <a:pt x="2348" y="12502"/>
                  <a:pt x="2356" y="12502"/>
                </a:cubicBezTo>
                <a:cubicBezTo>
                  <a:pt x="2369" y="12538"/>
                  <a:pt x="2387" y="12526"/>
                  <a:pt x="2431" y="12526"/>
                </a:cubicBezTo>
                <a:cubicBezTo>
                  <a:pt x="2496" y="12526"/>
                  <a:pt x="2541" y="12505"/>
                  <a:pt x="2604" y="12502"/>
                </a:cubicBezTo>
                <a:cubicBezTo>
                  <a:pt x="2668" y="12499"/>
                  <a:pt x="2712" y="12477"/>
                  <a:pt x="2778" y="12477"/>
                </a:cubicBezTo>
                <a:cubicBezTo>
                  <a:pt x="2810" y="12477"/>
                  <a:pt x="2823" y="12460"/>
                  <a:pt x="2853" y="12452"/>
                </a:cubicBezTo>
              </a:path>
              <a:path w="6178" h="918">
                <a:moveTo>
                  <a:pt x="2456" y="12452"/>
                </a:moveTo>
                <a:cubicBezTo>
                  <a:pt x="2403" y="12489"/>
                  <a:pt x="2351" y="12517"/>
                  <a:pt x="2332" y="12576"/>
                </a:cubicBezTo>
                <a:cubicBezTo>
                  <a:pt x="2323" y="12605"/>
                  <a:pt x="2300" y="12653"/>
                  <a:pt x="2332" y="12675"/>
                </a:cubicBezTo>
                <a:cubicBezTo>
                  <a:pt x="2371" y="12702"/>
                  <a:pt x="2431" y="12702"/>
                  <a:pt x="2480" y="12725"/>
                </a:cubicBezTo>
                <a:cubicBezTo>
                  <a:pt x="2523" y="12745"/>
                  <a:pt x="2629" y="12792"/>
                  <a:pt x="2654" y="12849"/>
                </a:cubicBezTo>
                <a:cubicBezTo>
                  <a:pt x="2671" y="12888"/>
                  <a:pt x="2633" y="12929"/>
                  <a:pt x="2604" y="12948"/>
                </a:cubicBezTo>
                <a:cubicBezTo>
                  <a:pt x="2543" y="12988"/>
                  <a:pt x="2510" y="13054"/>
                  <a:pt x="2431" y="13072"/>
                </a:cubicBezTo>
                <a:cubicBezTo>
                  <a:pt x="2370" y="13086"/>
                  <a:pt x="2311" y="13106"/>
                  <a:pt x="2257" y="13122"/>
                </a:cubicBezTo>
                <a:cubicBezTo>
                  <a:pt x="2232" y="13122"/>
                  <a:pt x="2224" y="13122"/>
                  <a:pt x="2232" y="13097"/>
                </a:cubicBezTo>
              </a:path>
              <a:path w="6178" h="918">
                <a:moveTo>
                  <a:pt x="3076" y="12799"/>
                </a:moveTo>
                <a:cubicBezTo>
                  <a:pt x="3076" y="12807"/>
                  <a:pt x="3076" y="12816"/>
                  <a:pt x="3076" y="12824"/>
                </a:cubicBezTo>
                <a:cubicBezTo>
                  <a:pt x="3129" y="12842"/>
                  <a:pt x="3078" y="12855"/>
                  <a:pt x="3101" y="12898"/>
                </a:cubicBezTo>
                <a:cubicBezTo>
                  <a:pt x="3123" y="12939"/>
                  <a:pt x="3137" y="12997"/>
                  <a:pt x="3150" y="13047"/>
                </a:cubicBezTo>
                <a:cubicBezTo>
                  <a:pt x="3161" y="13089"/>
                  <a:pt x="3196" y="13138"/>
                  <a:pt x="3225" y="13171"/>
                </a:cubicBezTo>
                <a:cubicBezTo>
                  <a:pt x="3247" y="13194"/>
                  <a:pt x="3252" y="13202"/>
                  <a:pt x="3274" y="13196"/>
                </a:cubicBezTo>
              </a:path>
              <a:path w="6178" h="918">
                <a:moveTo>
                  <a:pt x="3398" y="12874"/>
                </a:moveTo>
                <a:cubicBezTo>
                  <a:pt x="3346" y="12903"/>
                  <a:pt x="3293" y="12932"/>
                  <a:pt x="3249" y="12973"/>
                </a:cubicBezTo>
                <a:cubicBezTo>
                  <a:pt x="3192" y="13026"/>
                  <a:pt x="3100" y="13070"/>
                  <a:pt x="3051" y="13122"/>
                </a:cubicBezTo>
                <a:cubicBezTo>
                  <a:pt x="3016" y="13160"/>
                  <a:pt x="2995" y="13187"/>
                  <a:pt x="2952" y="13221"/>
                </a:cubicBezTo>
              </a:path>
              <a:path w="6178" h="918">
                <a:moveTo>
                  <a:pt x="3597" y="12526"/>
                </a:moveTo>
                <a:cubicBezTo>
                  <a:pt x="3629" y="12503"/>
                  <a:pt x="3683" y="12481"/>
                  <a:pt x="3721" y="12477"/>
                </a:cubicBezTo>
                <a:cubicBezTo>
                  <a:pt x="3799" y="12468"/>
                  <a:pt x="3857" y="12481"/>
                  <a:pt x="3919" y="12502"/>
                </a:cubicBezTo>
                <a:cubicBezTo>
                  <a:pt x="3947" y="12511"/>
                  <a:pt x="3985" y="12552"/>
                  <a:pt x="3969" y="12601"/>
                </a:cubicBezTo>
                <a:cubicBezTo>
                  <a:pt x="3957" y="12637"/>
                  <a:pt x="3922" y="12671"/>
                  <a:pt x="3894" y="12700"/>
                </a:cubicBezTo>
                <a:cubicBezTo>
                  <a:pt x="3875" y="12720"/>
                  <a:pt x="3821" y="12763"/>
                  <a:pt x="3795" y="12774"/>
                </a:cubicBezTo>
                <a:cubicBezTo>
                  <a:pt x="3767" y="12786"/>
                  <a:pt x="3751" y="12806"/>
                  <a:pt x="3746" y="12849"/>
                </a:cubicBezTo>
                <a:cubicBezTo>
                  <a:pt x="3746" y="12857"/>
                  <a:pt x="3746" y="12866"/>
                  <a:pt x="3746" y="12874"/>
                </a:cubicBezTo>
                <a:cubicBezTo>
                  <a:pt x="3829" y="12874"/>
                  <a:pt x="3898" y="12870"/>
                  <a:pt x="3969" y="12849"/>
                </a:cubicBezTo>
                <a:cubicBezTo>
                  <a:pt x="4002" y="12849"/>
                  <a:pt x="4018" y="12849"/>
                  <a:pt x="4043" y="12849"/>
                </a:cubicBezTo>
              </a:path>
              <a:path w="6178" h="918">
                <a:moveTo>
                  <a:pt x="4291" y="12898"/>
                </a:moveTo>
                <a:cubicBezTo>
                  <a:pt x="4291" y="12890"/>
                  <a:pt x="4291" y="12882"/>
                  <a:pt x="4291" y="12874"/>
                </a:cubicBezTo>
                <a:cubicBezTo>
                  <a:pt x="4304" y="12910"/>
                  <a:pt x="4322" y="12898"/>
                  <a:pt x="4366" y="12898"/>
                </a:cubicBezTo>
                <a:cubicBezTo>
                  <a:pt x="4411" y="12898"/>
                  <a:pt x="4425" y="12877"/>
                  <a:pt x="4465" y="12874"/>
                </a:cubicBezTo>
                <a:cubicBezTo>
                  <a:pt x="4534" y="12869"/>
                  <a:pt x="4582" y="12868"/>
                  <a:pt x="4638" y="12849"/>
                </a:cubicBezTo>
                <a:cubicBezTo>
                  <a:pt x="4657" y="12843"/>
                  <a:pt x="4693" y="12849"/>
                  <a:pt x="4713" y="12849"/>
                </a:cubicBezTo>
              </a:path>
              <a:path w="6178" h="918">
                <a:moveTo>
                  <a:pt x="5035" y="12477"/>
                </a:moveTo>
                <a:cubicBezTo>
                  <a:pt x="5069" y="12466"/>
                  <a:pt x="5066" y="12442"/>
                  <a:pt x="5110" y="12427"/>
                </a:cubicBezTo>
                <a:cubicBezTo>
                  <a:pt x="5146" y="12415"/>
                  <a:pt x="5198" y="12417"/>
                  <a:pt x="5234" y="12402"/>
                </a:cubicBezTo>
                <a:cubicBezTo>
                  <a:pt x="5269" y="12388"/>
                  <a:pt x="5311" y="12355"/>
                  <a:pt x="5358" y="12378"/>
                </a:cubicBezTo>
                <a:cubicBezTo>
                  <a:pt x="5402" y="12399"/>
                  <a:pt x="5451" y="12395"/>
                  <a:pt x="5457" y="12452"/>
                </a:cubicBezTo>
                <a:cubicBezTo>
                  <a:pt x="5461" y="12485"/>
                  <a:pt x="5449" y="12529"/>
                  <a:pt x="5432" y="12551"/>
                </a:cubicBezTo>
                <a:cubicBezTo>
                  <a:pt x="5385" y="12612"/>
                  <a:pt x="5317" y="12631"/>
                  <a:pt x="5259" y="12675"/>
                </a:cubicBezTo>
                <a:cubicBezTo>
                  <a:pt x="5215" y="12708"/>
                  <a:pt x="5191" y="12725"/>
                  <a:pt x="5135" y="12725"/>
                </a:cubicBezTo>
                <a:cubicBezTo>
                  <a:pt x="5150" y="12785"/>
                  <a:pt x="5173" y="12774"/>
                  <a:pt x="5234" y="12774"/>
                </a:cubicBezTo>
                <a:cubicBezTo>
                  <a:pt x="5264" y="12774"/>
                  <a:pt x="5343" y="12802"/>
                  <a:pt x="5358" y="12824"/>
                </a:cubicBezTo>
                <a:cubicBezTo>
                  <a:pt x="5380" y="12857"/>
                  <a:pt x="5351" y="12925"/>
                  <a:pt x="5333" y="12948"/>
                </a:cubicBezTo>
                <a:cubicBezTo>
                  <a:pt x="5282" y="13012"/>
                  <a:pt x="5222" y="13028"/>
                  <a:pt x="5159" y="13072"/>
                </a:cubicBezTo>
                <a:cubicBezTo>
                  <a:pt x="5113" y="13104"/>
                  <a:pt x="5054" y="13120"/>
                  <a:pt x="5011" y="13146"/>
                </a:cubicBezTo>
                <a:cubicBezTo>
                  <a:pt x="4973" y="13169"/>
                  <a:pt x="4976" y="13191"/>
                  <a:pt x="4961" y="13146"/>
                </a:cubicBezTo>
              </a:path>
              <a:path w="6178" h="918">
                <a:moveTo>
                  <a:pt x="5904" y="12502"/>
                </a:moveTo>
                <a:cubicBezTo>
                  <a:pt x="5850" y="12502"/>
                  <a:pt x="5772" y="12512"/>
                  <a:pt x="5730" y="12551"/>
                </a:cubicBezTo>
                <a:cubicBezTo>
                  <a:pt x="5679" y="12598"/>
                  <a:pt x="5635" y="12656"/>
                  <a:pt x="5606" y="12725"/>
                </a:cubicBezTo>
                <a:cubicBezTo>
                  <a:pt x="5584" y="12778"/>
                  <a:pt x="5507" y="12902"/>
                  <a:pt x="5531" y="12973"/>
                </a:cubicBezTo>
                <a:cubicBezTo>
                  <a:pt x="5555" y="13043"/>
                  <a:pt x="5602" y="13057"/>
                  <a:pt x="5655" y="13097"/>
                </a:cubicBezTo>
                <a:cubicBezTo>
                  <a:pt x="5715" y="13142"/>
                  <a:pt x="5742" y="13129"/>
                  <a:pt x="5804" y="13122"/>
                </a:cubicBezTo>
                <a:cubicBezTo>
                  <a:pt x="5890" y="13112"/>
                  <a:pt x="5916" y="13083"/>
                  <a:pt x="5978" y="13022"/>
                </a:cubicBezTo>
                <a:cubicBezTo>
                  <a:pt x="6030" y="12971"/>
                  <a:pt x="6068" y="12913"/>
                  <a:pt x="6102" y="12849"/>
                </a:cubicBezTo>
                <a:cubicBezTo>
                  <a:pt x="6131" y="12794"/>
                  <a:pt x="6147" y="12737"/>
                  <a:pt x="6152" y="12675"/>
                </a:cubicBezTo>
                <a:cubicBezTo>
                  <a:pt x="6155" y="12631"/>
                  <a:pt x="6149" y="12584"/>
                  <a:pt x="6127" y="12551"/>
                </a:cubicBezTo>
                <a:cubicBezTo>
                  <a:pt x="6098" y="12508"/>
                  <a:pt x="6024" y="12526"/>
                  <a:pt x="5978" y="12526"/>
                </a:cubicBezTo>
                <a:cubicBezTo>
                  <a:pt x="5909" y="12526"/>
                  <a:pt x="5884" y="12532"/>
                  <a:pt x="5829" y="12576"/>
                </a:cubicBezTo>
              </a:path>
              <a:path w="6178" h="918">
                <a:moveTo>
                  <a:pt x="6499" y="12824"/>
                </a:moveTo>
                <a:cubicBezTo>
                  <a:pt x="6507" y="12824"/>
                  <a:pt x="6516" y="12824"/>
                  <a:pt x="6524" y="12824"/>
                </a:cubicBezTo>
                <a:cubicBezTo>
                  <a:pt x="6531" y="12847"/>
                  <a:pt x="6533" y="12871"/>
                  <a:pt x="6548" y="12898"/>
                </a:cubicBezTo>
                <a:cubicBezTo>
                  <a:pt x="6568" y="12933"/>
                  <a:pt x="6588" y="12934"/>
                  <a:pt x="6598" y="12973"/>
                </a:cubicBezTo>
                <a:cubicBezTo>
                  <a:pt x="6630" y="12984"/>
                  <a:pt x="6638" y="13007"/>
                  <a:pt x="6648" y="13047"/>
                </a:cubicBezTo>
                <a:cubicBezTo>
                  <a:pt x="6684" y="13065"/>
                  <a:pt x="6688" y="13077"/>
                  <a:pt x="6697" y="13122"/>
                </a:cubicBezTo>
                <a:cubicBezTo>
                  <a:pt x="6731" y="13133"/>
                  <a:pt x="6728" y="13156"/>
                  <a:pt x="6772" y="13171"/>
                </a:cubicBezTo>
                <a:cubicBezTo>
                  <a:pt x="6780" y="13171"/>
                  <a:pt x="6788" y="13171"/>
                  <a:pt x="6796" y="13171"/>
                </a:cubicBezTo>
              </a:path>
              <a:path w="6178" h="918">
                <a:moveTo>
                  <a:pt x="6871" y="12849"/>
                </a:moveTo>
                <a:cubicBezTo>
                  <a:pt x="6816" y="12903"/>
                  <a:pt x="6768" y="12943"/>
                  <a:pt x="6722" y="12998"/>
                </a:cubicBezTo>
                <a:cubicBezTo>
                  <a:pt x="6685" y="13042"/>
                  <a:pt x="6639" y="13082"/>
                  <a:pt x="6598" y="13122"/>
                </a:cubicBezTo>
                <a:cubicBezTo>
                  <a:pt x="6590" y="13130"/>
                  <a:pt x="6581" y="13138"/>
                  <a:pt x="6573" y="13146"/>
                </a:cubicBezTo>
              </a:path>
              <a:path w="6178" h="918">
                <a:moveTo>
                  <a:pt x="7119" y="12923"/>
                </a:moveTo>
                <a:cubicBezTo>
                  <a:pt x="7119" y="12931"/>
                  <a:pt x="7119" y="12940"/>
                  <a:pt x="7119" y="12948"/>
                </a:cubicBezTo>
                <a:cubicBezTo>
                  <a:pt x="7162" y="12948"/>
                  <a:pt x="7157" y="12938"/>
                  <a:pt x="7169" y="12973"/>
                </a:cubicBezTo>
                <a:cubicBezTo>
                  <a:pt x="7238" y="12973"/>
                  <a:pt x="7278" y="12982"/>
                  <a:pt x="7342" y="12998"/>
                </a:cubicBezTo>
                <a:cubicBezTo>
                  <a:pt x="7407" y="13014"/>
                  <a:pt x="7497" y="12998"/>
                  <a:pt x="7565" y="12998"/>
                </a:cubicBezTo>
              </a:path>
              <a:path w="6178" h="918">
                <a:moveTo>
                  <a:pt x="7392" y="12849"/>
                </a:moveTo>
                <a:cubicBezTo>
                  <a:pt x="7392" y="12930"/>
                  <a:pt x="7381" y="13004"/>
                  <a:pt x="7367" y="13072"/>
                </a:cubicBezTo>
                <a:cubicBezTo>
                  <a:pt x="7357" y="13124"/>
                  <a:pt x="7367" y="13192"/>
                  <a:pt x="7367" y="13246"/>
                </a:cubicBezTo>
              </a:path>
              <a:path w="6178" h="918">
                <a:moveTo>
                  <a:pt x="7962" y="12626"/>
                </a:moveTo>
                <a:cubicBezTo>
                  <a:pt x="7962" y="12681"/>
                  <a:pt x="7943" y="12660"/>
                  <a:pt x="7938" y="12700"/>
                </a:cubicBezTo>
                <a:cubicBezTo>
                  <a:pt x="7933" y="12741"/>
                  <a:pt x="7913" y="12754"/>
                  <a:pt x="7913" y="12799"/>
                </a:cubicBezTo>
                <a:cubicBezTo>
                  <a:pt x="7913" y="12827"/>
                  <a:pt x="7977" y="12862"/>
                  <a:pt x="8012" y="12874"/>
                </a:cubicBezTo>
                <a:cubicBezTo>
                  <a:pt x="8058" y="12889"/>
                  <a:pt x="8096" y="12859"/>
                  <a:pt x="8136" y="12849"/>
                </a:cubicBezTo>
                <a:cubicBezTo>
                  <a:pt x="8198" y="12833"/>
                  <a:pt x="8240" y="12795"/>
                  <a:pt x="8285" y="12750"/>
                </a:cubicBezTo>
                <a:cubicBezTo>
                  <a:pt x="8293" y="12742"/>
                  <a:pt x="8302" y="12733"/>
                  <a:pt x="8310" y="12725"/>
                </a:cubicBezTo>
              </a:path>
              <a:path w="6178" h="918">
                <a:moveTo>
                  <a:pt x="8359" y="12526"/>
                </a:moveTo>
                <a:cubicBezTo>
                  <a:pt x="8359" y="12587"/>
                  <a:pt x="8344" y="12603"/>
                  <a:pt x="8334" y="12650"/>
                </a:cubicBezTo>
                <a:cubicBezTo>
                  <a:pt x="8323" y="12703"/>
                  <a:pt x="8318" y="12773"/>
                  <a:pt x="8310" y="12824"/>
                </a:cubicBezTo>
                <a:cubicBezTo>
                  <a:pt x="8292" y="12939"/>
                  <a:pt x="8315" y="13071"/>
                  <a:pt x="8334" y="13171"/>
                </a:cubicBezTo>
                <a:cubicBezTo>
                  <a:pt x="8341" y="13206"/>
                  <a:pt x="8344" y="13276"/>
                  <a:pt x="8384" y="13295"/>
                </a:cubicBezTo>
                <a:cubicBezTo>
                  <a:pt x="8392" y="13295"/>
                  <a:pt x="8401" y="13295"/>
                  <a:pt x="8409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7800" y="4527720"/>
            <a:ext cx="17928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8855" y="12576"/>
                </a:moveTo>
                <a:cubicBezTo>
                  <a:pt x="9020" y="12576"/>
                  <a:pt x="9186" y="12576"/>
                  <a:pt x="9351" y="12576"/>
                </a:cubicBezTo>
              </a:path>
              <a:path w="497" h="547">
                <a:moveTo>
                  <a:pt x="9029" y="12576"/>
                </a:moveTo>
                <a:cubicBezTo>
                  <a:pt x="9002" y="12596"/>
                  <a:pt x="8920" y="12604"/>
                  <a:pt x="8905" y="12626"/>
                </a:cubicBezTo>
                <a:cubicBezTo>
                  <a:pt x="8879" y="12664"/>
                  <a:pt x="8928" y="12695"/>
                  <a:pt x="8930" y="12700"/>
                </a:cubicBezTo>
                <a:cubicBezTo>
                  <a:pt x="8954" y="12748"/>
                  <a:pt x="8975" y="12724"/>
                  <a:pt x="9029" y="12750"/>
                </a:cubicBezTo>
                <a:cubicBezTo>
                  <a:pt x="9072" y="12771"/>
                  <a:pt x="9106" y="12799"/>
                  <a:pt x="9153" y="12824"/>
                </a:cubicBezTo>
                <a:cubicBezTo>
                  <a:pt x="9203" y="12850"/>
                  <a:pt x="9230" y="12870"/>
                  <a:pt x="9252" y="12898"/>
                </a:cubicBezTo>
                <a:cubicBezTo>
                  <a:pt x="9282" y="12937"/>
                  <a:pt x="9310" y="12921"/>
                  <a:pt x="9327" y="12973"/>
                </a:cubicBezTo>
                <a:cubicBezTo>
                  <a:pt x="9345" y="13028"/>
                  <a:pt x="9295" y="13033"/>
                  <a:pt x="9277" y="13072"/>
                </a:cubicBezTo>
                <a:cubicBezTo>
                  <a:pt x="9265" y="13099"/>
                  <a:pt x="9245" y="13117"/>
                  <a:pt x="9203" y="13122"/>
                </a:cubicBezTo>
                <a:cubicBezTo>
                  <a:pt x="9140" y="13129"/>
                  <a:pt x="9104" y="13114"/>
                  <a:pt x="9054" y="13097"/>
                </a:cubicBezTo>
                <a:cubicBezTo>
                  <a:pt x="9029" y="13097"/>
                  <a:pt x="9021" y="13097"/>
                  <a:pt x="9029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3160" y="5249880"/>
            <a:ext cx="2162160" cy="484200"/>
          </a:xfrm>
          <a:custGeom>
            <a:avLst/>
            <a:gdLst/>
            <a:ahLst/>
            <a:rect l="l" t="t" r="r" b="b"/>
            <a:pathLst>
              <a:path w="6004" h="1341">
                <a:moveTo>
                  <a:pt x="5531" y="15032"/>
                </a:moveTo>
                <a:cubicBezTo>
                  <a:pt x="5541" y="15003"/>
                  <a:pt x="5565" y="14987"/>
                  <a:pt x="5606" y="14982"/>
                </a:cubicBezTo>
                <a:cubicBezTo>
                  <a:pt x="5647" y="14977"/>
                  <a:pt x="5624" y="14957"/>
                  <a:pt x="5680" y="14957"/>
                </a:cubicBezTo>
                <a:cubicBezTo>
                  <a:pt x="5716" y="14957"/>
                  <a:pt x="5752" y="14964"/>
                  <a:pt x="5779" y="14982"/>
                </a:cubicBezTo>
                <a:cubicBezTo>
                  <a:pt x="5800" y="14996"/>
                  <a:pt x="5850" y="15023"/>
                  <a:pt x="5854" y="15032"/>
                </a:cubicBezTo>
                <a:cubicBezTo>
                  <a:pt x="5867" y="15056"/>
                  <a:pt x="5877" y="15088"/>
                  <a:pt x="5879" y="15106"/>
                </a:cubicBezTo>
                <a:cubicBezTo>
                  <a:pt x="5883" y="15141"/>
                  <a:pt x="5870" y="15181"/>
                  <a:pt x="5854" y="15205"/>
                </a:cubicBezTo>
                <a:cubicBezTo>
                  <a:pt x="5838" y="15229"/>
                  <a:pt x="5808" y="15272"/>
                  <a:pt x="5804" y="15280"/>
                </a:cubicBezTo>
                <a:cubicBezTo>
                  <a:pt x="5791" y="15306"/>
                  <a:pt x="5767" y="15350"/>
                  <a:pt x="5755" y="15379"/>
                </a:cubicBezTo>
                <a:cubicBezTo>
                  <a:pt x="5739" y="15416"/>
                  <a:pt x="5734" y="15446"/>
                  <a:pt x="5705" y="15478"/>
                </a:cubicBezTo>
                <a:cubicBezTo>
                  <a:pt x="5667" y="15521"/>
                  <a:pt x="5670" y="15579"/>
                  <a:pt x="5631" y="15627"/>
                </a:cubicBezTo>
                <a:cubicBezTo>
                  <a:pt x="5616" y="15645"/>
                  <a:pt x="5592" y="15719"/>
                  <a:pt x="5581" y="15726"/>
                </a:cubicBezTo>
                <a:cubicBezTo>
                  <a:pt x="5550" y="15747"/>
                  <a:pt x="5553" y="15772"/>
                  <a:pt x="5531" y="15801"/>
                </a:cubicBezTo>
                <a:cubicBezTo>
                  <a:pt x="5515" y="15822"/>
                  <a:pt x="5485" y="15869"/>
                  <a:pt x="5482" y="15875"/>
                </a:cubicBezTo>
                <a:cubicBezTo>
                  <a:pt x="5482" y="15883"/>
                  <a:pt x="5482" y="15892"/>
                  <a:pt x="5482" y="15900"/>
                </a:cubicBezTo>
                <a:cubicBezTo>
                  <a:pt x="5500" y="15955"/>
                  <a:pt x="5517" y="15913"/>
                  <a:pt x="5556" y="15900"/>
                </a:cubicBezTo>
                <a:cubicBezTo>
                  <a:pt x="5600" y="15885"/>
                  <a:pt x="5660" y="15879"/>
                  <a:pt x="5705" y="15875"/>
                </a:cubicBezTo>
                <a:cubicBezTo>
                  <a:pt x="5750" y="15871"/>
                  <a:pt x="5781" y="15837"/>
                  <a:pt x="5829" y="15825"/>
                </a:cubicBezTo>
                <a:cubicBezTo>
                  <a:pt x="5854" y="15825"/>
                  <a:pt x="5862" y="15825"/>
                  <a:pt x="5879" y="15825"/>
                </a:cubicBezTo>
              </a:path>
              <a:path w="6004" h="1341">
                <a:moveTo>
                  <a:pt x="6251" y="15354"/>
                </a:moveTo>
                <a:cubicBezTo>
                  <a:pt x="6283" y="15397"/>
                  <a:pt x="6308" y="15436"/>
                  <a:pt x="6350" y="15478"/>
                </a:cubicBezTo>
                <a:cubicBezTo>
                  <a:pt x="6388" y="15516"/>
                  <a:pt x="6410" y="15563"/>
                  <a:pt x="6449" y="15602"/>
                </a:cubicBezTo>
                <a:cubicBezTo>
                  <a:pt x="6488" y="15641"/>
                  <a:pt x="6536" y="15675"/>
                  <a:pt x="6548" y="15726"/>
                </a:cubicBezTo>
                <a:cubicBezTo>
                  <a:pt x="6580" y="15737"/>
                  <a:pt x="6587" y="15744"/>
                  <a:pt x="6598" y="15776"/>
                </a:cubicBezTo>
              </a:path>
              <a:path w="6004" h="1341">
                <a:moveTo>
                  <a:pt x="6648" y="15354"/>
                </a:moveTo>
                <a:cubicBezTo>
                  <a:pt x="6577" y="15425"/>
                  <a:pt x="6503" y="15490"/>
                  <a:pt x="6449" y="15577"/>
                </a:cubicBezTo>
                <a:cubicBezTo>
                  <a:pt x="6403" y="15652"/>
                  <a:pt x="6362" y="15713"/>
                  <a:pt x="6300" y="15776"/>
                </a:cubicBezTo>
                <a:cubicBezTo>
                  <a:pt x="6278" y="15798"/>
                  <a:pt x="6270" y="15803"/>
                  <a:pt x="6276" y="15825"/>
                </a:cubicBezTo>
              </a:path>
              <a:path w="6004" h="1341">
                <a:moveTo>
                  <a:pt x="7020" y="14784"/>
                </a:moveTo>
                <a:cubicBezTo>
                  <a:pt x="7020" y="14853"/>
                  <a:pt x="7011" y="14893"/>
                  <a:pt x="6995" y="14957"/>
                </a:cubicBezTo>
                <a:cubicBezTo>
                  <a:pt x="6979" y="15021"/>
                  <a:pt x="6995" y="15113"/>
                  <a:pt x="6995" y="15180"/>
                </a:cubicBezTo>
              </a:path>
              <a:path w="6004" h="1341">
                <a:moveTo>
                  <a:pt x="7045" y="14833"/>
                </a:moveTo>
                <a:cubicBezTo>
                  <a:pt x="6985" y="14848"/>
                  <a:pt x="6978" y="14879"/>
                  <a:pt x="6921" y="14908"/>
                </a:cubicBezTo>
                <a:cubicBezTo>
                  <a:pt x="6880" y="14929"/>
                  <a:pt x="6859" y="14930"/>
                  <a:pt x="6846" y="14982"/>
                </a:cubicBezTo>
                <a:cubicBezTo>
                  <a:pt x="6901" y="14982"/>
                  <a:pt x="6917" y="14970"/>
                  <a:pt x="6970" y="14957"/>
                </a:cubicBezTo>
                <a:cubicBezTo>
                  <a:pt x="7011" y="14947"/>
                  <a:pt x="7053" y="14942"/>
                  <a:pt x="7094" y="14932"/>
                </a:cubicBezTo>
                <a:cubicBezTo>
                  <a:pt x="7149" y="14918"/>
                  <a:pt x="7214" y="14912"/>
                  <a:pt x="7268" y="14908"/>
                </a:cubicBezTo>
                <a:cubicBezTo>
                  <a:pt x="7301" y="14908"/>
                  <a:pt x="7317" y="14908"/>
                  <a:pt x="7342" y="14908"/>
                </a:cubicBezTo>
              </a:path>
              <a:path w="6004" h="1341">
                <a:moveTo>
                  <a:pt x="7615" y="15304"/>
                </a:moveTo>
                <a:cubicBezTo>
                  <a:pt x="7654" y="15295"/>
                  <a:pt x="7670" y="15280"/>
                  <a:pt x="7714" y="15280"/>
                </a:cubicBezTo>
                <a:cubicBezTo>
                  <a:pt x="7826" y="15280"/>
                  <a:pt x="7940" y="15287"/>
                  <a:pt x="8037" y="15255"/>
                </a:cubicBezTo>
                <a:cubicBezTo>
                  <a:pt x="8058" y="15248"/>
                  <a:pt x="8118" y="15255"/>
                  <a:pt x="8136" y="15255"/>
                </a:cubicBezTo>
              </a:path>
              <a:path w="6004" h="1341">
                <a:moveTo>
                  <a:pt x="8359" y="14957"/>
                </a:moveTo>
                <a:cubicBezTo>
                  <a:pt x="8401" y="14926"/>
                  <a:pt x="8455" y="14912"/>
                  <a:pt x="8508" y="14908"/>
                </a:cubicBezTo>
                <a:cubicBezTo>
                  <a:pt x="8580" y="14902"/>
                  <a:pt x="8662" y="14888"/>
                  <a:pt x="8706" y="14957"/>
                </a:cubicBezTo>
                <a:cubicBezTo>
                  <a:pt x="8734" y="15002"/>
                  <a:pt x="8689" y="15049"/>
                  <a:pt x="8682" y="15081"/>
                </a:cubicBezTo>
                <a:cubicBezTo>
                  <a:pt x="8670" y="15138"/>
                  <a:pt x="8616" y="15189"/>
                  <a:pt x="8558" y="15230"/>
                </a:cubicBezTo>
                <a:cubicBezTo>
                  <a:pt x="8509" y="15265"/>
                  <a:pt x="8417" y="15302"/>
                  <a:pt x="8384" y="15354"/>
                </a:cubicBezTo>
                <a:cubicBezTo>
                  <a:pt x="8329" y="15441"/>
                  <a:pt x="8318" y="15495"/>
                  <a:pt x="8409" y="15503"/>
                </a:cubicBezTo>
                <a:cubicBezTo>
                  <a:pt x="8450" y="15507"/>
                  <a:pt x="8462" y="15528"/>
                  <a:pt x="8508" y="15528"/>
                </a:cubicBezTo>
                <a:cubicBezTo>
                  <a:pt x="8602" y="15528"/>
                  <a:pt x="8670" y="15525"/>
                  <a:pt x="8756" y="15503"/>
                </a:cubicBezTo>
                <a:cubicBezTo>
                  <a:pt x="8781" y="15503"/>
                  <a:pt x="8789" y="15503"/>
                  <a:pt x="8806" y="15503"/>
                </a:cubicBezTo>
              </a:path>
              <a:path w="6004" h="1341">
                <a:moveTo>
                  <a:pt x="9302" y="14784"/>
                </a:moveTo>
                <a:cubicBezTo>
                  <a:pt x="9330" y="14847"/>
                  <a:pt x="9327" y="14886"/>
                  <a:pt x="9327" y="14957"/>
                </a:cubicBezTo>
                <a:cubicBezTo>
                  <a:pt x="9327" y="15062"/>
                  <a:pt x="9307" y="15153"/>
                  <a:pt x="9302" y="15255"/>
                </a:cubicBezTo>
                <a:cubicBezTo>
                  <a:pt x="9299" y="15320"/>
                  <a:pt x="9290" y="15380"/>
                  <a:pt x="9327" y="15429"/>
                </a:cubicBezTo>
              </a:path>
              <a:path w="6004" h="1341">
                <a:moveTo>
                  <a:pt x="9426" y="14759"/>
                </a:moveTo>
                <a:cubicBezTo>
                  <a:pt x="9367" y="14774"/>
                  <a:pt x="9357" y="14798"/>
                  <a:pt x="9302" y="14833"/>
                </a:cubicBezTo>
                <a:cubicBezTo>
                  <a:pt x="9237" y="14875"/>
                  <a:pt x="9201" y="14899"/>
                  <a:pt x="9153" y="14957"/>
                </a:cubicBezTo>
                <a:cubicBezTo>
                  <a:pt x="9127" y="14988"/>
                  <a:pt x="9127" y="15000"/>
                  <a:pt x="9103" y="15032"/>
                </a:cubicBezTo>
                <a:cubicBezTo>
                  <a:pt x="9147" y="15063"/>
                  <a:pt x="9170" y="15056"/>
                  <a:pt x="9227" y="15056"/>
                </a:cubicBezTo>
                <a:cubicBezTo>
                  <a:pt x="9315" y="15056"/>
                  <a:pt x="9389" y="15038"/>
                  <a:pt x="9475" y="15032"/>
                </a:cubicBezTo>
                <a:cubicBezTo>
                  <a:pt x="9526" y="15032"/>
                  <a:pt x="9559" y="15026"/>
                  <a:pt x="9599" y="15007"/>
                </a:cubicBezTo>
              </a:path>
              <a:path w="6004" h="1341">
                <a:moveTo>
                  <a:pt x="9872" y="15007"/>
                </a:moveTo>
                <a:cubicBezTo>
                  <a:pt x="9872" y="15057"/>
                  <a:pt x="9890" y="15089"/>
                  <a:pt x="9922" y="15131"/>
                </a:cubicBezTo>
                <a:cubicBezTo>
                  <a:pt x="9957" y="15178"/>
                  <a:pt x="10008" y="15245"/>
                  <a:pt x="10021" y="15304"/>
                </a:cubicBezTo>
                <a:cubicBezTo>
                  <a:pt x="10037" y="15375"/>
                  <a:pt x="10069" y="15394"/>
                  <a:pt x="10096" y="15453"/>
                </a:cubicBezTo>
                <a:cubicBezTo>
                  <a:pt x="10110" y="15485"/>
                  <a:pt x="10126" y="15536"/>
                  <a:pt x="10145" y="15478"/>
                </a:cubicBezTo>
              </a:path>
              <a:path w="6004" h="1341">
                <a:moveTo>
                  <a:pt x="10220" y="15007"/>
                </a:moveTo>
                <a:cubicBezTo>
                  <a:pt x="10145" y="15088"/>
                  <a:pt x="10064" y="15168"/>
                  <a:pt x="9996" y="15255"/>
                </a:cubicBezTo>
                <a:cubicBezTo>
                  <a:pt x="9975" y="15282"/>
                  <a:pt x="9888" y="15368"/>
                  <a:pt x="9872" y="15404"/>
                </a:cubicBezTo>
                <a:cubicBezTo>
                  <a:pt x="9872" y="15429"/>
                  <a:pt x="9872" y="15437"/>
                  <a:pt x="9872" y="15453"/>
                </a:cubicBezTo>
              </a:path>
              <a:path w="6004" h="1341">
                <a:moveTo>
                  <a:pt x="10443" y="14610"/>
                </a:moveTo>
                <a:cubicBezTo>
                  <a:pt x="10503" y="14610"/>
                  <a:pt x="10557" y="14590"/>
                  <a:pt x="10616" y="14585"/>
                </a:cubicBezTo>
                <a:cubicBezTo>
                  <a:pt x="10641" y="14583"/>
                  <a:pt x="10666" y="14585"/>
                  <a:pt x="10691" y="14585"/>
                </a:cubicBezTo>
                <a:cubicBezTo>
                  <a:pt x="10691" y="14616"/>
                  <a:pt x="10683" y="14652"/>
                  <a:pt x="10666" y="14660"/>
                </a:cubicBezTo>
                <a:cubicBezTo>
                  <a:pt x="10641" y="14672"/>
                  <a:pt x="10632" y="14701"/>
                  <a:pt x="10616" y="14709"/>
                </a:cubicBezTo>
                <a:cubicBezTo>
                  <a:pt x="10610" y="14712"/>
                  <a:pt x="10546" y="14729"/>
                  <a:pt x="10542" y="14734"/>
                </a:cubicBezTo>
                <a:cubicBezTo>
                  <a:pt x="10542" y="14742"/>
                  <a:pt x="10542" y="14751"/>
                  <a:pt x="10542" y="14759"/>
                </a:cubicBezTo>
                <a:cubicBezTo>
                  <a:pt x="10602" y="14759"/>
                  <a:pt x="10589" y="14768"/>
                  <a:pt x="10616" y="14808"/>
                </a:cubicBezTo>
                <a:cubicBezTo>
                  <a:pt x="10655" y="14866"/>
                  <a:pt x="10623" y="14847"/>
                  <a:pt x="10616" y="14908"/>
                </a:cubicBezTo>
                <a:cubicBezTo>
                  <a:pt x="10613" y="14935"/>
                  <a:pt x="10594" y="14954"/>
                  <a:pt x="10567" y="14957"/>
                </a:cubicBezTo>
                <a:cubicBezTo>
                  <a:pt x="10527" y="14962"/>
                  <a:pt x="10513" y="14982"/>
                  <a:pt x="10468" y="14982"/>
                </a:cubicBezTo>
                <a:cubicBezTo>
                  <a:pt x="10460" y="14982"/>
                  <a:pt x="10451" y="14982"/>
                  <a:pt x="10443" y="14982"/>
                </a:cubicBezTo>
              </a:path>
              <a:path w="6004" h="1341">
                <a:moveTo>
                  <a:pt x="11013" y="15081"/>
                </a:moveTo>
                <a:cubicBezTo>
                  <a:pt x="11089" y="15081"/>
                  <a:pt x="11149" y="15070"/>
                  <a:pt x="11212" y="15056"/>
                </a:cubicBezTo>
                <a:cubicBezTo>
                  <a:pt x="11295" y="15038"/>
                  <a:pt x="11400" y="15056"/>
                  <a:pt x="11485" y="15056"/>
                </a:cubicBezTo>
              </a:path>
              <a:path w="6004" h="1341">
                <a:moveTo>
                  <a:pt x="11286" y="14883"/>
                </a:moveTo>
                <a:cubicBezTo>
                  <a:pt x="11286" y="14952"/>
                  <a:pt x="11280" y="15018"/>
                  <a:pt x="11261" y="15081"/>
                </a:cubicBezTo>
                <a:cubicBezTo>
                  <a:pt x="11242" y="15145"/>
                  <a:pt x="11237" y="15187"/>
                  <a:pt x="11237" y="15255"/>
                </a:cubicBezTo>
                <a:cubicBezTo>
                  <a:pt x="11237" y="15294"/>
                  <a:pt x="11253" y="15280"/>
                  <a:pt x="11286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5880" y="528624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11931" y="14684"/>
                </a:moveTo>
                <a:cubicBezTo>
                  <a:pt x="11931" y="14798"/>
                  <a:pt x="11884" y="15430"/>
                  <a:pt x="11956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73720" y="5232240"/>
            <a:ext cx="714240" cy="322560"/>
          </a:xfrm>
          <a:custGeom>
            <a:avLst/>
            <a:gdLst/>
            <a:ahLst/>
            <a:rect l="l" t="t" r="r" b="b"/>
            <a:pathLst>
              <a:path w="1986" h="894">
                <a:moveTo>
                  <a:pt x="12427" y="14684"/>
                </a:moveTo>
                <a:cubicBezTo>
                  <a:pt x="12427" y="14834"/>
                  <a:pt x="12436" y="15415"/>
                  <a:pt x="12452" y="15404"/>
                </a:cubicBezTo>
              </a:path>
              <a:path w="1986" h="894">
                <a:moveTo>
                  <a:pt x="12849" y="14635"/>
                </a:moveTo>
                <a:cubicBezTo>
                  <a:pt x="12894" y="14635"/>
                  <a:pt x="12908" y="14612"/>
                  <a:pt x="12948" y="14610"/>
                </a:cubicBezTo>
                <a:cubicBezTo>
                  <a:pt x="13014" y="14607"/>
                  <a:pt x="13052" y="14621"/>
                  <a:pt x="13097" y="14660"/>
                </a:cubicBezTo>
                <a:cubicBezTo>
                  <a:pt x="13137" y="14694"/>
                  <a:pt x="13128" y="14724"/>
                  <a:pt x="13097" y="14759"/>
                </a:cubicBezTo>
                <a:cubicBezTo>
                  <a:pt x="13065" y="14795"/>
                  <a:pt x="13037" y="14816"/>
                  <a:pt x="12998" y="14833"/>
                </a:cubicBezTo>
                <a:cubicBezTo>
                  <a:pt x="12958" y="14850"/>
                  <a:pt x="12859" y="14863"/>
                  <a:pt x="12898" y="14883"/>
                </a:cubicBezTo>
                <a:cubicBezTo>
                  <a:pt x="12976" y="14922"/>
                  <a:pt x="13017" y="14860"/>
                  <a:pt x="13097" y="14932"/>
                </a:cubicBezTo>
                <a:cubicBezTo>
                  <a:pt x="13157" y="14986"/>
                  <a:pt x="13134" y="14975"/>
                  <a:pt x="13122" y="15032"/>
                </a:cubicBezTo>
                <a:cubicBezTo>
                  <a:pt x="13105" y="15112"/>
                  <a:pt x="13058" y="15145"/>
                  <a:pt x="12998" y="15205"/>
                </a:cubicBezTo>
                <a:cubicBezTo>
                  <a:pt x="12949" y="15254"/>
                  <a:pt x="12899" y="15284"/>
                  <a:pt x="12849" y="15329"/>
                </a:cubicBezTo>
                <a:cubicBezTo>
                  <a:pt x="12841" y="15337"/>
                  <a:pt x="12832" y="15346"/>
                  <a:pt x="12824" y="15354"/>
                </a:cubicBezTo>
              </a:path>
              <a:path w="1986" h="894">
                <a:moveTo>
                  <a:pt x="13543" y="14932"/>
                </a:moveTo>
                <a:cubicBezTo>
                  <a:pt x="13550" y="14987"/>
                  <a:pt x="13570" y="15061"/>
                  <a:pt x="13593" y="15106"/>
                </a:cubicBezTo>
                <a:cubicBezTo>
                  <a:pt x="13612" y="15144"/>
                  <a:pt x="13640" y="15199"/>
                  <a:pt x="13667" y="15230"/>
                </a:cubicBezTo>
                <a:cubicBezTo>
                  <a:pt x="13683" y="15248"/>
                  <a:pt x="13715" y="15300"/>
                  <a:pt x="13717" y="15304"/>
                </a:cubicBezTo>
                <a:cubicBezTo>
                  <a:pt x="13717" y="15332"/>
                  <a:pt x="13719" y="15338"/>
                  <a:pt x="13742" y="15304"/>
                </a:cubicBezTo>
              </a:path>
              <a:path w="1986" h="894">
                <a:moveTo>
                  <a:pt x="13791" y="14957"/>
                </a:moveTo>
                <a:cubicBezTo>
                  <a:pt x="13727" y="15031"/>
                  <a:pt x="13684" y="15093"/>
                  <a:pt x="13643" y="15180"/>
                </a:cubicBezTo>
                <a:cubicBezTo>
                  <a:pt x="13616" y="15237"/>
                  <a:pt x="13565" y="15299"/>
                  <a:pt x="13543" y="15354"/>
                </a:cubicBezTo>
                <a:cubicBezTo>
                  <a:pt x="13543" y="15379"/>
                  <a:pt x="13543" y="15387"/>
                  <a:pt x="13543" y="15354"/>
                </a:cubicBezTo>
              </a:path>
              <a:path w="1986" h="894">
                <a:moveTo>
                  <a:pt x="14089" y="14536"/>
                </a:moveTo>
                <a:cubicBezTo>
                  <a:pt x="14167" y="14536"/>
                  <a:pt x="14244" y="14538"/>
                  <a:pt x="14288" y="14560"/>
                </a:cubicBezTo>
                <a:cubicBezTo>
                  <a:pt x="14321" y="14577"/>
                  <a:pt x="14309" y="14639"/>
                  <a:pt x="14288" y="14684"/>
                </a:cubicBezTo>
                <a:cubicBezTo>
                  <a:pt x="14266" y="14731"/>
                  <a:pt x="14199" y="14752"/>
                  <a:pt x="14163" y="14784"/>
                </a:cubicBezTo>
                <a:cubicBezTo>
                  <a:pt x="14130" y="14814"/>
                  <a:pt x="14098" y="14830"/>
                  <a:pt x="14089" y="14858"/>
                </a:cubicBezTo>
                <a:cubicBezTo>
                  <a:pt x="14112" y="14903"/>
                  <a:pt x="14134" y="14908"/>
                  <a:pt x="14188" y="14908"/>
                </a:cubicBezTo>
                <a:cubicBezTo>
                  <a:pt x="14263" y="14908"/>
                  <a:pt x="14337" y="14908"/>
                  <a:pt x="14412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7240" y="5205240"/>
            <a:ext cx="2054160" cy="339840"/>
          </a:xfrm>
          <a:custGeom>
            <a:avLst/>
            <a:gdLst/>
            <a:ahLst/>
            <a:rect l="l" t="t" r="r" b="b"/>
            <a:pathLst>
              <a:path w="5706" h="944">
                <a:moveTo>
                  <a:pt x="14908" y="14982"/>
                </a:moveTo>
                <a:cubicBezTo>
                  <a:pt x="15032" y="14982"/>
                  <a:pt x="15156" y="14982"/>
                  <a:pt x="15280" y="14982"/>
                </a:cubicBezTo>
              </a:path>
              <a:path w="5706" h="944">
                <a:moveTo>
                  <a:pt x="15627" y="14560"/>
                </a:moveTo>
                <a:cubicBezTo>
                  <a:pt x="15635" y="14558"/>
                  <a:pt x="15724" y="14539"/>
                  <a:pt x="15726" y="14536"/>
                </a:cubicBezTo>
                <a:cubicBezTo>
                  <a:pt x="15750" y="14506"/>
                  <a:pt x="15773" y="14511"/>
                  <a:pt x="15825" y="14511"/>
                </a:cubicBezTo>
                <a:cubicBezTo>
                  <a:pt x="15876" y="14511"/>
                  <a:pt x="15879" y="14525"/>
                  <a:pt x="15900" y="14536"/>
                </a:cubicBezTo>
                <a:cubicBezTo>
                  <a:pt x="15917" y="14545"/>
                  <a:pt x="15959" y="14555"/>
                  <a:pt x="15974" y="14585"/>
                </a:cubicBezTo>
                <a:cubicBezTo>
                  <a:pt x="15990" y="14618"/>
                  <a:pt x="15999" y="14610"/>
                  <a:pt x="15999" y="14660"/>
                </a:cubicBezTo>
                <a:cubicBezTo>
                  <a:pt x="15999" y="14702"/>
                  <a:pt x="15945" y="14749"/>
                  <a:pt x="15925" y="14784"/>
                </a:cubicBezTo>
                <a:cubicBezTo>
                  <a:pt x="15901" y="14827"/>
                  <a:pt x="15844" y="14866"/>
                  <a:pt x="15825" y="14908"/>
                </a:cubicBezTo>
                <a:cubicBezTo>
                  <a:pt x="15817" y="14925"/>
                  <a:pt x="15804" y="14968"/>
                  <a:pt x="15776" y="14982"/>
                </a:cubicBezTo>
                <a:cubicBezTo>
                  <a:pt x="15746" y="14997"/>
                  <a:pt x="15736" y="15001"/>
                  <a:pt x="15701" y="15032"/>
                </a:cubicBezTo>
                <a:cubicBezTo>
                  <a:pt x="15668" y="15061"/>
                  <a:pt x="15642" y="15060"/>
                  <a:pt x="15627" y="15106"/>
                </a:cubicBezTo>
                <a:cubicBezTo>
                  <a:pt x="15616" y="15140"/>
                  <a:pt x="15592" y="15136"/>
                  <a:pt x="15577" y="15180"/>
                </a:cubicBezTo>
                <a:cubicBezTo>
                  <a:pt x="15564" y="15219"/>
                  <a:pt x="15549" y="15273"/>
                  <a:pt x="15528" y="15304"/>
                </a:cubicBezTo>
                <a:cubicBezTo>
                  <a:pt x="15505" y="15327"/>
                  <a:pt x="15497" y="15331"/>
                  <a:pt x="15503" y="15354"/>
                </a:cubicBezTo>
                <a:cubicBezTo>
                  <a:pt x="15542" y="15354"/>
                  <a:pt x="15596" y="15391"/>
                  <a:pt x="15627" y="15379"/>
                </a:cubicBezTo>
                <a:cubicBezTo>
                  <a:pt x="15674" y="15360"/>
                  <a:pt x="15723" y="15348"/>
                  <a:pt x="15776" y="15329"/>
                </a:cubicBezTo>
                <a:cubicBezTo>
                  <a:pt x="15903" y="15285"/>
                  <a:pt x="15944" y="15288"/>
                  <a:pt x="16049" y="15230"/>
                </a:cubicBezTo>
              </a:path>
              <a:path w="5706" h="944">
                <a:moveTo>
                  <a:pt x="16446" y="14461"/>
                </a:moveTo>
                <a:cubicBezTo>
                  <a:pt x="16422" y="14493"/>
                  <a:pt x="16403" y="14550"/>
                  <a:pt x="16396" y="14585"/>
                </a:cubicBezTo>
                <a:cubicBezTo>
                  <a:pt x="16384" y="14643"/>
                  <a:pt x="16382" y="14741"/>
                  <a:pt x="16421" y="14784"/>
                </a:cubicBezTo>
                <a:cubicBezTo>
                  <a:pt x="16455" y="14821"/>
                  <a:pt x="16497" y="14808"/>
                  <a:pt x="16545" y="14808"/>
                </a:cubicBezTo>
                <a:cubicBezTo>
                  <a:pt x="16610" y="14808"/>
                  <a:pt x="16644" y="14804"/>
                  <a:pt x="16694" y="14759"/>
                </a:cubicBezTo>
                <a:cubicBezTo>
                  <a:pt x="16702" y="14751"/>
                  <a:pt x="16710" y="14742"/>
                  <a:pt x="16718" y="14734"/>
                </a:cubicBezTo>
              </a:path>
              <a:path w="5706" h="944">
                <a:moveTo>
                  <a:pt x="16768" y="14511"/>
                </a:moveTo>
                <a:cubicBezTo>
                  <a:pt x="16768" y="14568"/>
                  <a:pt x="16752" y="14607"/>
                  <a:pt x="16743" y="14660"/>
                </a:cubicBezTo>
                <a:cubicBezTo>
                  <a:pt x="16726" y="14763"/>
                  <a:pt x="16740" y="14882"/>
                  <a:pt x="16718" y="14982"/>
                </a:cubicBezTo>
                <a:cubicBezTo>
                  <a:pt x="16702" y="15054"/>
                  <a:pt x="16681" y="15133"/>
                  <a:pt x="16669" y="15205"/>
                </a:cubicBezTo>
                <a:cubicBezTo>
                  <a:pt x="16659" y="15263"/>
                  <a:pt x="16661" y="15357"/>
                  <a:pt x="16694" y="15379"/>
                </a:cubicBezTo>
              </a:path>
              <a:path w="5706" h="944">
                <a:moveTo>
                  <a:pt x="17289" y="14536"/>
                </a:moveTo>
                <a:cubicBezTo>
                  <a:pt x="17289" y="14528"/>
                  <a:pt x="17289" y="14519"/>
                  <a:pt x="17289" y="14511"/>
                </a:cubicBezTo>
                <a:cubicBezTo>
                  <a:pt x="17252" y="14523"/>
                  <a:pt x="17260" y="14533"/>
                  <a:pt x="17239" y="14560"/>
                </a:cubicBezTo>
                <a:cubicBezTo>
                  <a:pt x="17200" y="14611"/>
                  <a:pt x="17154" y="14658"/>
                  <a:pt x="17115" y="14709"/>
                </a:cubicBezTo>
                <a:cubicBezTo>
                  <a:pt x="17081" y="14754"/>
                  <a:pt x="17026" y="14825"/>
                  <a:pt x="17016" y="14883"/>
                </a:cubicBezTo>
                <a:cubicBezTo>
                  <a:pt x="17004" y="14949"/>
                  <a:pt x="16991" y="15013"/>
                  <a:pt x="16991" y="15081"/>
                </a:cubicBezTo>
                <a:cubicBezTo>
                  <a:pt x="16991" y="15164"/>
                  <a:pt x="17016" y="15154"/>
                  <a:pt x="17041" y="15230"/>
                </a:cubicBezTo>
                <a:cubicBezTo>
                  <a:pt x="17053" y="15266"/>
                  <a:pt x="17075" y="15291"/>
                  <a:pt x="17115" y="15304"/>
                </a:cubicBezTo>
                <a:cubicBezTo>
                  <a:pt x="17145" y="15314"/>
                  <a:pt x="17194" y="15293"/>
                  <a:pt x="17214" y="15280"/>
                </a:cubicBezTo>
                <a:cubicBezTo>
                  <a:pt x="17245" y="15259"/>
                  <a:pt x="17278" y="15188"/>
                  <a:pt x="17289" y="15156"/>
                </a:cubicBezTo>
                <a:cubicBezTo>
                  <a:pt x="17299" y="15127"/>
                  <a:pt x="17274" y="15086"/>
                  <a:pt x="17264" y="15081"/>
                </a:cubicBezTo>
                <a:cubicBezTo>
                  <a:pt x="17243" y="15070"/>
                  <a:pt x="17158" y="15117"/>
                  <a:pt x="17140" y="15131"/>
                </a:cubicBezTo>
                <a:cubicBezTo>
                  <a:pt x="17118" y="15148"/>
                  <a:pt x="17004" y="15239"/>
                  <a:pt x="17016" y="15255"/>
                </a:cubicBezTo>
                <a:cubicBezTo>
                  <a:pt x="17041" y="15255"/>
                  <a:pt x="17049" y="15255"/>
                  <a:pt x="17066" y="15255"/>
                </a:cubicBezTo>
              </a:path>
              <a:path w="5706" h="944">
                <a:moveTo>
                  <a:pt x="17711" y="14883"/>
                </a:moveTo>
                <a:cubicBezTo>
                  <a:pt x="17720" y="14921"/>
                  <a:pt x="17722" y="14968"/>
                  <a:pt x="17735" y="15007"/>
                </a:cubicBezTo>
                <a:cubicBezTo>
                  <a:pt x="17753" y="15061"/>
                  <a:pt x="17775" y="15132"/>
                  <a:pt x="17785" y="15180"/>
                </a:cubicBezTo>
                <a:cubicBezTo>
                  <a:pt x="17792" y="15213"/>
                  <a:pt x="17793" y="15275"/>
                  <a:pt x="17810" y="15304"/>
                </a:cubicBezTo>
                <a:cubicBezTo>
                  <a:pt x="17829" y="15338"/>
                  <a:pt x="17832" y="15345"/>
                  <a:pt x="17859" y="15354"/>
                </a:cubicBezTo>
              </a:path>
              <a:path w="5706" h="944">
                <a:moveTo>
                  <a:pt x="17983" y="14957"/>
                </a:moveTo>
                <a:cubicBezTo>
                  <a:pt x="17975" y="14957"/>
                  <a:pt x="17967" y="14957"/>
                  <a:pt x="17959" y="14957"/>
                </a:cubicBezTo>
                <a:cubicBezTo>
                  <a:pt x="17949" y="14986"/>
                  <a:pt x="17938" y="15000"/>
                  <a:pt x="17909" y="15032"/>
                </a:cubicBezTo>
                <a:cubicBezTo>
                  <a:pt x="17868" y="15077"/>
                  <a:pt x="17846" y="15132"/>
                  <a:pt x="17810" y="15180"/>
                </a:cubicBezTo>
                <a:cubicBezTo>
                  <a:pt x="17780" y="15220"/>
                  <a:pt x="17702" y="15277"/>
                  <a:pt x="17686" y="15304"/>
                </a:cubicBezTo>
                <a:cubicBezTo>
                  <a:pt x="17686" y="15312"/>
                  <a:pt x="17686" y="15321"/>
                  <a:pt x="17686" y="15329"/>
                </a:cubicBezTo>
              </a:path>
              <a:path w="5706" h="944">
                <a:moveTo>
                  <a:pt x="18231" y="15081"/>
                </a:moveTo>
                <a:cubicBezTo>
                  <a:pt x="18239" y="15081"/>
                  <a:pt x="18248" y="15081"/>
                  <a:pt x="18256" y="15081"/>
                </a:cubicBezTo>
                <a:cubicBezTo>
                  <a:pt x="18268" y="15045"/>
                  <a:pt x="18269" y="15045"/>
                  <a:pt x="18281" y="15081"/>
                </a:cubicBezTo>
                <a:cubicBezTo>
                  <a:pt x="18372" y="15081"/>
                  <a:pt x="18463" y="15081"/>
                  <a:pt x="18554" y="15081"/>
                </a:cubicBezTo>
                <a:cubicBezTo>
                  <a:pt x="18554" y="15056"/>
                  <a:pt x="18554" y="15048"/>
                  <a:pt x="18579" y="15056"/>
                </a:cubicBezTo>
              </a:path>
              <a:path w="5706" h="944">
                <a:moveTo>
                  <a:pt x="18430" y="14932"/>
                </a:moveTo>
                <a:cubicBezTo>
                  <a:pt x="18430" y="14979"/>
                  <a:pt x="18413" y="14995"/>
                  <a:pt x="18405" y="15032"/>
                </a:cubicBezTo>
                <a:cubicBezTo>
                  <a:pt x="18394" y="15084"/>
                  <a:pt x="18384" y="15130"/>
                  <a:pt x="18380" y="15180"/>
                </a:cubicBezTo>
                <a:cubicBezTo>
                  <a:pt x="18377" y="15213"/>
                  <a:pt x="18380" y="15247"/>
                  <a:pt x="18380" y="15280"/>
                </a:cubicBezTo>
              </a:path>
              <a:path w="5706" h="944">
                <a:moveTo>
                  <a:pt x="18926" y="14635"/>
                </a:moveTo>
                <a:cubicBezTo>
                  <a:pt x="18990" y="14598"/>
                  <a:pt x="19021" y="14575"/>
                  <a:pt x="19100" y="14585"/>
                </a:cubicBezTo>
                <a:cubicBezTo>
                  <a:pt x="19164" y="14593"/>
                  <a:pt x="19377" y="14584"/>
                  <a:pt x="19348" y="14709"/>
                </a:cubicBezTo>
                <a:cubicBezTo>
                  <a:pt x="19339" y="14746"/>
                  <a:pt x="19307" y="14851"/>
                  <a:pt x="19273" y="14883"/>
                </a:cubicBezTo>
                <a:cubicBezTo>
                  <a:pt x="19215" y="14937"/>
                  <a:pt x="19139" y="15006"/>
                  <a:pt x="19075" y="15056"/>
                </a:cubicBezTo>
                <a:cubicBezTo>
                  <a:pt x="18993" y="15120"/>
                  <a:pt x="18928" y="15191"/>
                  <a:pt x="18852" y="15255"/>
                </a:cubicBezTo>
                <a:cubicBezTo>
                  <a:pt x="18809" y="15292"/>
                  <a:pt x="18797" y="15309"/>
                  <a:pt x="18827" y="15354"/>
                </a:cubicBezTo>
                <a:cubicBezTo>
                  <a:pt x="18853" y="15393"/>
                  <a:pt x="18955" y="15401"/>
                  <a:pt x="19000" y="15404"/>
                </a:cubicBezTo>
                <a:cubicBezTo>
                  <a:pt x="19092" y="15409"/>
                  <a:pt x="19144" y="15394"/>
                  <a:pt x="19224" y="15354"/>
                </a:cubicBezTo>
              </a:path>
              <a:path w="5706" h="944">
                <a:moveTo>
                  <a:pt x="19993" y="14684"/>
                </a:moveTo>
                <a:cubicBezTo>
                  <a:pt x="19970" y="14661"/>
                  <a:pt x="19933" y="14612"/>
                  <a:pt x="19893" y="14635"/>
                </a:cubicBezTo>
                <a:cubicBezTo>
                  <a:pt x="19810" y="14682"/>
                  <a:pt x="19718" y="14745"/>
                  <a:pt x="19670" y="14833"/>
                </a:cubicBezTo>
                <a:cubicBezTo>
                  <a:pt x="19616" y="14933"/>
                  <a:pt x="19576" y="15044"/>
                  <a:pt x="19571" y="15156"/>
                </a:cubicBezTo>
                <a:cubicBezTo>
                  <a:pt x="19568" y="15228"/>
                  <a:pt x="19599" y="15281"/>
                  <a:pt x="19670" y="15304"/>
                </a:cubicBezTo>
                <a:cubicBezTo>
                  <a:pt x="19718" y="15320"/>
                  <a:pt x="19778" y="15298"/>
                  <a:pt x="19819" y="15280"/>
                </a:cubicBezTo>
                <a:cubicBezTo>
                  <a:pt x="19952" y="15222"/>
                  <a:pt x="20003" y="15074"/>
                  <a:pt x="20067" y="14957"/>
                </a:cubicBezTo>
                <a:cubicBezTo>
                  <a:pt x="20094" y="14909"/>
                  <a:pt x="20117" y="14764"/>
                  <a:pt x="20092" y="14709"/>
                </a:cubicBezTo>
                <a:cubicBezTo>
                  <a:pt x="20090" y="14706"/>
                  <a:pt x="20027" y="14687"/>
                  <a:pt x="20017" y="14684"/>
                </a:cubicBezTo>
              </a:path>
              <a:path w="5706" h="944">
                <a:moveTo>
                  <a:pt x="20290" y="14660"/>
                </a:moveTo>
                <a:cubicBezTo>
                  <a:pt x="20337" y="14660"/>
                  <a:pt x="20369" y="14680"/>
                  <a:pt x="20414" y="14684"/>
                </a:cubicBezTo>
                <a:cubicBezTo>
                  <a:pt x="20464" y="14689"/>
                  <a:pt x="20495" y="14704"/>
                  <a:pt x="20538" y="14709"/>
                </a:cubicBezTo>
                <a:cubicBezTo>
                  <a:pt x="20562" y="14712"/>
                  <a:pt x="20589" y="14709"/>
                  <a:pt x="20613" y="14709"/>
                </a:cubicBezTo>
                <a:cubicBezTo>
                  <a:pt x="20573" y="14722"/>
                  <a:pt x="20588" y="14757"/>
                  <a:pt x="20588" y="14808"/>
                </a:cubicBezTo>
                <a:cubicBezTo>
                  <a:pt x="20588" y="14849"/>
                  <a:pt x="20533" y="14893"/>
                  <a:pt x="20513" y="14932"/>
                </a:cubicBezTo>
                <a:cubicBezTo>
                  <a:pt x="20465" y="15024"/>
                  <a:pt x="20441" y="15081"/>
                  <a:pt x="20365" y="15156"/>
                </a:cubicBezTo>
                <a:cubicBezTo>
                  <a:pt x="20324" y="15197"/>
                  <a:pt x="20276" y="15253"/>
                  <a:pt x="20241" y="15280"/>
                </a:cubicBezTo>
                <a:cubicBezTo>
                  <a:pt x="20233" y="15288"/>
                  <a:pt x="20224" y="15296"/>
                  <a:pt x="20216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5010120"/>
            <a:ext cx="5653080" cy="919080"/>
          </a:xfrm>
          <a:custGeom>
            <a:avLst/>
            <a:gdLst/>
            <a:ahLst/>
            <a:rect l="l" t="t" r="r" b="b"/>
            <a:pathLst>
              <a:path w="15703" h="2556">
                <a:moveTo>
                  <a:pt x="5333" y="14337"/>
                </a:moveTo>
                <a:cubicBezTo>
                  <a:pt x="5317" y="14429"/>
                  <a:pt x="5298" y="14518"/>
                  <a:pt x="5283" y="14610"/>
                </a:cubicBezTo>
                <a:cubicBezTo>
                  <a:pt x="5262" y="14741"/>
                  <a:pt x="5246" y="14873"/>
                  <a:pt x="5234" y="15007"/>
                </a:cubicBezTo>
                <a:cubicBezTo>
                  <a:pt x="5225" y="15115"/>
                  <a:pt x="5218" y="15221"/>
                  <a:pt x="5209" y="15329"/>
                </a:cubicBezTo>
                <a:cubicBezTo>
                  <a:pt x="5198" y="15461"/>
                  <a:pt x="5189" y="15594"/>
                  <a:pt x="5184" y="15726"/>
                </a:cubicBezTo>
                <a:cubicBezTo>
                  <a:pt x="5178" y="15887"/>
                  <a:pt x="5151" y="16117"/>
                  <a:pt x="5209" y="16272"/>
                </a:cubicBezTo>
                <a:cubicBezTo>
                  <a:pt x="5230" y="16329"/>
                  <a:pt x="5229" y="16425"/>
                  <a:pt x="5283" y="16446"/>
                </a:cubicBezTo>
                <a:cubicBezTo>
                  <a:pt x="5373" y="16481"/>
                  <a:pt x="5414" y="16429"/>
                  <a:pt x="5507" y="16421"/>
                </a:cubicBezTo>
                <a:cubicBezTo>
                  <a:pt x="5983" y="16379"/>
                  <a:pt x="6488" y="16231"/>
                  <a:pt x="6970" y="16173"/>
                </a:cubicBezTo>
                <a:cubicBezTo>
                  <a:pt x="7410" y="16120"/>
                  <a:pt x="7843" y="16076"/>
                  <a:pt x="8285" y="16049"/>
                </a:cubicBezTo>
                <a:cubicBezTo>
                  <a:pt x="8631" y="16028"/>
                  <a:pt x="8981" y="16007"/>
                  <a:pt x="9327" y="15999"/>
                </a:cubicBezTo>
                <a:cubicBezTo>
                  <a:pt x="10244" y="15978"/>
                  <a:pt x="11171" y="15999"/>
                  <a:pt x="12080" y="15999"/>
                </a:cubicBezTo>
                <a:cubicBezTo>
                  <a:pt x="13149" y="15999"/>
                  <a:pt x="14214" y="15958"/>
                  <a:pt x="15280" y="15949"/>
                </a:cubicBezTo>
                <a:cubicBezTo>
                  <a:pt x="16449" y="15939"/>
                  <a:pt x="17614" y="15935"/>
                  <a:pt x="18777" y="15875"/>
                </a:cubicBezTo>
                <a:cubicBezTo>
                  <a:pt x="18968" y="15865"/>
                  <a:pt x="19158" y="15872"/>
                  <a:pt x="19348" y="15875"/>
                </a:cubicBezTo>
                <a:cubicBezTo>
                  <a:pt x="19615" y="15880"/>
                  <a:pt x="19889" y="15880"/>
                  <a:pt x="20141" y="15900"/>
                </a:cubicBezTo>
                <a:cubicBezTo>
                  <a:pt x="20256" y="15909"/>
                  <a:pt x="20357" y="15916"/>
                  <a:pt x="20464" y="15925"/>
                </a:cubicBezTo>
                <a:cubicBezTo>
                  <a:pt x="20478" y="15895"/>
                  <a:pt x="20473" y="15855"/>
                  <a:pt x="20489" y="15825"/>
                </a:cubicBezTo>
                <a:cubicBezTo>
                  <a:pt x="20520" y="15765"/>
                  <a:pt x="20559" y="15714"/>
                  <a:pt x="20588" y="15652"/>
                </a:cubicBezTo>
                <a:cubicBezTo>
                  <a:pt x="20648" y="15522"/>
                  <a:pt x="20721" y="15384"/>
                  <a:pt x="20762" y="15255"/>
                </a:cubicBezTo>
                <a:cubicBezTo>
                  <a:pt x="20798" y="15143"/>
                  <a:pt x="20812" y="15048"/>
                  <a:pt x="20836" y="14932"/>
                </a:cubicBezTo>
                <a:cubicBezTo>
                  <a:pt x="20847" y="14876"/>
                  <a:pt x="20856" y="14815"/>
                  <a:pt x="20861" y="14759"/>
                </a:cubicBezTo>
                <a:cubicBezTo>
                  <a:pt x="20865" y="14712"/>
                  <a:pt x="20889" y="14652"/>
                  <a:pt x="20886" y="14610"/>
                </a:cubicBezTo>
                <a:cubicBezTo>
                  <a:pt x="20882" y="14552"/>
                  <a:pt x="20878" y="14535"/>
                  <a:pt x="20861" y="14486"/>
                </a:cubicBezTo>
                <a:cubicBezTo>
                  <a:pt x="20853" y="14462"/>
                  <a:pt x="20849" y="14408"/>
                  <a:pt x="20836" y="14387"/>
                </a:cubicBezTo>
                <a:cubicBezTo>
                  <a:pt x="20816" y="14355"/>
                  <a:pt x="20769" y="14333"/>
                  <a:pt x="20737" y="14312"/>
                </a:cubicBezTo>
                <a:cubicBezTo>
                  <a:pt x="20708" y="14293"/>
                  <a:pt x="20650" y="14277"/>
                  <a:pt x="20613" y="14263"/>
                </a:cubicBezTo>
                <a:cubicBezTo>
                  <a:pt x="20544" y="14236"/>
                  <a:pt x="20414" y="14250"/>
                  <a:pt x="20340" y="14238"/>
                </a:cubicBezTo>
                <a:cubicBezTo>
                  <a:pt x="20076" y="14195"/>
                  <a:pt x="19810" y="14174"/>
                  <a:pt x="19546" y="14139"/>
                </a:cubicBezTo>
                <a:cubicBezTo>
                  <a:pt x="19354" y="14114"/>
                  <a:pt x="19169" y="14083"/>
                  <a:pt x="18976" y="14064"/>
                </a:cubicBezTo>
                <a:cubicBezTo>
                  <a:pt x="18761" y="14043"/>
                  <a:pt x="18546" y="14010"/>
                  <a:pt x="18331" y="13990"/>
                </a:cubicBezTo>
                <a:cubicBezTo>
                  <a:pt x="18085" y="13967"/>
                  <a:pt x="17834" y="13957"/>
                  <a:pt x="17587" y="13940"/>
                </a:cubicBezTo>
                <a:cubicBezTo>
                  <a:pt x="17331" y="13923"/>
                  <a:pt x="17076" y="13917"/>
                  <a:pt x="16818" y="13915"/>
                </a:cubicBezTo>
                <a:cubicBezTo>
                  <a:pt x="15813" y="13908"/>
                  <a:pt x="14814" y="13968"/>
                  <a:pt x="13816" y="14039"/>
                </a:cubicBezTo>
                <a:cubicBezTo>
                  <a:pt x="13593" y="14055"/>
                  <a:pt x="13369" y="14071"/>
                  <a:pt x="13146" y="14089"/>
                </a:cubicBezTo>
                <a:cubicBezTo>
                  <a:pt x="12882" y="14110"/>
                  <a:pt x="12618" y="14139"/>
                  <a:pt x="12353" y="14163"/>
                </a:cubicBezTo>
                <a:cubicBezTo>
                  <a:pt x="12155" y="14181"/>
                  <a:pt x="11955" y="14197"/>
                  <a:pt x="11757" y="14213"/>
                </a:cubicBezTo>
                <a:cubicBezTo>
                  <a:pt x="11449" y="14238"/>
                  <a:pt x="11148" y="14297"/>
                  <a:pt x="10840" y="14337"/>
                </a:cubicBezTo>
                <a:cubicBezTo>
                  <a:pt x="10612" y="14366"/>
                  <a:pt x="10374" y="14394"/>
                  <a:pt x="10145" y="14412"/>
                </a:cubicBezTo>
                <a:cubicBezTo>
                  <a:pt x="9972" y="14426"/>
                  <a:pt x="9797" y="14424"/>
                  <a:pt x="9624" y="14436"/>
                </a:cubicBezTo>
                <a:cubicBezTo>
                  <a:pt x="9458" y="14447"/>
                  <a:pt x="9294" y="14449"/>
                  <a:pt x="9128" y="14461"/>
                </a:cubicBezTo>
                <a:cubicBezTo>
                  <a:pt x="8978" y="14472"/>
                  <a:pt x="8831" y="14475"/>
                  <a:pt x="8682" y="14486"/>
                </a:cubicBezTo>
                <a:cubicBezTo>
                  <a:pt x="8540" y="14497"/>
                  <a:pt x="8401" y="14501"/>
                  <a:pt x="8260" y="14511"/>
                </a:cubicBezTo>
                <a:cubicBezTo>
                  <a:pt x="8110" y="14522"/>
                  <a:pt x="7962" y="14524"/>
                  <a:pt x="7813" y="14536"/>
                </a:cubicBezTo>
                <a:cubicBezTo>
                  <a:pt x="7681" y="14546"/>
                  <a:pt x="7550" y="14549"/>
                  <a:pt x="7417" y="14560"/>
                </a:cubicBezTo>
                <a:cubicBezTo>
                  <a:pt x="7082" y="14589"/>
                  <a:pt x="6728" y="14599"/>
                  <a:pt x="6400" y="14585"/>
                </a:cubicBezTo>
                <a:cubicBezTo>
                  <a:pt x="6229" y="14578"/>
                  <a:pt x="6073" y="14546"/>
                  <a:pt x="5904" y="14536"/>
                </a:cubicBezTo>
                <a:cubicBezTo>
                  <a:pt x="5726" y="14526"/>
                  <a:pt x="5555" y="14544"/>
                  <a:pt x="5383" y="14560"/>
                </a:cubicBezTo>
                <a:cubicBezTo>
                  <a:pt x="5355" y="14563"/>
                  <a:pt x="5300" y="14580"/>
                  <a:pt x="5259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92080" y="1312920"/>
            <a:ext cx="590760" cy="544320"/>
          </a:xfrm>
          <a:custGeom>
            <a:avLst/>
            <a:gdLst/>
            <a:ahLst/>
            <a:rect l="l" t="t" r="r" b="b"/>
            <a:pathLst>
              <a:path w="1639" h="1514">
                <a:moveTo>
                  <a:pt x="2555" y="3820"/>
                </a:moveTo>
                <a:cubicBezTo>
                  <a:pt x="2569" y="3861"/>
                  <a:pt x="2580" y="3875"/>
                  <a:pt x="2580" y="3944"/>
                </a:cubicBezTo>
                <a:cubicBezTo>
                  <a:pt x="2580" y="4037"/>
                  <a:pt x="2557" y="4129"/>
                  <a:pt x="2530" y="4217"/>
                </a:cubicBezTo>
                <a:cubicBezTo>
                  <a:pt x="2513" y="4271"/>
                  <a:pt x="2485" y="4336"/>
                  <a:pt x="2480" y="4390"/>
                </a:cubicBezTo>
                <a:cubicBezTo>
                  <a:pt x="2480" y="4398"/>
                  <a:pt x="2480" y="4407"/>
                  <a:pt x="2480" y="4415"/>
                </a:cubicBezTo>
                <a:cubicBezTo>
                  <a:pt x="2530" y="4402"/>
                  <a:pt x="2544" y="4390"/>
                  <a:pt x="2604" y="4390"/>
                </a:cubicBezTo>
                <a:cubicBezTo>
                  <a:pt x="2716" y="4390"/>
                  <a:pt x="2828" y="4395"/>
                  <a:pt x="2927" y="4366"/>
                </a:cubicBezTo>
                <a:cubicBezTo>
                  <a:pt x="2972" y="4353"/>
                  <a:pt x="2990" y="4338"/>
                  <a:pt x="3001" y="4291"/>
                </a:cubicBezTo>
              </a:path>
              <a:path w="1639" h="1514">
                <a:moveTo>
                  <a:pt x="2952" y="3870"/>
                </a:moveTo>
                <a:cubicBezTo>
                  <a:pt x="2981" y="3984"/>
                  <a:pt x="2998" y="4098"/>
                  <a:pt x="3001" y="4217"/>
                </a:cubicBezTo>
                <a:cubicBezTo>
                  <a:pt x="3005" y="4386"/>
                  <a:pt x="3022" y="4544"/>
                  <a:pt x="3026" y="4713"/>
                </a:cubicBezTo>
                <a:cubicBezTo>
                  <a:pt x="3027" y="4744"/>
                  <a:pt x="3026" y="5010"/>
                  <a:pt x="3026" y="4887"/>
                </a:cubicBezTo>
                <a:cubicBezTo>
                  <a:pt x="3026" y="4879"/>
                  <a:pt x="3026" y="4870"/>
                  <a:pt x="3026" y="4862"/>
                </a:cubicBezTo>
              </a:path>
              <a:path w="1639" h="1514">
                <a:moveTo>
                  <a:pt x="3249" y="3969"/>
                </a:moveTo>
                <a:cubicBezTo>
                  <a:pt x="3346" y="3888"/>
                  <a:pt x="3374" y="3870"/>
                  <a:pt x="3497" y="3870"/>
                </a:cubicBezTo>
                <a:cubicBezTo>
                  <a:pt x="3569" y="3870"/>
                  <a:pt x="3605" y="3921"/>
                  <a:pt x="3621" y="3994"/>
                </a:cubicBezTo>
                <a:cubicBezTo>
                  <a:pt x="3642" y="4092"/>
                  <a:pt x="3594" y="4144"/>
                  <a:pt x="3547" y="4217"/>
                </a:cubicBezTo>
                <a:cubicBezTo>
                  <a:pt x="3506" y="4282"/>
                  <a:pt x="3456" y="4318"/>
                  <a:pt x="3398" y="4366"/>
                </a:cubicBezTo>
                <a:cubicBezTo>
                  <a:pt x="3390" y="4374"/>
                  <a:pt x="3381" y="4382"/>
                  <a:pt x="3373" y="4390"/>
                </a:cubicBezTo>
                <a:cubicBezTo>
                  <a:pt x="3438" y="4390"/>
                  <a:pt x="3479" y="4391"/>
                  <a:pt x="3547" y="4415"/>
                </a:cubicBezTo>
                <a:cubicBezTo>
                  <a:pt x="3617" y="4440"/>
                  <a:pt x="3700" y="4487"/>
                  <a:pt x="3721" y="4564"/>
                </a:cubicBezTo>
                <a:cubicBezTo>
                  <a:pt x="3739" y="4628"/>
                  <a:pt x="3710" y="4712"/>
                  <a:pt x="3671" y="4762"/>
                </a:cubicBezTo>
                <a:cubicBezTo>
                  <a:pt x="3617" y="4831"/>
                  <a:pt x="3526" y="4881"/>
                  <a:pt x="3448" y="4911"/>
                </a:cubicBezTo>
                <a:cubicBezTo>
                  <a:pt x="3394" y="4931"/>
                  <a:pt x="3274" y="4952"/>
                  <a:pt x="3225" y="4911"/>
                </a:cubicBezTo>
                <a:cubicBezTo>
                  <a:pt x="3177" y="4870"/>
                  <a:pt x="3180" y="4791"/>
                  <a:pt x="3175" y="4738"/>
                </a:cubicBezTo>
              </a:path>
              <a:path w="1639" h="1514">
                <a:moveTo>
                  <a:pt x="3101" y="3696"/>
                </a:moveTo>
                <a:cubicBezTo>
                  <a:pt x="3260" y="3650"/>
                  <a:pt x="3385" y="3623"/>
                  <a:pt x="3547" y="3696"/>
                </a:cubicBezTo>
                <a:cubicBezTo>
                  <a:pt x="3729" y="3778"/>
                  <a:pt x="3880" y="3906"/>
                  <a:pt x="3994" y="4068"/>
                </a:cubicBezTo>
                <a:cubicBezTo>
                  <a:pt x="4080" y="4190"/>
                  <a:pt x="4153" y="4412"/>
                  <a:pt x="4118" y="4564"/>
                </a:cubicBezTo>
                <a:cubicBezTo>
                  <a:pt x="4089" y="4693"/>
                  <a:pt x="4005" y="4835"/>
                  <a:pt x="3919" y="4936"/>
                </a:cubicBezTo>
                <a:cubicBezTo>
                  <a:pt x="3860" y="5006"/>
                  <a:pt x="3771" y="5092"/>
                  <a:pt x="3696" y="5135"/>
                </a:cubicBezTo>
                <a:cubicBezTo>
                  <a:pt x="3672" y="5149"/>
                  <a:pt x="3695" y="5144"/>
                  <a:pt x="3671" y="51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85960" y="1268280"/>
            <a:ext cx="3608280" cy="669960"/>
          </a:xfrm>
          <a:custGeom>
            <a:avLst/>
            <a:gdLst/>
            <a:ahLst/>
            <a:rect l="l" t="t" r="r" b="b"/>
            <a:pathLst>
              <a:path w="10022" h="1862">
                <a:moveTo>
                  <a:pt x="4961" y="4638"/>
                </a:moveTo>
                <a:cubicBezTo>
                  <a:pt x="5076" y="4638"/>
                  <a:pt x="5174" y="4620"/>
                  <a:pt x="5283" y="4614"/>
                </a:cubicBezTo>
                <a:cubicBezTo>
                  <a:pt x="5343" y="4611"/>
                  <a:pt x="5492" y="4642"/>
                  <a:pt x="5457" y="4589"/>
                </a:cubicBezTo>
              </a:path>
              <a:path w="10022" h="1862">
                <a:moveTo>
                  <a:pt x="5581" y="4266"/>
                </a:moveTo>
                <a:cubicBezTo>
                  <a:pt x="5668" y="4225"/>
                  <a:pt x="5795" y="4136"/>
                  <a:pt x="5904" y="4167"/>
                </a:cubicBezTo>
                <a:cubicBezTo>
                  <a:pt x="5979" y="4188"/>
                  <a:pt x="6022" y="4218"/>
                  <a:pt x="6028" y="4291"/>
                </a:cubicBezTo>
                <a:cubicBezTo>
                  <a:pt x="6035" y="4369"/>
                  <a:pt x="5926" y="4449"/>
                  <a:pt x="5854" y="4465"/>
                </a:cubicBezTo>
                <a:cubicBezTo>
                  <a:pt x="5794" y="4478"/>
                  <a:pt x="5788" y="4481"/>
                  <a:pt x="5730" y="4514"/>
                </a:cubicBezTo>
                <a:cubicBezTo>
                  <a:pt x="5797" y="4514"/>
                  <a:pt x="5842" y="4511"/>
                  <a:pt x="5904" y="4539"/>
                </a:cubicBezTo>
                <a:cubicBezTo>
                  <a:pt x="5974" y="4570"/>
                  <a:pt x="6054" y="4607"/>
                  <a:pt x="6077" y="4688"/>
                </a:cubicBezTo>
                <a:cubicBezTo>
                  <a:pt x="6093" y="4746"/>
                  <a:pt x="6076" y="4811"/>
                  <a:pt x="6052" y="4862"/>
                </a:cubicBezTo>
                <a:cubicBezTo>
                  <a:pt x="6013" y="4945"/>
                  <a:pt x="5933" y="4952"/>
                  <a:pt x="5854" y="4986"/>
                </a:cubicBezTo>
                <a:cubicBezTo>
                  <a:pt x="5800" y="5009"/>
                  <a:pt x="5691" y="5048"/>
                  <a:pt x="5631" y="5035"/>
                </a:cubicBezTo>
                <a:cubicBezTo>
                  <a:pt x="5591" y="5026"/>
                  <a:pt x="5560" y="5008"/>
                  <a:pt x="5531" y="4986"/>
                </a:cubicBezTo>
                <a:cubicBezTo>
                  <a:pt x="5551" y="4904"/>
                  <a:pt x="5671" y="4821"/>
                  <a:pt x="5730" y="4762"/>
                </a:cubicBezTo>
              </a:path>
              <a:path w="10022" h="1862">
                <a:moveTo>
                  <a:pt x="6747" y="3820"/>
                </a:moveTo>
                <a:cubicBezTo>
                  <a:pt x="6755" y="3820"/>
                  <a:pt x="6764" y="3820"/>
                  <a:pt x="6772" y="3820"/>
                </a:cubicBezTo>
                <a:cubicBezTo>
                  <a:pt x="6747" y="3870"/>
                  <a:pt x="6701" y="3918"/>
                  <a:pt x="6672" y="3969"/>
                </a:cubicBezTo>
                <a:cubicBezTo>
                  <a:pt x="6582" y="4126"/>
                  <a:pt x="6500" y="4276"/>
                  <a:pt x="6424" y="4440"/>
                </a:cubicBezTo>
                <a:cubicBezTo>
                  <a:pt x="6360" y="4578"/>
                  <a:pt x="6350" y="4687"/>
                  <a:pt x="6350" y="4837"/>
                </a:cubicBezTo>
                <a:cubicBezTo>
                  <a:pt x="6350" y="4911"/>
                  <a:pt x="6400" y="4981"/>
                  <a:pt x="6449" y="5035"/>
                </a:cubicBezTo>
                <a:cubicBezTo>
                  <a:pt x="6463" y="5050"/>
                  <a:pt x="6548" y="5098"/>
                  <a:pt x="6548" y="5110"/>
                </a:cubicBezTo>
                <a:cubicBezTo>
                  <a:pt x="6540" y="5110"/>
                  <a:pt x="6532" y="5110"/>
                  <a:pt x="6524" y="5110"/>
                </a:cubicBezTo>
              </a:path>
              <a:path w="10022" h="1862">
                <a:moveTo>
                  <a:pt x="6896" y="4415"/>
                </a:moveTo>
                <a:cubicBezTo>
                  <a:pt x="6973" y="4534"/>
                  <a:pt x="7042" y="4630"/>
                  <a:pt x="7094" y="4762"/>
                </a:cubicBezTo>
                <a:cubicBezTo>
                  <a:pt x="7146" y="4892"/>
                  <a:pt x="7215" y="4957"/>
                  <a:pt x="7317" y="5060"/>
                </a:cubicBezTo>
                <a:cubicBezTo>
                  <a:pt x="7329" y="5072"/>
                  <a:pt x="7397" y="5109"/>
                  <a:pt x="7417" y="5085"/>
                </a:cubicBezTo>
                <a:cubicBezTo>
                  <a:pt x="7417" y="5077"/>
                  <a:pt x="7417" y="5068"/>
                  <a:pt x="7417" y="5060"/>
                </a:cubicBezTo>
              </a:path>
              <a:path w="10022" h="1862">
                <a:moveTo>
                  <a:pt x="7342" y="4415"/>
                </a:moveTo>
                <a:cubicBezTo>
                  <a:pt x="7246" y="4538"/>
                  <a:pt x="7173" y="4654"/>
                  <a:pt x="7094" y="4787"/>
                </a:cubicBezTo>
                <a:cubicBezTo>
                  <a:pt x="7042" y="4875"/>
                  <a:pt x="6969" y="4947"/>
                  <a:pt x="6921" y="5035"/>
                </a:cubicBezTo>
                <a:cubicBezTo>
                  <a:pt x="6896" y="5080"/>
                  <a:pt x="6881" y="5123"/>
                  <a:pt x="6846" y="5135"/>
                </a:cubicBezTo>
              </a:path>
              <a:path w="10022" h="1862">
                <a:moveTo>
                  <a:pt x="7590" y="4663"/>
                </a:moveTo>
                <a:cubicBezTo>
                  <a:pt x="7689" y="4663"/>
                  <a:pt x="7789" y="4663"/>
                  <a:pt x="7888" y="4663"/>
                </a:cubicBezTo>
              </a:path>
              <a:path w="10022" h="1862">
                <a:moveTo>
                  <a:pt x="7938" y="4440"/>
                </a:moveTo>
                <a:cubicBezTo>
                  <a:pt x="8078" y="4370"/>
                  <a:pt x="8194" y="4289"/>
                  <a:pt x="8334" y="4415"/>
                </a:cubicBezTo>
                <a:cubicBezTo>
                  <a:pt x="8403" y="4477"/>
                  <a:pt x="8382" y="4565"/>
                  <a:pt x="8359" y="4638"/>
                </a:cubicBezTo>
                <a:cubicBezTo>
                  <a:pt x="8324" y="4752"/>
                  <a:pt x="8246" y="4813"/>
                  <a:pt x="8186" y="4911"/>
                </a:cubicBezTo>
                <a:cubicBezTo>
                  <a:pt x="8155" y="4960"/>
                  <a:pt x="8117" y="5028"/>
                  <a:pt x="8111" y="5085"/>
                </a:cubicBezTo>
                <a:cubicBezTo>
                  <a:pt x="8111" y="5093"/>
                  <a:pt x="8111" y="5102"/>
                  <a:pt x="8111" y="5110"/>
                </a:cubicBezTo>
                <a:cubicBezTo>
                  <a:pt x="8167" y="5152"/>
                  <a:pt x="8215" y="5137"/>
                  <a:pt x="8285" y="5110"/>
                </a:cubicBezTo>
                <a:cubicBezTo>
                  <a:pt x="8382" y="5073"/>
                  <a:pt x="8472" y="4993"/>
                  <a:pt x="8558" y="4936"/>
                </a:cubicBezTo>
              </a:path>
              <a:path w="10022" h="1862">
                <a:moveTo>
                  <a:pt x="8706" y="4018"/>
                </a:moveTo>
                <a:cubicBezTo>
                  <a:pt x="8789" y="4109"/>
                  <a:pt x="8828" y="4181"/>
                  <a:pt x="8880" y="4291"/>
                </a:cubicBezTo>
                <a:cubicBezTo>
                  <a:pt x="8953" y="4445"/>
                  <a:pt x="8975" y="4593"/>
                  <a:pt x="8979" y="4762"/>
                </a:cubicBezTo>
                <a:cubicBezTo>
                  <a:pt x="8983" y="4906"/>
                  <a:pt x="8990" y="5034"/>
                  <a:pt x="8905" y="5159"/>
                </a:cubicBezTo>
                <a:cubicBezTo>
                  <a:pt x="8867" y="5215"/>
                  <a:pt x="8742" y="5338"/>
                  <a:pt x="8682" y="5358"/>
                </a:cubicBezTo>
                <a:cubicBezTo>
                  <a:pt x="8593" y="5388"/>
                  <a:pt x="8553" y="5399"/>
                  <a:pt x="8533" y="5333"/>
                </a:cubicBezTo>
                <a:cubicBezTo>
                  <a:pt x="8533" y="5325"/>
                  <a:pt x="8533" y="5316"/>
                  <a:pt x="8533" y="5308"/>
                </a:cubicBezTo>
              </a:path>
              <a:path w="10022" h="1862">
                <a:moveTo>
                  <a:pt x="9178" y="3572"/>
                </a:moveTo>
                <a:cubicBezTo>
                  <a:pt x="9295" y="3529"/>
                  <a:pt x="9329" y="3525"/>
                  <a:pt x="9451" y="3547"/>
                </a:cubicBezTo>
                <a:cubicBezTo>
                  <a:pt x="9502" y="3556"/>
                  <a:pt x="9558" y="3580"/>
                  <a:pt x="9525" y="3646"/>
                </a:cubicBezTo>
                <a:cubicBezTo>
                  <a:pt x="9501" y="3693"/>
                  <a:pt x="9439" y="3718"/>
                  <a:pt x="9401" y="3746"/>
                </a:cubicBezTo>
                <a:cubicBezTo>
                  <a:pt x="9369" y="3769"/>
                  <a:pt x="9358" y="3771"/>
                  <a:pt x="9327" y="3795"/>
                </a:cubicBezTo>
                <a:cubicBezTo>
                  <a:pt x="9374" y="3807"/>
                  <a:pt x="9413" y="3860"/>
                  <a:pt x="9451" y="3894"/>
                </a:cubicBezTo>
                <a:cubicBezTo>
                  <a:pt x="9501" y="3938"/>
                  <a:pt x="9586" y="3978"/>
                  <a:pt x="9599" y="4043"/>
                </a:cubicBezTo>
                <a:cubicBezTo>
                  <a:pt x="9610" y="4101"/>
                  <a:pt x="9513" y="4123"/>
                  <a:pt x="9475" y="4142"/>
                </a:cubicBezTo>
                <a:cubicBezTo>
                  <a:pt x="9401" y="4179"/>
                  <a:pt x="9276" y="4188"/>
                  <a:pt x="9227" y="4242"/>
                </a:cubicBezTo>
                <a:cubicBezTo>
                  <a:pt x="9227" y="4250"/>
                  <a:pt x="9227" y="4258"/>
                  <a:pt x="9227" y="4266"/>
                </a:cubicBezTo>
              </a:path>
              <a:path w="10022" h="1862">
                <a:moveTo>
                  <a:pt x="9847" y="4887"/>
                </a:moveTo>
                <a:cubicBezTo>
                  <a:pt x="9918" y="4928"/>
                  <a:pt x="9946" y="4899"/>
                  <a:pt x="10021" y="4887"/>
                </a:cubicBezTo>
                <a:cubicBezTo>
                  <a:pt x="10094" y="4875"/>
                  <a:pt x="10174" y="4873"/>
                  <a:pt x="10244" y="4862"/>
                </a:cubicBezTo>
                <a:cubicBezTo>
                  <a:pt x="10300" y="4853"/>
                  <a:pt x="10430" y="4891"/>
                  <a:pt x="10443" y="4837"/>
                </a:cubicBezTo>
                <a:cubicBezTo>
                  <a:pt x="10443" y="4812"/>
                  <a:pt x="10443" y="4804"/>
                  <a:pt x="10443" y="4837"/>
                </a:cubicBezTo>
              </a:path>
              <a:path w="10022" h="1862">
                <a:moveTo>
                  <a:pt x="10889" y="4341"/>
                </a:moveTo>
                <a:cubicBezTo>
                  <a:pt x="10874" y="4399"/>
                  <a:pt x="10832" y="4464"/>
                  <a:pt x="10790" y="4514"/>
                </a:cubicBezTo>
                <a:cubicBezTo>
                  <a:pt x="10757" y="4554"/>
                  <a:pt x="10765" y="4588"/>
                  <a:pt x="10765" y="4638"/>
                </a:cubicBezTo>
                <a:cubicBezTo>
                  <a:pt x="10765" y="4686"/>
                  <a:pt x="10822" y="4702"/>
                  <a:pt x="10864" y="4713"/>
                </a:cubicBezTo>
                <a:cubicBezTo>
                  <a:pt x="10939" y="4732"/>
                  <a:pt x="11028" y="4699"/>
                  <a:pt x="11088" y="4688"/>
                </a:cubicBezTo>
                <a:cubicBezTo>
                  <a:pt x="11139" y="4688"/>
                  <a:pt x="11158" y="4687"/>
                  <a:pt x="11187" y="4663"/>
                </a:cubicBezTo>
              </a:path>
              <a:path w="10022" h="1862">
                <a:moveTo>
                  <a:pt x="11137" y="3994"/>
                </a:moveTo>
                <a:cubicBezTo>
                  <a:pt x="11121" y="4192"/>
                  <a:pt x="11103" y="4393"/>
                  <a:pt x="11088" y="4589"/>
                </a:cubicBezTo>
                <a:cubicBezTo>
                  <a:pt x="11078" y="4717"/>
                  <a:pt x="11082" y="4839"/>
                  <a:pt x="11063" y="4961"/>
                </a:cubicBezTo>
                <a:cubicBezTo>
                  <a:pt x="11061" y="4973"/>
                  <a:pt x="11042" y="5114"/>
                  <a:pt x="11038" y="5110"/>
                </a:cubicBezTo>
                <a:cubicBezTo>
                  <a:pt x="11038" y="5085"/>
                  <a:pt x="11038" y="5077"/>
                  <a:pt x="11038" y="5060"/>
                </a:cubicBezTo>
              </a:path>
              <a:path w="10022" h="1862">
                <a:moveTo>
                  <a:pt x="11857" y="3894"/>
                </a:moveTo>
                <a:cubicBezTo>
                  <a:pt x="11776" y="4085"/>
                  <a:pt x="11680" y="4269"/>
                  <a:pt x="11609" y="4465"/>
                </a:cubicBezTo>
                <a:cubicBezTo>
                  <a:pt x="11545" y="4642"/>
                  <a:pt x="11523" y="4781"/>
                  <a:pt x="11534" y="4961"/>
                </a:cubicBezTo>
                <a:cubicBezTo>
                  <a:pt x="11541" y="5072"/>
                  <a:pt x="11560" y="5149"/>
                  <a:pt x="11633" y="5234"/>
                </a:cubicBezTo>
                <a:cubicBezTo>
                  <a:pt x="11675" y="5284"/>
                  <a:pt x="11738" y="5261"/>
                  <a:pt x="11782" y="5234"/>
                </a:cubicBezTo>
              </a:path>
              <a:path w="10022" h="1862">
                <a:moveTo>
                  <a:pt x="12080" y="4440"/>
                </a:moveTo>
                <a:cubicBezTo>
                  <a:pt x="12125" y="4556"/>
                  <a:pt x="12152" y="4701"/>
                  <a:pt x="12204" y="4812"/>
                </a:cubicBezTo>
                <a:cubicBezTo>
                  <a:pt x="12235" y="4878"/>
                  <a:pt x="12277" y="5034"/>
                  <a:pt x="12328" y="5085"/>
                </a:cubicBezTo>
                <a:cubicBezTo>
                  <a:pt x="12346" y="5103"/>
                  <a:pt x="12414" y="5157"/>
                  <a:pt x="12427" y="5159"/>
                </a:cubicBezTo>
                <a:cubicBezTo>
                  <a:pt x="12462" y="5159"/>
                  <a:pt x="12475" y="5150"/>
                  <a:pt x="12477" y="5110"/>
                </a:cubicBezTo>
              </a:path>
              <a:path w="10022" h="1862">
                <a:moveTo>
                  <a:pt x="12254" y="4638"/>
                </a:moveTo>
                <a:cubicBezTo>
                  <a:pt x="12201" y="4777"/>
                  <a:pt x="12148" y="4905"/>
                  <a:pt x="12080" y="5035"/>
                </a:cubicBezTo>
                <a:cubicBezTo>
                  <a:pt x="12075" y="5044"/>
                  <a:pt x="12031" y="5140"/>
                  <a:pt x="12055" y="5159"/>
                </a:cubicBezTo>
                <a:cubicBezTo>
                  <a:pt x="12063" y="5159"/>
                  <a:pt x="12072" y="5159"/>
                  <a:pt x="12080" y="5159"/>
                </a:cubicBezTo>
              </a:path>
              <a:path w="10022" h="1862">
                <a:moveTo>
                  <a:pt x="12898" y="4465"/>
                </a:moveTo>
                <a:cubicBezTo>
                  <a:pt x="12872" y="4587"/>
                  <a:pt x="12817" y="4715"/>
                  <a:pt x="12799" y="4837"/>
                </a:cubicBezTo>
                <a:cubicBezTo>
                  <a:pt x="12788" y="4911"/>
                  <a:pt x="12774" y="4984"/>
                  <a:pt x="12774" y="5060"/>
                </a:cubicBezTo>
                <a:cubicBezTo>
                  <a:pt x="12774" y="5093"/>
                  <a:pt x="12774" y="5126"/>
                  <a:pt x="12774" y="5159"/>
                </a:cubicBezTo>
              </a:path>
              <a:path w="10022" h="1862">
                <a:moveTo>
                  <a:pt x="12526" y="4862"/>
                </a:moveTo>
                <a:cubicBezTo>
                  <a:pt x="12673" y="4856"/>
                  <a:pt x="12806" y="4850"/>
                  <a:pt x="12948" y="4812"/>
                </a:cubicBezTo>
                <a:cubicBezTo>
                  <a:pt x="13025" y="4791"/>
                  <a:pt x="13094" y="4781"/>
                  <a:pt x="13171" y="4762"/>
                </a:cubicBezTo>
              </a:path>
              <a:path w="10022" h="1862">
                <a:moveTo>
                  <a:pt x="13519" y="4514"/>
                </a:moveTo>
                <a:cubicBezTo>
                  <a:pt x="13485" y="4641"/>
                  <a:pt x="13468" y="4762"/>
                  <a:pt x="13444" y="4887"/>
                </a:cubicBezTo>
                <a:cubicBezTo>
                  <a:pt x="13427" y="4974"/>
                  <a:pt x="13419" y="5045"/>
                  <a:pt x="13419" y="5135"/>
                </a:cubicBezTo>
                <a:cubicBezTo>
                  <a:pt x="13419" y="5178"/>
                  <a:pt x="13418" y="5174"/>
                  <a:pt x="13444" y="5209"/>
                </a:cubicBezTo>
                <a:cubicBezTo>
                  <a:pt x="13444" y="5174"/>
                  <a:pt x="13449" y="5157"/>
                  <a:pt x="13469" y="5135"/>
                </a:cubicBezTo>
              </a:path>
              <a:path w="10022" h="1862">
                <a:moveTo>
                  <a:pt x="13767" y="3870"/>
                </a:moveTo>
                <a:cubicBezTo>
                  <a:pt x="13993" y="4021"/>
                  <a:pt x="14110" y="4078"/>
                  <a:pt x="14188" y="4341"/>
                </a:cubicBezTo>
                <a:cubicBezTo>
                  <a:pt x="14231" y="4488"/>
                  <a:pt x="14252" y="4663"/>
                  <a:pt x="14213" y="4812"/>
                </a:cubicBezTo>
                <a:cubicBezTo>
                  <a:pt x="14173" y="4964"/>
                  <a:pt x="14122" y="5072"/>
                  <a:pt x="14015" y="5184"/>
                </a:cubicBezTo>
                <a:cubicBezTo>
                  <a:pt x="13954" y="5248"/>
                  <a:pt x="13865" y="5432"/>
                  <a:pt x="13816" y="5358"/>
                </a:cubicBezTo>
                <a:cubicBezTo>
                  <a:pt x="13809" y="5347"/>
                  <a:pt x="13816" y="5265"/>
                  <a:pt x="13816" y="5259"/>
                </a:cubicBezTo>
              </a:path>
              <a:path w="10022" h="1862">
                <a:moveTo>
                  <a:pt x="14635" y="3671"/>
                </a:moveTo>
                <a:cubicBezTo>
                  <a:pt x="14604" y="3766"/>
                  <a:pt x="14486" y="3969"/>
                  <a:pt x="14486" y="4068"/>
                </a:cubicBezTo>
                <a:cubicBezTo>
                  <a:pt x="14486" y="4185"/>
                  <a:pt x="14524" y="4273"/>
                  <a:pt x="14635" y="4316"/>
                </a:cubicBezTo>
                <a:cubicBezTo>
                  <a:pt x="14692" y="4338"/>
                  <a:pt x="14788" y="4299"/>
                  <a:pt x="14833" y="4266"/>
                </a:cubicBezTo>
                <a:cubicBezTo>
                  <a:pt x="14907" y="4212"/>
                  <a:pt x="14965" y="4133"/>
                  <a:pt x="14982" y="4043"/>
                </a:cubicBezTo>
                <a:cubicBezTo>
                  <a:pt x="14992" y="3992"/>
                  <a:pt x="14983" y="3979"/>
                  <a:pt x="14957" y="3944"/>
                </a:cubicBezTo>
                <a:cubicBezTo>
                  <a:pt x="14897" y="3956"/>
                  <a:pt x="14845" y="3989"/>
                  <a:pt x="14808" y="4043"/>
                </a:cubicBezTo>
                <a:cubicBezTo>
                  <a:pt x="14760" y="4112"/>
                  <a:pt x="14737" y="4185"/>
                  <a:pt x="14734" y="4266"/>
                </a:cubicBezTo>
                <a:cubicBezTo>
                  <a:pt x="14731" y="4332"/>
                  <a:pt x="14734" y="4399"/>
                  <a:pt x="14734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9760" y="2347920"/>
            <a:ext cx="1776240" cy="822240"/>
          </a:xfrm>
          <a:custGeom>
            <a:avLst/>
            <a:gdLst/>
            <a:ahLst/>
            <a:rect l="l" t="t" r="r" b="b"/>
            <a:pathLst>
              <a:path w="4937" h="2283">
                <a:moveTo>
                  <a:pt x="1414" y="7367"/>
                </a:moveTo>
                <a:cubicBezTo>
                  <a:pt x="1444" y="7390"/>
                  <a:pt x="1475" y="7414"/>
                  <a:pt x="1513" y="7417"/>
                </a:cubicBezTo>
                <a:cubicBezTo>
                  <a:pt x="1623" y="7425"/>
                  <a:pt x="1731" y="7421"/>
                  <a:pt x="1836" y="7392"/>
                </a:cubicBezTo>
              </a:path>
              <a:path w="4937" h="2283">
                <a:moveTo>
                  <a:pt x="1935" y="7144"/>
                </a:moveTo>
                <a:cubicBezTo>
                  <a:pt x="2059" y="7107"/>
                  <a:pt x="2118" y="7068"/>
                  <a:pt x="2232" y="7119"/>
                </a:cubicBezTo>
                <a:cubicBezTo>
                  <a:pt x="2300" y="7149"/>
                  <a:pt x="2326" y="7172"/>
                  <a:pt x="2332" y="7243"/>
                </a:cubicBezTo>
                <a:cubicBezTo>
                  <a:pt x="2338" y="7318"/>
                  <a:pt x="2277" y="7354"/>
                  <a:pt x="2232" y="7392"/>
                </a:cubicBezTo>
                <a:cubicBezTo>
                  <a:pt x="2185" y="7432"/>
                  <a:pt x="2158" y="7476"/>
                  <a:pt x="2108" y="7516"/>
                </a:cubicBezTo>
                <a:cubicBezTo>
                  <a:pt x="2122" y="7559"/>
                  <a:pt x="2206" y="7588"/>
                  <a:pt x="2257" y="7615"/>
                </a:cubicBezTo>
                <a:cubicBezTo>
                  <a:pt x="2304" y="7640"/>
                  <a:pt x="2408" y="7710"/>
                  <a:pt x="2431" y="7764"/>
                </a:cubicBezTo>
                <a:cubicBezTo>
                  <a:pt x="2460" y="7833"/>
                  <a:pt x="2405" y="7884"/>
                  <a:pt x="2356" y="7913"/>
                </a:cubicBezTo>
                <a:cubicBezTo>
                  <a:pt x="2286" y="7955"/>
                  <a:pt x="2184" y="7977"/>
                  <a:pt x="2108" y="7987"/>
                </a:cubicBezTo>
                <a:cubicBezTo>
                  <a:pt x="2075" y="7991"/>
                  <a:pt x="1959" y="7990"/>
                  <a:pt x="1935" y="7962"/>
                </a:cubicBezTo>
                <a:cubicBezTo>
                  <a:pt x="1935" y="7954"/>
                  <a:pt x="1935" y="7946"/>
                  <a:pt x="1935" y="7938"/>
                </a:cubicBezTo>
              </a:path>
              <a:path w="4937" h="2283">
                <a:moveTo>
                  <a:pt x="3398" y="6598"/>
                </a:moveTo>
                <a:cubicBezTo>
                  <a:pt x="3544" y="6598"/>
                  <a:pt x="3677" y="6584"/>
                  <a:pt x="3820" y="6573"/>
                </a:cubicBezTo>
                <a:cubicBezTo>
                  <a:pt x="3995" y="6559"/>
                  <a:pt x="4167" y="6568"/>
                  <a:pt x="4341" y="6548"/>
                </a:cubicBezTo>
                <a:cubicBezTo>
                  <a:pt x="4392" y="6542"/>
                  <a:pt x="4425" y="6567"/>
                  <a:pt x="4440" y="6524"/>
                </a:cubicBezTo>
              </a:path>
              <a:path w="4937" h="2283">
                <a:moveTo>
                  <a:pt x="3423" y="6747"/>
                </a:moveTo>
                <a:cubicBezTo>
                  <a:pt x="3423" y="6859"/>
                  <a:pt x="3430" y="6962"/>
                  <a:pt x="3398" y="7069"/>
                </a:cubicBezTo>
                <a:cubicBezTo>
                  <a:pt x="3365" y="7180"/>
                  <a:pt x="3335" y="7324"/>
                  <a:pt x="3324" y="7441"/>
                </a:cubicBezTo>
                <a:cubicBezTo>
                  <a:pt x="3309" y="7591"/>
                  <a:pt x="3263" y="7739"/>
                  <a:pt x="3249" y="7888"/>
                </a:cubicBezTo>
                <a:cubicBezTo>
                  <a:pt x="3237" y="8018"/>
                  <a:pt x="3245" y="8156"/>
                  <a:pt x="3225" y="8285"/>
                </a:cubicBezTo>
                <a:cubicBezTo>
                  <a:pt x="3207" y="8401"/>
                  <a:pt x="3181" y="8518"/>
                  <a:pt x="3175" y="8632"/>
                </a:cubicBezTo>
                <a:cubicBezTo>
                  <a:pt x="3173" y="8673"/>
                  <a:pt x="3162" y="8730"/>
                  <a:pt x="3200" y="8756"/>
                </a:cubicBezTo>
                <a:cubicBezTo>
                  <a:pt x="3225" y="8774"/>
                  <a:pt x="3318" y="8779"/>
                  <a:pt x="3349" y="8781"/>
                </a:cubicBezTo>
                <a:cubicBezTo>
                  <a:pt x="3443" y="8786"/>
                  <a:pt x="3530" y="8796"/>
                  <a:pt x="3621" y="8806"/>
                </a:cubicBezTo>
                <a:cubicBezTo>
                  <a:pt x="3742" y="8820"/>
                  <a:pt x="3872" y="8806"/>
                  <a:pt x="3994" y="8806"/>
                </a:cubicBezTo>
              </a:path>
              <a:path w="4937" h="2283">
                <a:moveTo>
                  <a:pt x="4192" y="8409"/>
                </a:moveTo>
                <a:cubicBezTo>
                  <a:pt x="4277" y="8461"/>
                  <a:pt x="4445" y="8434"/>
                  <a:pt x="4539" y="8434"/>
                </a:cubicBezTo>
                <a:cubicBezTo>
                  <a:pt x="4847" y="8434"/>
                  <a:pt x="5151" y="8444"/>
                  <a:pt x="5457" y="8458"/>
                </a:cubicBezTo>
                <a:cubicBezTo>
                  <a:pt x="5648" y="8467"/>
                  <a:pt x="5838" y="8478"/>
                  <a:pt x="6028" y="8483"/>
                </a:cubicBezTo>
                <a:cubicBezTo>
                  <a:pt x="6135" y="8486"/>
                  <a:pt x="6243" y="8483"/>
                  <a:pt x="6350" y="8483"/>
                </a:cubicBezTo>
              </a:path>
              <a:path w="4937" h="2283">
                <a:moveTo>
                  <a:pt x="4118" y="7243"/>
                </a:moveTo>
                <a:cubicBezTo>
                  <a:pt x="4118" y="7420"/>
                  <a:pt x="4128" y="7590"/>
                  <a:pt x="4142" y="7764"/>
                </a:cubicBezTo>
                <a:cubicBezTo>
                  <a:pt x="4152" y="7884"/>
                  <a:pt x="4122" y="7993"/>
                  <a:pt x="4118" y="8111"/>
                </a:cubicBezTo>
                <a:cubicBezTo>
                  <a:pt x="4116" y="8171"/>
                  <a:pt x="4147" y="8391"/>
                  <a:pt x="4093" y="8409"/>
                </a:cubicBezTo>
                <a:cubicBezTo>
                  <a:pt x="4102" y="8366"/>
                  <a:pt x="4115" y="8344"/>
                  <a:pt x="4142" y="8310"/>
                </a:cubicBezTo>
              </a:path>
              <a:path w="4937" h="2283">
                <a:moveTo>
                  <a:pt x="4589" y="7640"/>
                </a:moveTo>
                <a:cubicBezTo>
                  <a:pt x="4629" y="7690"/>
                  <a:pt x="4631" y="7736"/>
                  <a:pt x="4663" y="7789"/>
                </a:cubicBezTo>
                <a:cubicBezTo>
                  <a:pt x="4728" y="7898"/>
                  <a:pt x="4787" y="8018"/>
                  <a:pt x="4837" y="8136"/>
                </a:cubicBezTo>
                <a:cubicBezTo>
                  <a:pt x="4880" y="8238"/>
                  <a:pt x="4919" y="8297"/>
                  <a:pt x="5011" y="8359"/>
                </a:cubicBezTo>
                <a:cubicBezTo>
                  <a:pt x="5057" y="8390"/>
                  <a:pt x="5082" y="8409"/>
                  <a:pt x="5135" y="8409"/>
                </a:cubicBezTo>
              </a:path>
              <a:path w="4937" h="2283">
                <a:moveTo>
                  <a:pt x="5060" y="7640"/>
                </a:moveTo>
                <a:cubicBezTo>
                  <a:pt x="5046" y="7695"/>
                  <a:pt x="5030" y="7750"/>
                  <a:pt x="5011" y="7813"/>
                </a:cubicBezTo>
                <a:cubicBezTo>
                  <a:pt x="4980" y="7914"/>
                  <a:pt x="4913" y="8019"/>
                  <a:pt x="4862" y="8111"/>
                </a:cubicBezTo>
                <a:cubicBezTo>
                  <a:pt x="4827" y="8173"/>
                  <a:pt x="4786" y="8257"/>
                  <a:pt x="4738" y="8310"/>
                </a:cubicBezTo>
                <a:cubicBezTo>
                  <a:pt x="4710" y="8340"/>
                  <a:pt x="4706" y="8388"/>
                  <a:pt x="4688" y="8334"/>
                </a:cubicBezTo>
              </a:path>
              <a:path w="4937" h="2283">
                <a:moveTo>
                  <a:pt x="5085" y="7020"/>
                </a:moveTo>
                <a:cubicBezTo>
                  <a:pt x="5160" y="6951"/>
                  <a:pt x="5218" y="6864"/>
                  <a:pt x="5333" y="6896"/>
                </a:cubicBezTo>
                <a:cubicBezTo>
                  <a:pt x="5386" y="6911"/>
                  <a:pt x="5420" y="6958"/>
                  <a:pt x="5457" y="6995"/>
                </a:cubicBezTo>
                <a:cubicBezTo>
                  <a:pt x="5416" y="7036"/>
                  <a:pt x="5374" y="7067"/>
                  <a:pt x="5333" y="7094"/>
                </a:cubicBezTo>
                <a:cubicBezTo>
                  <a:pt x="5325" y="7102"/>
                  <a:pt x="5316" y="7111"/>
                  <a:pt x="5308" y="7119"/>
                </a:cubicBezTo>
                <a:cubicBezTo>
                  <a:pt x="5348" y="7159"/>
                  <a:pt x="5390" y="7183"/>
                  <a:pt x="5432" y="7218"/>
                </a:cubicBezTo>
                <a:cubicBezTo>
                  <a:pt x="5476" y="7254"/>
                  <a:pt x="5515" y="7301"/>
                  <a:pt x="5556" y="7342"/>
                </a:cubicBezTo>
                <a:cubicBezTo>
                  <a:pt x="5505" y="7394"/>
                  <a:pt x="5495" y="7396"/>
                  <a:pt x="5432" y="7417"/>
                </a:cubicBezTo>
                <a:cubicBezTo>
                  <a:pt x="5318" y="7456"/>
                  <a:pt x="5256" y="7506"/>
                  <a:pt x="5159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46240" y="2347920"/>
            <a:ext cx="4340520" cy="974880"/>
          </a:xfrm>
          <a:custGeom>
            <a:avLst/>
            <a:gdLst/>
            <a:ahLst/>
            <a:rect l="l" t="t" r="r" b="b"/>
            <a:pathLst>
              <a:path w="12056" h="2704">
                <a:moveTo>
                  <a:pt x="8582" y="8533"/>
                </a:moveTo>
                <a:cubicBezTo>
                  <a:pt x="9095" y="8533"/>
                  <a:pt x="9610" y="8525"/>
                  <a:pt x="10120" y="8558"/>
                </a:cubicBezTo>
                <a:cubicBezTo>
                  <a:pt x="10234" y="8565"/>
                  <a:pt x="10382" y="8554"/>
                  <a:pt x="10492" y="8582"/>
                </a:cubicBezTo>
                <a:cubicBezTo>
                  <a:pt x="10586" y="8606"/>
                  <a:pt x="10542" y="8632"/>
                  <a:pt x="10542" y="8582"/>
                </a:cubicBezTo>
              </a:path>
              <a:path w="12056" h="2704">
                <a:moveTo>
                  <a:pt x="12005" y="8682"/>
                </a:moveTo>
                <a:cubicBezTo>
                  <a:pt x="12403" y="8682"/>
                  <a:pt x="12800" y="8688"/>
                  <a:pt x="13196" y="8706"/>
                </a:cubicBezTo>
                <a:cubicBezTo>
                  <a:pt x="13513" y="8721"/>
                  <a:pt x="13821" y="8755"/>
                  <a:pt x="14139" y="8781"/>
                </a:cubicBezTo>
                <a:cubicBezTo>
                  <a:pt x="14232" y="8789"/>
                  <a:pt x="14384" y="8798"/>
                  <a:pt x="14436" y="8756"/>
                </a:cubicBezTo>
                <a:cubicBezTo>
                  <a:pt x="14457" y="8739"/>
                  <a:pt x="14468" y="8720"/>
                  <a:pt x="14511" y="8706"/>
                </a:cubicBezTo>
                <a:cubicBezTo>
                  <a:pt x="14519" y="8706"/>
                  <a:pt x="14528" y="8706"/>
                  <a:pt x="14536" y="8706"/>
                </a:cubicBezTo>
              </a:path>
              <a:path w="12056" h="2704">
                <a:moveTo>
                  <a:pt x="16197" y="8830"/>
                </a:moveTo>
                <a:cubicBezTo>
                  <a:pt x="16620" y="8830"/>
                  <a:pt x="17041" y="8837"/>
                  <a:pt x="17462" y="8855"/>
                </a:cubicBezTo>
                <a:cubicBezTo>
                  <a:pt x="17703" y="8865"/>
                  <a:pt x="17941" y="8891"/>
                  <a:pt x="18182" y="8905"/>
                </a:cubicBezTo>
                <a:cubicBezTo>
                  <a:pt x="18319" y="8913"/>
                  <a:pt x="18446" y="8936"/>
                  <a:pt x="18579" y="8954"/>
                </a:cubicBezTo>
                <a:cubicBezTo>
                  <a:pt x="18631" y="8961"/>
                  <a:pt x="18684" y="8974"/>
                  <a:pt x="18653" y="8930"/>
                </a:cubicBezTo>
                <a:cubicBezTo>
                  <a:pt x="18645" y="8930"/>
                  <a:pt x="18636" y="8930"/>
                  <a:pt x="18628" y="8930"/>
                </a:cubicBezTo>
              </a:path>
              <a:path w="12056" h="2704">
                <a:moveTo>
                  <a:pt x="18926" y="6648"/>
                </a:moveTo>
                <a:cubicBezTo>
                  <a:pt x="19065" y="6566"/>
                  <a:pt x="19165" y="6568"/>
                  <a:pt x="19323" y="6548"/>
                </a:cubicBezTo>
                <a:cubicBezTo>
                  <a:pt x="19490" y="6526"/>
                  <a:pt x="19649" y="6524"/>
                  <a:pt x="19819" y="6524"/>
                </a:cubicBezTo>
                <a:cubicBezTo>
                  <a:pt x="19949" y="6524"/>
                  <a:pt x="20068" y="6530"/>
                  <a:pt x="20191" y="6548"/>
                </a:cubicBezTo>
                <a:cubicBezTo>
                  <a:pt x="20199" y="6548"/>
                  <a:pt x="20208" y="6548"/>
                  <a:pt x="20216" y="6548"/>
                </a:cubicBezTo>
                <a:cubicBezTo>
                  <a:pt x="20198" y="6594"/>
                  <a:pt x="20183" y="6649"/>
                  <a:pt x="20166" y="6697"/>
                </a:cubicBezTo>
                <a:cubicBezTo>
                  <a:pt x="20125" y="6813"/>
                  <a:pt x="20117" y="6894"/>
                  <a:pt x="20117" y="7020"/>
                </a:cubicBezTo>
                <a:cubicBezTo>
                  <a:pt x="20117" y="7250"/>
                  <a:pt x="20172" y="7462"/>
                  <a:pt x="20191" y="7689"/>
                </a:cubicBezTo>
                <a:cubicBezTo>
                  <a:pt x="20211" y="7930"/>
                  <a:pt x="20241" y="8166"/>
                  <a:pt x="20241" y="8409"/>
                </a:cubicBezTo>
                <a:cubicBezTo>
                  <a:pt x="20241" y="8562"/>
                  <a:pt x="20230" y="8707"/>
                  <a:pt x="20216" y="8855"/>
                </a:cubicBezTo>
                <a:cubicBezTo>
                  <a:pt x="20208" y="8943"/>
                  <a:pt x="20198" y="9046"/>
                  <a:pt x="20191" y="9128"/>
                </a:cubicBezTo>
                <a:cubicBezTo>
                  <a:pt x="20188" y="9167"/>
                  <a:pt x="20168" y="9195"/>
                  <a:pt x="20166" y="9203"/>
                </a:cubicBezTo>
                <a:cubicBezTo>
                  <a:pt x="20166" y="9211"/>
                  <a:pt x="20166" y="9219"/>
                  <a:pt x="20166" y="9227"/>
                </a:cubicBezTo>
                <a:cubicBezTo>
                  <a:pt x="20118" y="9216"/>
                  <a:pt x="20065" y="9216"/>
                  <a:pt x="20017" y="9203"/>
                </a:cubicBezTo>
                <a:cubicBezTo>
                  <a:pt x="19879" y="9165"/>
                  <a:pt x="19760" y="9147"/>
                  <a:pt x="19621" y="9128"/>
                </a:cubicBezTo>
                <a:cubicBezTo>
                  <a:pt x="19440" y="9103"/>
                  <a:pt x="19288" y="9103"/>
                  <a:pt x="19100" y="9103"/>
                </a:cubicBezTo>
              </a:path>
              <a:path w="12056" h="2704">
                <a:moveTo>
                  <a:pt x="8186" y="7516"/>
                </a:moveTo>
                <a:cubicBezTo>
                  <a:pt x="8282" y="7436"/>
                  <a:pt x="8328" y="7423"/>
                  <a:pt x="8458" y="7417"/>
                </a:cubicBezTo>
                <a:cubicBezTo>
                  <a:pt x="8567" y="7412"/>
                  <a:pt x="8690" y="7454"/>
                  <a:pt x="8731" y="7565"/>
                </a:cubicBezTo>
                <a:cubicBezTo>
                  <a:pt x="8754" y="7628"/>
                  <a:pt x="8677" y="7730"/>
                  <a:pt x="8632" y="7764"/>
                </a:cubicBezTo>
                <a:cubicBezTo>
                  <a:pt x="8579" y="7805"/>
                  <a:pt x="8503" y="7873"/>
                  <a:pt x="8434" y="7888"/>
                </a:cubicBezTo>
                <a:cubicBezTo>
                  <a:pt x="8392" y="7888"/>
                  <a:pt x="8376" y="7880"/>
                  <a:pt x="8384" y="7913"/>
                </a:cubicBezTo>
                <a:cubicBezTo>
                  <a:pt x="8341" y="7913"/>
                  <a:pt x="8537" y="7934"/>
                  <a:pt x="8582" y="7962"/>
                </a:cubicBezTo>
                <a:cubicBezTo>
                  <a:pt x="8637" y="7996"/>
                  <a:pt x="8738" y="8097"/>
                  <a:pt x="8756" y="8161"/>
                </a:cubicBezTo>
                <a:cubicBezTo>
                  <a:pt x="8774" y="8227"/>
                  <a:pt x="8705" y="8300"/>
                  <a:pt x="8657" y="8334"/>
                </a:cubicBezTo>
                <a:cubicBezTo>
                  <a:pt x="8587" y="8383"/>
                  <a:pt x="8486" y="8363"/>
                  <a:pt x="8409" y="8384"/>
                </a:cubicBezTo>
                <a:cubicBezTo>
                  <a:pt x="8368" y="8395"/>
                  <a:pt x="8304" y="8408"/>
                  <a:pt x="8260" y="8384"/>
                </a:cubicBezTo>
                <a:cubicBezTo>
                  <a:pt x="8237" y="8361"/>
                  <a:pt x="8229" y="8357"/>
                  <a:pt x="8235" y="8334"/>
                </a:cubicBezTo>
              </a:path>
              <a:path w="12056" h="2704">
                <a:moveTo>
                  <a:pt x="11658" y="7541"/>
                </a:moveTo>
                <a:cubicBezTo>
                  <a:pt x="11753" y="7509"/>
                  <a:pt x="11809" y="7512"/>
                  <a:pt x="11906" y="7541"/>
                </a:cubicBezTo>
                <a:cubicBezTo>
                  <a:pt x="12034" y="7580"/>
                  <a:pt x="12093" y="7597"/>
                  <a:pt x="12154" y="7714"/>
                </a:cubicBezTo>
                <a:cubicBezTo>
                  <a:pt x="12205" y="7811"/>
                  <a:pt x="12123" y="7835"/>
                  <a:pt x="12055" y="7888"/>
                </a:cubicBezTo>
                <a:cubicBezTo>
                  <a:pt x="12004" y="7927"/>
                  <a:pt x="11937" y="7913"/>
                  <a:pt x="11881" y="7938"/>
                </a:cubicBezTo>
                <a:cubicBezTo>
                  <a:pt x="11859" y="7960"/>
                  <a:pt x="11854" y="7968"/>
                  <a:pt x="11832" y="7962"/>
                </a:cubicBezTo>
                <a:cubicBezTo>
                  <a:pt x="11832" y="8014"/>
                  <a:pt x="11843" y="8024"/>
                  <a:pt x="11881" y="8062"/>
                </a:cubicBezTo>
                <a:cubicBezTo>
                  <a:pt x="11973" y="8154"/>
                  <a:pt x="12146" y="8312"/>
                  <a:pt x="12179" y="8434"/>
                </a:cubicBezTo>
                <a:cubicBezTo>
                  <a:pt x="12201" y="8514"/>
                  <a:pt x="12116" y="8582"/>
                  <a:pt x="12055" y="8607"/>
                </a:cubicBezTo>
                <a:cubicBezTo>
                  <a:pt x="11980" y="8638"/>
                  <a:pt x="11891" y="8679"/>
                  <a:pt x="11807" y="8657"/>
                </a:cubicBezTo>
                <a:cubicBezTo>
                  <a:pt x="11764" y="8646"/>
                  <a:pt x="11741" y="8629"/>
                  <a:pt x="11708" y="8607"/>
                </a:cubicBezTo>
              </a:path>
              <a:path w="12056" h="2704">
                <a:moveTo>
                  <a:pt x="15949" y="7367"/>
                </a:moveTo>
                <a:cubicBezTo>
                  <a:pt x="16035" y="7410"/>
                  <a:pt x="16033" y="7499"/>
                  <a:pt x="16049" y="7590"/>
                </a:cubicBezTo>
                <a:cubicBezTo>
                  <a:pt x="16082" y="7781"/>
                  <a:pt x="16060" y="7945"/>
                  <a:pt x="16049" y="8136"/>
                </a:cubicBezTo>
                <a:cubicBezTo>
                  <a:pt x="16039" y="8307"/>
                  <a:pt x="16111" y="8612"/>
                  <a:pt x="16024" y="8756"/>
                </a:cubicBezTo>
              </a:path>
              <a:path w="12056" h="2704">
                <a:moveTo>
                  <a:pt x="9103" y="7838"/>
                </a:moveTo>
                <a:cubicBezTo>
                  <a:pt x="9194" y="7907"/>
                  <a:pt x="9216" y="7989"/>
                  <a:pt x="9277" y="8086"/>
                </a:cubicBezTo>
                <a:cubicBezTo>
                  <a:pt x="9339" y="8184"/>
                  <a:pt x="9364" y="8260"/>
                  <a:pt x="9451" y="8334"/>
                </a:cubicBezTo>
                <a:cubicBezTo>
                  <a:pt x="9475" y="8359"/>
                  <a:pt x="9483" y="8368"/>
                  <a:pt x="9500" y="8384"/>
                </a:cubicBezTo>
              </a:path>
              <a:path w="12056" h="2704">
                <a:moveTo>
                  <a:pt x="9351" y="7938"/>
                </a:moveTo>
                <a:cubicBezTo>
                  <a:pt x="9261" y="8070"/>
                  <a:pt x="9164" y="8203"/>
                  <a:pt x="9079" y="8334"/>
                </a:cubicBezTo>
                <a:cubicBezTo>
                  <a:pt x="9045" y="8387"/>
                  <a:pt x="9022" y="8475"/>
                  <a:pt x="9004" y="8384"/>
                </a:cubicBezTo>
              </a:path>
              <a:path w="12056" h="2704">
                <a:moveTo>
                  <a:pt x="9451" y="7293"/>
                </a:moveTo>
                <a:cubicBezTo>
                  <a:pt x="9536" y="7264"/>
                  <a:pt x="9665" y="7218"/>
                  <a:pt x="9723" y="7342"/>
                </a:cubicBezTo>
                <a:cubicBezTo>
                  <a:pt x="9758" y="7418"/>
                  <a:pt x="9694" y="7493"/>
                  <a:pt x="9649" y="7541"/>
                </a:cubicBezTo>
                <a:cubicBezTo>
                  <a:pt x="9616" y="7577"/>
                  <a:pt x="9586" y="7594"/>
                  <a:pt x="9575" y="7640"/>
                </a:cubicBezTo>
                <a:cubicBezTo>
                  <a:pt x="9643" y="7695"/>
                  <a:pt x="9685" y="7689"/>
                  <a:pt x="9773" y="7689"/>
                </a:cubicBezTo>
                <a:cubicBezTo>
                  <a:pt x="9798" y="7689"/>
                  <a:pt x="9822" y="7689"/>
                  <a:pt x="9847" y="7689"/>
                </a:cubicBezTo>
              </a:path>
              <a:path w="12056" h="2704">
                <a:moveTo>
                  <a:pt x="12502" y="7938"/>
                </a:moveTo>
                <a:cubicBezTo>
                  <a:pt x="12582" y="8028"/>
                  <a:pt x="12642" y="8129"/>
                  <a:pt x="12700" y="8235"/>
                </a:cubicBezTo>
                <a:cubicBezTo>
                  <a:pt x="12755" y="8334"/>
                  <a:pt x="12803" y="8439"/>
                  <a:pt x="12898" y="8508"/>
                </a:cubicBezTo>
                <a:cubicBezTo>
                  <a:pt x="12962" y="8555"/>
                  <a:pt x="12962" y="8548"/>
                  <a:pt x="13022" y="8533"/>
                </a:cubicBezTo>
              </a:path>
              <a:path w="12056" h="2704">
                <a:moveTo>
                  <a:pt x="12774" y="7962"/>
                </a:moveTo>
                <a:cubicBezTo>
                  <a:pt x="12609" y="8105"/>
                  <a:pt x="12457" y="8255"/>
                  <a:pt x="12303" y="8409"/>
                </a:cubicBezTo>
                <a:cubicBezTo>
                  <a:pt x="12245" y="8467"/>
                  <a:pt x="12237" y="8475"/>
                  <a:pt x="12204" y="8508"/>
                </a:cubicBezTo>
              </a:path>
              <a:path w="12056" h="2704">
                <a:moveTo>
                  <a:pt x="16842" y="7665"/>
                </a:moveTo>
                <a:cubicBezTo>
                  <a:pt x="16825" y="7732"/>
                  <a:pt x="16782" y="7800"/>
                  <a:pt x="16743" y="7863"/>
                </a:cubicBezTo>
                <a:cubicBezTo>
                  <a:pt x="16666" y="7986"/>
                  <a:pt x="16629" y="8095"/>
                  <a:pt x="16594" y="8235"/>
                </a:cubicBezTo>
                <a:cubicBezTo>
                  <a:pt x="16564" y="8356"/>
                  <a:pt x="16561" y="8466"/>
                  <a:pt x="16619" y="8582"/>
                </a:cubicBezTo>
                <a:cubicBezTo>
                  <a:pt x="16647" y="8637"/>
                  <a:pt x="16741" y="8760"/>
                  <a:pt x="16818" y="8756"/>
                </a:cubicBezTo>
                <a:cubicBezTo>
                  <a:pt x="16878" y="8753"/>
                  <a:pt x="16913" y="8697"/>
                  <a:pt x="16942" y="8657"/>
                </a:cubicBezTo>
              </a:path>
              <a:path w="12056" h="2704">
                <a:moveTo>
                  <a:pt x="16991" y="8161"/>
                </a:moveTo>
                <a:cubicBezTo>
                  <a:pt x="17084" y="8136"/>
                  <a:pt x="17177" y="8119"/>
                  <a:pt x="17264" y="8086"/>
                </a:cubicBezTo>
              </a:path>
              <a:path w="12056" h="2704">
                <a:moveTo>
                  <a:pt x="17462" y="7888"/>
                </a:moveTo>
                <a:cubicBezTo>
                  <a:pt x="17538" y="7892"/>
                  <a:pt x="17717" y="7871"/>
                  <a:pt x="17711" y="8012"/>
                </a:cubicBezTo>
                <a:cubicBezTo>
                  <a:pt x="17707" y="8108"/>
                  <a:pt x="17623" y="8174"/>
                  <a:pt x="17562" y="8235"/>
                </a:cubicBezTo>
                <a:cubicBezTo>
                  <a:pt x="17506" y="8291"/>
                  <a:pt x="17410" y="8355"/>
                  <a:pt x="17388" y="8434"/>
                </a:cubicBezTo>
                <a:cubicBezTo>
                  <a:pt x="17364" y="8522"/>
                  <a:pt x="17448" y="8611"/>
                  <a:pt x="17512" y="8657"/>
                </a:cubicBezTo>
                <a:cubicBezTo>
                  <a:pt x="17566" y="8696"/>
                  <a:pt x="17681" y="8710"/>
                  <a:pt x="17735" y="8682"/>
                </a:cubicBezTo>
                <a:cubicBezTo>
                  <a:pt x="17760" y="8665"/>
                  <a:pt x="17785" y="8649"/>
                  <a:pt x="17810" y="8632"/>
                </a:cubicBezTo>
              </a:path>
              <a:path w="12056" h="2704">
                <a:moveTo>
                  <a:pt x="17760" y="7615"/>
                </a:moveTo>
                <a:cubicBezTo>
                  <a:pt x="17859" y="7652"/>
                  <a:pt x="17911" y="7756"/>
                  <a:pt x="17959" y="7863"/>
                </a:cubicBezTo>
                <a:cubicBezTo>
                  <a:pt x="18040" y="8044"/>
                  <a:pt x="18078" y="8212"/>
                  <a:pt x="18083" y="8409"/>
                </a:cubicBezTo>
                <a:cubicBezTo>
                  <a:pt x="18087" y="8557"/>
                  <a:pt x="18077" y="8629"/>
                  <a:pt x="18008" y="8756"/>
                </a:cubicBezTo>
                <a:cubicBezTo>
                  <a:pt x="17968" y="8828"/>
                  <a:pt x="17937" y="8952"/>
                  <a:pt x="17835" y="8880"/>
                </a:cubicBezTo>
                <a:cubicBezTo>
                  <a:pt x="17835" y="8872"/>
                  <a:pt x="17835" y="8863"/>
                  <a:pt x="17835" y="8855"/>
                </a:cubicBezTo>
              </a:path>
              <a:path w="12056" h="2704">
                <a:moveTo>
                  <a:pt x="18058" y="7169"/>
                </a:moveTo>
                <a:cubicBezTo>
                  <a:pt x="18213" y="7117"/>
                  <a:pt x="18205" y="7134"/>
                  <a:pt x="18331" y="7218"/>
                </a:cubicBezTo>
                <a:cubicBezTo>
                  <a:pt x="18386" y="7255"/>
                  <a:pt x="18433" y="7283"/>
                  <a:pt x="18380" y="7342"/>
                </a:cubicBezTo>
                <a:cubicBezTo>
                  <a:pt x="18351" y="7375"/>
                  <a:pt x="18310" y="7386"/>
                  <a:pt x="18306" y="7417"/>
                </a:cubicBezTo>
                <a:cubicBezTo>
                  <a:pt x="18300" y="7462"/>
                  <a:pt x="18327" y="7507"/>
                  <a:pt x="18355" y="7541"/>
                </a:cubicBezTo>
                <a:cubicBezTo>
                  <a:pt x="18439" y="7643"/>
                  <a:pt x="18504" y="7683"/>
                  <a:pt x="18504" y="7813"/>
                </a:cubicBezTo>
                <a:cubicBezTo>
                  <a:pt x="18504" y="7891"/>
                  <a:pt x="18328" y="7870"/>
                  <a:pt x="18281" y="7863"/>
                </a:cubicBezTo>
                <a:cubicBezTo>
                  <a:pt x="18166" y="7834"/>
                  <a:pt x="18117" y="7823"/>
                  <a:pt x="18033" y="7813"/>
                </a:cubicBezTo>
              </a:path>
              <a:path w="12056" h="2704">
                <a:moveTo>
                  <a:pt x="13395" y="7367"/>
                </a:moveTo>
                <a:cubicBezTo>
                  <a:pt x="13378" y="7452"/>
                  <a:pt x="13333" y="7536"/>
                  <a:pt x="13295" y="7615"/>
                </a:cubicBezTo>
                <a:cubicBezTo>
                  <a:pt x="13226" y="7758"/>
                  <a:pt x="13179" y="7881"/>
                  <a:pt x="13146" y="8037"/>
                </a:cubicBezTo>
                <a:cubicBezTo>
                  <a:pt x="13126" y="8132"/>
                  <a:pt x="13085" y="8294"/>
                  <a:pt x="13146" y="8384"/>
                </a:cubicBezTo>
                <a:cubicBezTo>
                  <a:pt x="13182" y="8437"/>
                  <a:pt x="13281" y="8544"/>
                  <a:pt x="13345" y="8558"/>
                </a:cubicBezTo>
                <a:cubicBezTo>
                  <a:pt x="13370" y="8558"/>
                  <a:pt x="13394" y="8558"/>
                  <a:pt x="13419" y="8558"/>
                </a:cubicBezTo>
              </a:path>
              <a:path w="12056" h="2704">
                <a:moveTo>
                  <a:pt x="13543" y="8012"/>
                </a:moveTo>
                <a:cubicBezTo>
                  <a:pt x="13675" y="7993"/>
                  <a:pt x="13692" y="7985"/>
                  <a:pt x="13767" y="7987"/>
                </a:cubicBezTo>
              </a:path>
              <a:path w="12056" h="2704">
                <a:moveTo>
                  <a:pt x="13965" y="7615"/>
                </a:moveTo>
                <a:cubicBezTo>
                  <a:pt x="14055" y="7648"/>
                  <a:pt x="14221" y="7665"/>
                  <a:pt x="14188" y="7813"/>
                </a:cubicBezTo>
                <a:cubicBezTo>
                  <a:pt x="14168" y="7902"/>
                  <a:pt x="14090" y="7969"/>
                  <a:pt x="14039" y="8037"/>
                </a:cubicBezTo>
                <a:cubicBezTo>
                  <a:pt x="13987" y="8106"/>
                  <a:pt x="13897" y="8179"/>
                  <a:pt x="13866" y="8260"/>
                </a:cubicBezTo>
                <a:cubicBezTo>
                  <a:pt x="13851" y="8300"/>
                  <a:pt x="13909" y="8364"/>
                  <a:pt x="13940" y="8384"/>
                </a:cubicBezTo>
                <a:cubicBezTo>
                  <a:pt x="14026" y="8440"/>
                  <a:pt x="14092" y="8407"/>
                  <a:pt x="14163" y="8359"/>
                </a:cubicBezTo>
              </a:path>
              <a:path w="12056" h="2704">
                <a:moveTo>
                  <a:pt x="14288" y="7541"/>
                </a:moveTo>
                <a:cubicBezTo>
                  <a:pt x="14409" y="7739"/>
                  <a:pt x="14499" y="7860"/>
                  <a:pt x="14511" y="8086"/>
                </a:cubicBezTo>
                <a:cubicBezTo>
                  <a:pt x="14517" y="8212"/>
                  <a:pt x="14474" y="8317"/>
                  <a:pt x="14436" y="8434"/>
                </a:cubicBezTo>
                <a:cubicBezTo>
                  <a:pt x="14404" y="8531"/>
                  <a:pt x="14366" y="8600"/>
                  <a:pt x="14263" y="8632"/>
                </a:cubicBezTo>
                <a:cubicBezTo>
                  <a:pt x="14230" y="8642"/>
                  <a:pt x="14208" y="8602"/>
                  <a:pt x="14188" y="8582"/>
                </a:cubicBezTo>
              </a:path>
              <a:path w="12056" h="2704">
                <a:moveTo>
                  <a:pt x="14436" y="7045"/>
                </a:moveTo>
                <a:cubicBezTo>
                  <a:pt x="14481" y="7000"/>
                  <a:pt x="14611" y="6837"/>
                  <a:pt x="14660" y="6995"/>
                </a:cubicBezTo>
                <a:cubicBezTo>
                  <a:pt x="14688" y="7084"/>
                  <a:pt x="14639" y="7121"/>
                  <a:pt x="14585" y="7169"/>
                </a:cubicBezTo>
                <a:cubicBezTo>
                  <a:pt x="14544" y="7205"/>
                  <a:pt x="14498" y="7244"/>
                  <a:pt x="14486" y="7293"/>
                </a:cubicBezTo>
                <a:cubicBezTo>
                  <a:pt x="14541" y="7306"/>
                  <a:pt x="14600" y="7346"/>
                  <a:pt x="14660" y="7367"/>
                </a:cubicBezTo>
                <a:cubicBezTo>
                  <a:pt x="14748" y="7397"/>
                  <a:pt x="14788" y="7405"/>
                  <a:pt x="14858" y="7392"/>
                </a:cubicBezTo>
              </a:path>
              <a:path w="12056" h="2704">
                <a:moveTo>
                  <a:pt x="10344" y="7144"/>
                </a:moveTo>
                <a:cubicBezTo>
                  <a:pt x="10252" y="7196"/>
                  <a:pt x="10245" y="7252"/>
                  <a:pt x="10195" y="7342"/>
                </a:cubicBezTo>
                <a:cubicBezTo>
                  <a:pt x="10120" y="7476"/>
                  <a:pt x="10067" y="7616"/>
                  <a:pt x="10021" y="7764"/>
                </a:cubicBezTo>
                <a:cubicBezTo>
                  <a:pt x="9985" y="7880"/>
                  <a:pt x="9921" y="8096"/>
                  <a:pt x="9971" y="8210"/>
                </a:cubicBezTo>
                <a:cubicBezTo>
                  <a:pt x="10003" y="8284"/>
                  <a:pt x="10076" y="8342"/>
                  <a:pt x="10145" y="8359"/>
                </a:cubicBezTo>
              </a:path>
              <a:path w="12056" h="2704">
                <a:moveTo>
                  <a:pt x="10294" y="8012"/>
                </a:moveTo>
                <a:cubicBezTo>
                  <a:pt x="10384" y="7982"/>
                  <a:pt x="10442" y="8020"/>
                  <a:pt x="10517" y="8012"/>
                </a:cubicBezTo>
                <a:cubicBezTo>
                  <a:pt x="10534" y="8004"/>
                  <a:pt x="10550" y="7995"/>
                  <a:pt x="10567" y="7987"/>
                </a:cubicBezTo>
              </a:path>
              <a:path w="12056" h="2704">
                <a:moveTo>
                  <a:pt x="10691" y="7615"/>
                </a:moveTo>
                <a:cubicBezTo>
                  <a:pt x="10806" y="7623"/>
                  <a:pt x="10857" y="7612"/>
                  <a:pt x="10864" y="7739"/>
                </a:cubicBezTo>
                <a:cubicBezTo>
                  <a:pt x="10870" y="7852"/>
                  <a:pt x="10801" y="7865"/>
                  <a:pt x="10740" y="7938"/>
                </a:cubicBezTo>
                <a:cubicBezTo>
                  <a:pt x="10695" y="7992"/>
                  <a:pt x="10647" y="8044"/>
                  <a:pt x="10641" y="8111"/>
                </a:cubicBezTo>
                <a:cubicBezTo>
                  <a:pt x="10637" y="8163"/>
                  <a:pt x="10702" y="8190"/>
                  <a:pt x="10740" y="8210"/>
                </a:cubicBezTo>
                <a:cubicBezTo>
                  <a:pt x="10827" y="8256"/>
                  <a:pt x="10897" y="8220"/>
                  <a:pt x="10988" y="8210"/>
                </a:cubicBezTo>
              </a:path>
              <a:path w="12056" h="2704">
                <a:moveTo>
                  <a:pt x="11038" y="7268"/>
                </a:moveTo>
                <a:cubicBezTo>
                  <a:pt x="11130" y="7406"/>
                  <a:pt x="11242" y="7564"/>
                  <a:pt x="11237" y="7739"/>
                </a:cubicBezTo>
                <a:cubicBezTo>
                  <a:pt x="11233" y="7876"/>
                  <a:pt x="11170" y="8057"/>
                  <a:pt x="11088" y="8161"/>
                </a:cubicBezTo>
                <a:cubicBezTo>
                  <a:pt x="10988" y="8260"/>
                  <a:pt x="10938" y="8309"/>
                  <a:pt x="10864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880" y="3357720"/>
            <a:ext cx="3510000" cy="723600"/>
          </a:xfrm>
          <a:custGeom>
            <a:avLst/>
            <a:gdLst/>
            <a:ahLst/>
            <a:rect l="l" t="t" r="r" b="b"/>
            <a:pathLst>
              <a:path w="9749" h="2010">
                <a:moveTo>
                  <a:pt x="2034" y="9798"/>
                </a:moveTo>
                <a:cubicBezTo>
                  <a:pt x="2125" y="9798"/>
                  <a:pt x="2216" y="9798"/>
                  <a:pt x="2307" y="9798"/>
                </a:cubicBezTo>
              </a:path>
              <a:path w="9749" h="2010">
                <a:moveTo>
                  <a:pt x="2753" y="9550"/>
                </a:moveTo>
                <a:cubicBezTo>
                  <a:pt x="2849" y="9550"/>
                  <a:pt x="2919" y="9543"/>
                  <a:pt x="3001" y="9599"/>
                </a:cubicBezTo>
                <a:cubicBezTo>
                  <a:pt x="3031" y="9629"/>
                  <a:pt x="3045" y="9640"/>
                  <a:pt x="3076" y="9649"/>
                </a:cubicBezTo>
                <a:cubicBezTo>
                  <a:pt x="3049" y="9730"/>
                  <a:pt x="3014" y="9772"/>
                  <a:pt x="2952" y="9823"/>
                </a:cubicBezTo>
                <a:cubicBezTo>
                  <a:pt x="2911" y="9857"/>
                  <a:pt x="2867" y="9867"/>
                  <a:pt x="2828" y="9897"/>
                </a:cubicBezTo>
                <a:cubicBezTo>
                  <a:pt x="2840" y="9932"/>
                  <a:pt x="2882" y="9947"/>
                  <a:pt x="2927" y="9971"/>
                </a:cubicBezTo>
                <a:cubicBezTo>
                  <a:pt x="3008" y="10013"/>
                  <a:pt x="3084" y="10058"/>
                  <a:pt x="3150" y="10120"/>
                </a:cubicBezTo>
                <a:cubicBezTo>
                  <a:pt x="3204" y="10171"/>
                  <a:pt x="3228" y="10234"/>
                  <a:pt x="3175" y="10294"/>
                </a:cubicBezTo>
                <a:cubicBezTo>
                  <a:pt x="3090" y="10392"/>
                  <a:pt x="2951" y="10381"/>
                  <a:pt x="2828" y="10393"/>
                </a:cubicBezTo>
                <a:cubicBezTo>
                  <a:pt x="2797" y="10396"/>
                  <a:pt x="2654" y="10402"/>
                  <a:pt x="2654" y="10344"/>
                </a:cubicBezTo>
                <a:cubicBezTo>
                  <a:pt x="2662" y="10336"/>
                  <a:pt x="2671" y="10327"/>
                  <a:pt x="2679" y="10319"/>
                </a:cubicBezTo>
              </a:path>
              <a:path w="9749" h="2010">
                <a:moveTo>
                  <a:pt x="3448" y="9500"/>
                </a:moveTo>
                <a:cubicBezTo>
                  <a:pt x="3529" y="9469"/>
                  <a:pt x="3587" y="9491"/>
                  <a:pt x="3671" y="9475"/>
                </a:cubicBezTo>
                <a:cubicBezTo>
                  <a:pt x="3757" y="9459"/>
                  <a:pt x="3862" y="9473"/>
                  <a:pt x="3944" y="9451"/>
                </a:cubicBezTo>
                <a:cubicBezTo>
                  <a:pt x="3984" y="9431"/>
                  <a:pt x="3991" y="9422"/>
                  <a:pt x="4018" y="9426"/>
                </a:cubicBezTo>
              </a:path>
              <a:path w="9749" h="2010">
                <a:moveTo>
                  <a:pt x="3522" y="9500"/>
                </a:moveTo>
                <a:cubicBezTo>
                  <a:pt x="3477" y="9628"/>
                  <a:pt x="3473" y="9690"/>
                  <a:pt x="3473" y="9823"/>
                </a:cubicBezTo>
                <a:cubicBezTo>
                  <a:pt x="3473" y="10055"/>
                  <a:pt x="3485" y="10294"/>
                  <a:pt x="3448" y="10517"/>
                </a:cubicBezTo>
                <a:cubicBezTo>
                  <a:pt x="3437" y="10584"/>
                  <a:pt x="3448" y="10601"/>
                  <a:pt x="3423" y="10666"/>
                </a:cubicBezTo>
                <a:cubicBezTo>
                  <a:pt x="3436" y="10656"/>
                  <a:pt x="3470" y="10624"/>
                  <a:pt x="3497" y="10616"/>
                </a:cubicBezTo>
                <a:cubicBezTo>
                  <a:pt x="3611" y="10583"/>
                  <a:pt x="3760" y="10629"/>
                  <a:pt x="3870" y="10641"/>
                </a:cubicBezTo>
                <a:cubicBezTo>
                  <a:pt x="3946" y="10650"/>
                  <a:pt x="4020" y="10662"/>
                  <a:pt x="4093" y="10666"/>
                </a:cubicBezTo>
                <a:cubicBezTo>
                  <a:pt x="4137" y="10666"/>
                  <a:pt x="4151" y="10669"/>
                  <a:pt x="4167" y="10641"/>
                </a:cubicBezTo>
              </a:path>
              <a:path w="9749" h="2010">
                <a:moveTo>
                  <a:pt x="4341" y="9947"/>
                </a:moveTo>
                <a:cubicBezTo>
                  <a:pt x="4412" y="10028"/>
                  <a:pt x="4423" y="10097"/>
                  <a:pt x="4465" y="10195"/>
                </a:cubicBezTo>
                <a:cubicBezTo>
                  <a:pt x="4512" y="10304"/>
                  <a:pt x="4586" y="10403"/>
                  <a:pt x="4663" y="10492"/>
                </a:cubicBezTo>
                <a:cubicBezTo>
                  <a:pt x="4713" y="10551"/>
                  <a:pt x="4782" y="10623"/>
                  <a:pt x="4862" y="10641"/>
                </a:cubicBezTo>
                <a:cubicBezTo>
                  <a:pt x="4906" y="10641"/>
                  <a:pt x="4920" y="10644"/>
                  <a:pt x="4936" y="10616"/>
                </a:cubicBezTo>
              </a:path>
              <a:path w="9749" h="2010">
                <a:moveTo>
                  <a:pt x="4787" y="9922"/>
                </a:moveTo>
                <a:cubicBezTo>
                  <a:pt x="4735" y="10005"/>
                  <a:pt x="4671" y="10105"/>
                  <a:pt x="4638" y="10195"/>
                </a:cubicBezTo>
                <a:cubicBezTo>
                  <a:pt x="4602" y="10293"/>
                  <a:pt x="4566" y="10399"/>
                  <a:pt x="4514" y="10492"/>
                </a:cubicBezTo>
                <a:cubicBezTo>
                  <a:pt x="4490" y="10536"/>
                  <a:pt x="4452" y="10570"/>
                  <a:pt x="4440" y="10616"/>
                </a:cubicBezTo>
              </a:path>
              <a:path w="9749" h="2010">
                <a:moveTo>
                  <a:pt x="4961" y="9376"/>
                </a:moveTo>
                <a:cubicBezTo>
                  <a:pt x="5084" y="9340"/>
                  <a:pt x="5138" y="9290"/>
                  <a:pt x="5234" y="9376"/>
                </a:cubicBezTo>
                <a:cubicBezTo>
                  <a:pt x="5287" y="9423"/>
                  <a:pt x="5245" y="9429"/>
                  <a:pt x="5234" y="9451"/>
                </a:cubicBezTo>
                <a:cubicBezTo>
                  <a:pt x="5218" y="9483"/>
                  <a:pt x="5209" y="9475"/>
                  <a:pt x="5209" y="9525"/>
                </a:cubicBezTo>
                <a:cubicBezTo>
                  <a:pt x="5209" y="9578"/>
                  <a:pt x="5279" y="9608"/>
                  <a:pt x="5308" y="9649"/>
                </a:cubicBezTo>
                <a:cubicBezTo>
                  <a:pt x="5349" y="9707"/>
                  <a:pt x="5404" y="9782"/>
                  <a:pt x="5358" y="9847"/>
                </a:cubicBezTo>
                <a:cubicBezTo>
                  <a:pt x="5352" y="9855"/>
                  <a:pt x="5248" y="9894"/>
                  <a:pt x="5234" y="9897"/>
                </a:cubicBezTo>
                <a:cubicBezTo>
                  <a:pt x="5204" y="9905"/>
                  <a:pt x="5166" y="9897"/>
                  <a:pt x="5135" y="9897"/>
                </a:cubicBezTo>
              </a:path>
              <a:path w="9749" h="2010">
                <a:moveTo>
                  <a:pt x="5407" y="10220"/>
                </a:moveTo>
                <a:cubicBezTo>
                  <a:pt x="5493" y="10261"/>
                  <a:pt x="5535" y="10269"/>
                  <a:pt x="5631" y="10269"/>
                </a:cubicBezTo>
                <a:cubicBezTo>
                  <a:pt x="5720" y="10269"/>
                  <a:pt x="5795" y="10276"/>
                  <a:pt x="5879" y="10244"/>
                </a:cubicBezTo>
                <a:cubicBezTo>
                  <a:pt x="5895" y="10236"/>
                  <a:pt x="5912" y="10228"/>
                  <a:pt x="5928" y="10220"/>
                </a:cubicBezTo>
              </a:path>
              <a:path w="9749" h="2010">
                <a:moveTo>
                  <a:pt x="6176" y="9897"/>
                </a:moveTo>
                <a:cubicBezTo>
                  <a:pt x="6167" y="9995"/>
                  <a:pt x="6134" y="10075"/>
                  <a:pt x="6102" y="10170"/>
                </a:cubicBezTo>
                <a:cubicBezTo>
                  <a:pt x="6073" y="10257"/>
                  <a:pt x="5995" y="10378"/>
                  <a:pt x="6003" y="10468"/>
                </a:cubicBezTo>
                <a:cubicBezTo>
                  <a:pt x="6010" y="10549"/>
                  <a:pt x="6049" y="10609"/>
                  <a:pt x="6102" y="10666"/>
                </a:cubicBezTo>
                <a:cubicBezTo>
                  <a:pt x="6173" y="10742"/>
                  <a:pt x="6213" y="10704"/>
                  <a:pt x="6300" y="10691"/>
                </a:cubicBezTo>
                <a:cubicBezTo>
                  <a:pt x="6380" y="10679"/>
                  <a:pt x="6407" y="10642"/>
                  <a:pt x="6449" y="10567"/>
                </a:cubicBezTo>
                <a:cubicBezTo>
                  <a:pt x="6505" y="10466"/>
                  <a:pt x="6527" y="10440"/>
                  <a:pt x="6424" y="10344"/>
                </a:cubicBezTo>
                <a:cubicBezTo>
                  <a:pt x="6400" y="10344"/>
                  <a:pt x="6391" y="10344"/>
                  <a:pt x="6375" y="10344"/>
                </a:cubicBezTo>
                <a:cubicBezTo>
                  <a:pt x="6330" y="10398"/>
                  <a:pt x="6325" y="10423"/>
                  <a:pt x="6325" y="10492"/>
                </a:cubicBezTo>
                <a:cubicBezTo>
                  <a:pt x="6325" y="10566"/>
                  <a:pt x="6361" y="10583"/>
                  <a:pt x="6424" y="10616"/>
                </a:cubicBezTo>
                <a:cubicBezTo>
                  <a:pt x="6472" y="10640"/>
                  <a:pt x="6487" y="10648"/>
                  <a:pt x="6524" y="10641"/>
                </a:cubicBezTo>
              </a:path>
              <a:path w="9749" h="2010">
                <a:moveTo>
                  <a:pt x="6772" y="10294"/>
                </a:moveTo>
                <a:cubicBezTo>
                  <a:pt x="6850" y="10431"/>
                  <a:pt x="6940" y="10497"/>
                  <a:pt x="7069" y="10592"/>
                </a:cubicBezTo>
                <a:cubicBezTo>
                  <a:pt x="7141" y="10645"/>
                  <a:pt x="7230" y="10714"/>
                  <a:pt x="7317" y="10740"/>
                </a:cubicBezTo>
                <a:cubicBezTo>
                  <a:pt x="7325" y="10740"/>
                  <a:pt x="7334" y="10740"/>
                  <a:pt x="7342" y="10740"/>
                </a:cubicBezTo>
              </a:path>
              <a:path w="9749" h="2010">
                <a:moveTo>
                  <a:pt x="7144" y="10195"/>
                </a:moveTo>
                <a:cubicBezTo>
                  <a:pt x="7090" y="10337"/>
                  <a:pt x="7042" y="10428"/>
                  <a:pt x="6945" y="10542"/>
                </a:cubicBezTo>
                <a:cubicBezTo>
                  <a:pt x="6912" y="10581"/>
                  <a:pt x="6842" y="10643"/>
                  <a:pt x="6821" y="10691"/>
                </a:cubicBezTo>
                <a:cubicBezTo>
                  <a:pt x="6821" y="10719"/>
                  <a:pt x="6823" y="10725"/>
                  <a:pt x="6846" y="10691"/>
                </a:cubicBezTo>
              </a:path>
              <a:path w="9749" h="2010">
                <a:moveTo>
                  <a:pt x="7293" y="9599"/>
                </a:moveTo>
                <a:cubicBezTo>
                  <a:pt x="7341" y="9611"/>
                  <a:pt x="7606" y="9625"/>
                  <a:pt x="7590" y="9748"/>
                </a:cubicBezTo>
                <a:cubicBezTo>
                  <a:pt x="7581" y="9817"/>
                  <a:pt x="7511" y="9838"/>
                  <a:pt x="7466" y="9872"/>
                </a:cubicBezTo>
                <a:cubicBezTo>
                  <a:pt x="7438" y="9893"/>
                  <a:pt x="7374" y="9933"/>
                  <a:pt x="7367" y="9947"/>
                </a:cubicBezTo>
                <a:cubicBezTo>
                  <a:pt x="7367" y="9955"/>
                  <a:pt x="7367" y="9963"/>
                  <a:pt x="7367" y="9971"/>
                </a:cubicBezTo>
                <a:cubicBezTo>
                  <a:pt x="7417" y="10001"/>
                  <a:pt x="7478" y="10018"/>
                  <a:pt x="7541" y="10021"/>
                </a:cubicBezTo>
                <a:cubicBezTo>
                  <a:pt x="7615" y="10021"/>
                  <a:pt x="7640" y="10021"/>
                  <a:pt x="7689" y="10021"/>
                </a:cubicBezTo>
              </a:path>
              <a:path w="9749" h="2010">
                <a:moveTo>
                  <a:pt x="7987" y="10468"/>
                </a:moveTo>
                <a:cubicBezTo>
                  <a:pt x="8082" y="10495"/>
                  <a:pt x="8184" y="10513"/>
                  <a:pt x="8285" y="10517"/>
                </a:cubicBezTo>
                <a:cubicBezTo>
                  <a:pt x="8361" y="10520"/>
                  <a:pt x="8379" y="10511"/>
                  <a:pt x="8434" y="10468"/>
                </a:cubicBezTo>
              </a:path>
              <a:path w="9749" h="2010">
                <a:moveTo>
                  <a:pt x="8186" y="10220"/>
                </a:moveTo>
                <a:cubicBezTo>
                  <a:pt x="8171" y="10323"/>
                  <a:pt x="8139" y="10460"/>
                  <a:pt x="8161" y="10567"/>
                </a:cubicBezTo>
                <a:cubicBezTo>
                  <a:pt x="8172" y="10618"/>
                  <a:pt x="8184" y="10721"/>
                  <a:pt x="8210" y="10765"/>
                </a:cubicBezTo>
                <a:cubicBezTo>
                  <a:pt x="8238" y="10812"/>
                  <a:pt x="8224" y="10814"/>
                  <a:pt x="8260" y="10790"/>
                </a:cubicBezTo>
              </a:path>
              <a:path w="9749" h="2010">
                <a:moveTo>
                  <a:pt x="8607" y="10071"/>
                </a:moveTo>
                <a:cubicBezTo>
                  <a:pt x="8587" y="10195"/>
                  <a:pt x="8562" y="10319"/>
                  <a:pt x="8558" y="10443"/>
                </a:cubicBezTo>
                <a:cubicBezTo>
                  <a:pt x="8554" y="10557"/>
                  <a:pt x="8566" y="10659"/>
                  <a:pt x="8582" y="10765"/>
                </a:cubicBezTo>
                <a:cubicBezTo>
                  <a:pt x="8587" y="10796"/>
                  <a:pt x="8579" y="10870"/>
                  <a:pt x="8607" y="10889"/>
                </a:cubicBezTo>
                <a:cubicBezTo>
                  <a:pt x="8615" y="10889"/>
                  <a:pt x="8624" y="10889"/>
                  <a:pt x="8632" y="10889"/>
                </a:cubicBezTo>
              </a:path>
              <a:path w="9749" h="2010">
                <a:moveTo>
                  <a:pt x="8756" y="10170"/>
                </a:moveTo>
                <a:cubicBezTo>
                  <a:pt x="8891" y="10109"/>
                  <a:pt x="8931" y="10060"/>
                  <a:pt x="9054" y="10145"/>
                </a:cubicBezTo>
                <a:cubicBezTo>
                  <a:pt x="9112" y="10185"/>
                  <a:pt x="9119" y="10282"/>
                  <a:pt x="9103" y="10344"/>
                </a:cubicBezTo>
                <a:cubicBezTo>
                  <a:pt x="9080" y="10435"/>
                  <a:pt x="9004" y="10472"/>
                  <a:pt x="8954" y="10542"/>
                </a:cubicBezTo>
                <a:cubicBezTo>
                  <a:pt x="8916" y="10595"/>
                  <a:pt x="8860" y="10621"/>
                  <a:pt x="8855" y="10691"/>
                </a:cubicBezTo>
                <a:cubicBezTo>
                  <a:pt x="8851" y="10755"/>
                  <a:pt x="8856" y="10797"/>
                  <a:pt x="8930" y="10815"/>
                </a:cubicBezTo>
                <a:cubicBezTo>
                  <a:pt x="9024" y="10837"/>
                  <a:pt x="9114" y="10853"/>
                  <a:pt x="9203" y="10815"/>
                </a:cubicBezTo>
                <a:cubicBezTo>
                  <a:pt x="9219" y="10807"/>
                  <a:pt x="9236" y="10798"/>
                  <a:pt x="9252" y="10790"/>
                </a:cubicBezTo>
              </a:path>
              <a:path w="9749" h="2010">
                <a:moveTo>
                  <a:pt x="9376" y="10368"/>
                </a:moveTo>
                <a:cubicBezTo>
                  <a:pt x="9388" y="10430"/>
                  <a:pt x="9423" y="10484"/>
                  <a:pt x="9451" y="10542"/>
                </a:cubicBezTo>
                <a:cubicBezTo>
                  <a:pt x="9500" y="10642"/>
                  <a:pt x="9556" y="10748"/>
                  <a:pt x="9649" y="10815"/>
                </a:cubicBezTo>
                <a:cubicBezTo>
                  <a:pt x="9705" y="10856"/>
                  <a:pt x="9760" y="10875"/>
                  <a:pt x="9823" y="10889"/>
                </a:cubicBezTo>
              </a:path>
              <a:path w="9749" h="2010">
                <a:moveTo>
                  <a:pt x="9674" y="10418"/>
                </a:moveTo>
                <a:cubicBezTo>
                  <a:pt x="9557" y="10559"/>
                  <a:pt x="9465" y="10680"/>
                  <a:pt x="9376" y="10840"/>
                </a:cubicBezTo>
                <a:cubicBezTo>
                  <a:pt x="9348" y="10890"/>
                  <a:pt x="9327" y="10908"/>
                  <a:pt x="9327" y="10964"/>
                </a:cubicBezTo>
              </a:path>
              <a:path w="9749" h="2010">
                <a:moveTo>
                  <a:pt x="9971" y="10517"/>
                </a:moveTo>
                <a:cubicBezTo>
                  <a:pt x="10102" y="10536"/>
                  <a:pt x="10197" y="10558"/>
                  <a:pt x="10319" y="10517"/>
                </a:cubicBezTo>
              </a:path>
              <a:path w="9749" h="2010">
                <a:moveTo>
                  <a:pt x="10641" y="10145"/>
                </a:moveTo>
                <a:cubicBezTo>
                  <a:pt x="10600" y="10192"/>
                  <a:pt x="10519" y="10270"/>
                  <a:pt x="10542" y="10344"/>
                </a:cubicBezTo>
                <a:cubicBezTo>
                  <a:pt x="10559" y="10397"/>
                  <a:pt x="10583" y="10431"/>
                  <a:pt x="10641" y="10443"/>
                </a:cubicBezTo>
                <a:cubicBezTo>
                  <a:pt x="10698" y="10454"/>
                  <a:pt x="10793" y="10453"/>
                  <a:pt x="10840" y="10418"/>
                </a:cubicBezTo>
                <a:cubicBezTo>
                  <a:pt x="10887" y="10384"/>
                  <a:pt x="10976" y="10301"/>
                  <a:pt x="10988" y="10244"/>
                </a:cubicBezTo>
                <a:cubicBezTo>
                  <a:pt x="11010" y="10140"/>
                  <a:pt x="10974" y="10074"/>
                  <a:pt x="10889" y="10021"/>
                </a:cubicBezTo>
                <a:cubicBezTo>
                  <a:pt x="10834" y="9987"/>
                  <a:pt x="10729" y="9979"/>
                  <a:pt x="10666" y="9996"/>
                </a:cubicBezTo>
                <a:cubicBezTo>
                  <a:pt x="10586" y="10017"/>
                  <a:pt x="10576" y="10076"/>
                  <a:pt x="10567" y="10145"/>
                </a:cubicBezTo>
              </a:path>
              <a:path w="9749" h="2010">
                <a:moveTo>
                  <a:pt x="10666" y="10468"/>
                </a:moveTo>
                <a:cubicBezTo>
                  <a:pt x="10623" y="10552"/>
                  <a:pt x="10560" y="10646"/>
                  <a:pt x="10542" y="10740"/>
                </a:cubicBezTo>
                <a:cubicBezTo>
                  <a:pt x="10527" y="10816"/>
                  <a:pt x="10551" y="10871"/>
                  <a:pt x="10616" y="10914"/>
                </a:cubicBezTo>
                <a:cubicBezTo>
                  <a:pt x="10675" y="10953"/>
                  <a:pt x="10769" y="10990"/>
                  <a:pt x="10840" y="10964"/>
                </a:cubicBezTo>
                <a:cubicBezTo>
                  <a:pt x="10884" y="10948"/>
                  <a:pt x="10952" y="10890"/>
                  <a:pt x="10964" y="10840"/>
                </a:cubicBezTo>
                <a:cubicBezTo>
                  <a:pt x="10977" y="10785"/>
                  <a:pt x="10972" y="10687"/>
                  <a:pt x="10939" y="10641"/>
                </a:cubicBezTo>
                <a:cubicBezTo>
                  <a:pt x="10900" y="10588"/>
                  <a:pt x="10742" y="10561"/>
                  <a:pt x="10790" y="10517"/>
                </a:cubicBezTo>
                <a:cubicBezTo>
                  <a:pt x="10815" y="10509"/>
                  <a:pt x="10839" y="10500"/>
                  <a:pt x="10864" y="10492"/>
                </a:cubicBezTo>
              </a:path>
              <a:path w="9749" h="2010">
                <a:moveTo>
                  <a:pt x="10964" y="9649"/>
                </a:moveTo>
                <a:cubicBezTo>
                  <a:pt x="11078" y="9620"/>
                  <a:pt x="11126" y="9636"/>
                  <a:pt x="11237" y="9649"/>
                </a:cubicBezTo>
                <a:cubicBezTo>
                  <a:pt x="11332" y="9660"/>
                  <a:pt x="11453" y="9615"/>
                  <a:pt x="11534" y="9624"/>
                </a:cubicBezTo>
                <a:cubicBezTo>
                  <a:pt x="11557" y="9647"/>
                  <a:pt x="11561" y="9655"/>
                  <a:pt x="11584" y="9649"/>
                </a:cubicBezTo>
                <a:cubicBezTo>
                  <a:pt x="11590" y="9691"/>
                  <a:pt x="11624" y="9882"/>
                  <a:pt x="11609" y="9971"/>
                </a:cubicBezTo>
                <a:cubicBezTo>
                  <a:pt x="11583" y="10125"/>
                  <a:pt x="11597" y="10239"/>
                  <a:pt x="11609" y="10393"/>
                </a:cubicBezTo>
                <a:cubicBezTo>
                  <a:pt x="11623" y="10570"/>
                  <a:pt x="11622" y="10737"/>
                  <a:pt x="11658" y="10914"/>
                </a:cubicBezTo>
                <a:cubicBezTo>
                  <a:pt x="11677" y="11005"/>
                  <a:pt x="11705" y="11102"/>
                  <a:pt x="11733" y="11187"/>
                </a:cubicBezTo>
                <a:cubicBezTo>
                  <a:pt x="11742" y="11215"/>
                  <a:pt x="11778" y="11254"/>
                  <a:pt x="11782" y="11261"/>
                </a:cubicBezTo>
                <a:cubicBezTo>
                  <a:pt x="11749" y="11271"/>
                  <a:pt x="11743" y="11263"/>
                  <a:pt x="11658" y="11261"/>
                </a:cubicBezTo>
                <a:cubicBezTo>
                  <a:pt x="11415" y="11254"/>
                  <a:pt x="11180" y="11296"/>
                  <a:pt x="10939" y="11311"/>
                </a:cubicBezTo>
                <a:cubicBezTo>
                  <a:pt x="10789" y="11311"/>
                  <a:pt x="10754" y="11305"/>
                  <a:pt x="10666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4080" y="4054320"/>
            <a:ext cx="2714760" cy="517680"/>
          </a:xfrm>
          <a:custGeom>
            <a:avLst/>
            <a:gdLst/>
            <a:ahLst/>
            <a:rect l="l" t="t" r="r" b="b"/>
            <a:pathLst>
              <a:path w="7542" h="1440">
                <a:moveTo>
                  <a:pt x="2927" y="11609"/>
                </a:moveTo>
                <a:cubicBezTo>
                  <a:pt x="3018" y="11638"/>
                  <a:pt x="3103" y="11633"/>
                  <a:pt x="3200" y="11633"/>
                </a:cubicBezTo>
                <a:cubicBezTo>
                  <a:pt x="3276" y="11633"/>
                  <a:pt x="3302" y="11634"/>
                  <a:pt x="3349" y="11658"/>
                </a:cubicBezTo>
              </a:path>
              <a:path w="7542" h="1440">
                <a:moveTo>
                  <a:pt x="3646" y="11410"/>
                </a:moveTo>
                <a:cubicBezTo>
                  <a:pt x="3757" y="11363"/>
                  <a:pt x="3803" y="11341"/>
                  <a:pt x="3919" y="11385"/>
                </a:cubicBezTo>
                <a:cubicBezTo>
                  <a:pt x="3984" y="11410"/>
                  <a:pt x="4036" y="11446"/>
                  <a:pt x="4043" y="11509"/>
                </a:cubicBezTo>
                <a:cubicBezTo>
                  <a:pt x="4049" y="11560"/>
                  <a:pt x="4008" y="11649"/>
                  <a:pt x="3969" y="11683"/>
                </a:cubicBezTo>
                <a:cubicBezTo>
                  <a:pt x="3930" y="11716"/>
                  <a:pt x="3844" y="11745"/>
                  <a:pt x="3795" y="11757"/>
                </a:cubicBezTo>
                <a:cubicBezTo>
                  <a:pt x="3765" y="11764"/>
                  <a:pt x="3751" y="11774"/>
                  <a:pt x="3721" y="11782"/>
                </a:cubicBezTo>
                <a:cubicBezTo>
                  <a:pt x="3782" y="11828"/>
                  <a:pt x="3846" y="11833"/>
                  <a:pt x="3919" y="11881"/>
                </a:cubicBezTo>
                <a:cubicBezTo>
                  <a:pt x="3991" y="11928"/>
                  <a:pt x="4050" y="12023"/>
                  <a:pt x="4068" y="12105"/>
                </a:cubicBezTo>
                <a:cubicBezTo>
                  <a:pt x="4084" y="12179"/>
                  <a:pt x="4054" y="12197"/>
                  <a:pt x="3994" y="12229"/>
                </a:cubicBezTo>
                <a:cubicBezTo>
                  <a:pt x="3916" y="12271"/>
                  <a:pt x="3847" y="12260"/>
                  <a:pt x="3770" y="12254"/>
                </a:cubicBezTo>
                <a:cubicBezTo>
                  <a:pt x="3714" y="12249"/>
                  <a:pt x="3650" y="12270"/>
                  <a:pt x="3621" y="12204"/>
                </a:cubicBezTo>
                <a:cubicBezTo>
                  <a:pt x="3621" y="12196"/>
                  <a:pt x="3621" y="12187"/>
                  <a:pt x="3621" y="12179"/>
                </a:cubicBezTo>
              </a:path>
              <a:path w="7542" h="1440">
                <a:moveTo>
                  <a:pt x="4341" y="11757"/>
                </a:moveTo>
                <a:cubicBezTo>
                  <a:pt x="4394" y="11873"/>
                  <a:pt x="4443" y="11974"/>
                  <a:pt x="4514" y="12080"/>
                </a:cubicBezTo>
                <a:cubicBezTo>
                  <a:pt x="4583" y="12184"/>
                  <a:pt x="4673" y="12273"/>
                  <a:pt x="4787" y="12328"/>
                </a:cubicBezTo>
                <a:cubicBezTo>
                  <a:pt x="4842" y="12355"/>
                  <a:pt x="4940" y="12410"/>
                  <a:pt x="4986" y="12378"/>
                </a:cubicBezTo>
                <a:cubicBezTo>
                  <a:pt x="4994" y="12370"/>
                  <a:pt x="5003" y="12361"/>
                  <a:pt x="5011" y="12353"/>
                </a:cubicBezTo>
              </a:path>
              <a:path w="7542" h="1440">
                <a:moveTo>
                  <a:pt x="4787" y="11683"/>
                </a:moveTo>
                <a:cubicBezTo>
                  <a:pt x="4710" y="11832"/>
                  <a:pt x="4662" y="11984"/>
                  <a:pt x="4589" y="12129"/>
                </a:cubicBezTo>
                <a:cubicBezTo>
                  <a:pt x="4557" y="12193"/>
                  <a:pt x="4491" y="12263"/>
                  <a:pt x="4465" y="12328"/>
                </a:cubicBezTo>
                <a:cubicBezTo>
                  <a:pt x="4449" y="12368"/>
                  <a:pt x="4465" y="12395"/>
                  <a:pt x="4465" y="12328"/>
                </a:cubicBezTo>
              </a:path>
              <a:path w="7542" h="1440">
                <a:moveTo>
                  <a:pt x="4812" y="11311"/>
                </a:moveTo>
                <a:cubicBezTo>
                  <a:pt x="4955" y="11274"/>
                  <a:pt x="4994" y="11220"/>
                  <a:pt x="5085" y="11311"/>
                </a:cubicBezTo>
                <a:cubicBezTo>
                  <a:pt x="5138" y="11364"/>
                  <a:pt x="5097" y="11386"/>
                  <a:pt x="5085" y="11410"/>
                </a:cubicBezTo>
                <a:cubicBezTo>
                  <a:pt x="5074" y="11433"/>
                  <a:pt x="5066" y="11459"/>
                  <a:pt x="5060" y="11485"/>
                </a:cubicBezTo>
                <a:cubicBezTo>
                  <a:pt x="5113" y="11498"/>
                  <a:pt x="5143" y="11543"/>
                  <a:pt x="5184" y="11584"/>
                </a:cubicBezTo>
                <a:cubicBezTo>
                  <a:pt x="5199" y="11599"/>
                  <a:pt x="5266" y="11682"/>
                  <a:pt x="5234" y="11708"/>
                </a:cubicBezTo>
                <a:cubicBezTo>
                  <a:pt x="5203" y="11733"/>
                  <a:pt x="5153" y="11733"/>
                  <a:pt x="5110" y="11733"/>
                </a:cubicBezTo>
                <a:cubicBezTo>
                  <a:pt x="5050" y="11733"/>
                  <a:pt x="5026" y="11743"/>
                  <a:pt x="5011" y="11683"/>
                </a:cubicBezTo>
              </a:path>
              <a:path w="7542" h="1440">
                <a:moveTo>
                  <a:pt x="5705" y="11609"/>
                </a:moveTo>
                <a:cubicBezTo>
                  <a:pt x="5727" y="11696"/>
                  <a:pt x="5745" y="11793"/>
                  <a:pt x="5755" y="11881"/>
                </a:cubicBezTo>
                <a:cubicBezTo>
                  <a:pt x="5765" y="11966"/>
                  <a:pt x="5748" y="12047"/>
                  <a:pt x="5779" y="12129"/>
                </a:cubicBezTo>
                <a:cubicBezTo>
                  <a:pt x="5798" y="12180"/>
                  <a:pt x="5804" y="12180"/>
                  <a:pt x="5804" y="12229"/>
                </a:cubicBezTo>
              </a:path>
              <a:path w="7542" h="1440">
                <a:moveTo>
                  <a:pt x="5581" y="11956"/>
                </a:moveTo>
                <a:cubicBezTo>
                  <a:pt x="5718" y="11976"/>
                  <a:pt x="5840" y="11981"/>
                  <a:pt x="5978" y="11981"/>
                </a:cubicBezTo>
                <a:cubicBezTo>
                  <a:pt x="6003" y="11981"/>
                  <a:pt x="6027" y="11981"/>
                  <a:pt x="6052" y="11981"/>
                </a:cubicBezTo>
              </a:path>
              <a:path w="7542" h="1440">
                <a:moveTo>
                  <a:pt x="6325" y="11633"/>
                </a:moveTo>
                <a:cubicBezTo>
                  <a:pt x="6325" y="11835"/>
                  <a:pt x="6328" y="12032"/>
                  <a:pt x="6350" y="12229"/>
                </a:cubicBezTo>
                <a:cubicBezTo>
                  <a:pt x="6359" y="12305"/>
                  <a:pt x="6379" y="12341"/>
                  <a:pt x="6400" y="12402"/>
                </a:cubicBezTo>
                <a:cubicBezTo>
                  <a:pt x="6400" y="12427"/>
                  <a:pt x="6400" y="12435"/>
                  <a:pt x="6424" y="12427"/>
                </a:cubicBezTo>
              </a:path>
              <a:path w="7542" h="1440">
                <a:moveTo>
                  <a:pt x="6871" y="11757"/>
                </a:moveTo>
                <a:cubicBezTo>
                  <a:pt x="6796" y="11694"/>
                  <a:pt x="6787" y="11694"/>
                  <a:pt x="6697" y="11708"/>
                </a:cubicBezTo>
                <a:cubicBezTo>
                  <a:pt x="6627" y="11719"/>
                  <a:pt x="6604" y="11719"/>
                  <a:pt x="6598" y="11782"/>
                </a:cubicBezTo>
                <a:cubicBezTo>
                  <a:pt x="6590" y="11865"/>
                  <a:pt x="6656" y="11964"/>
                  <a:pt x="6697" y="12030"/>
                </a:cubicBezTo>
                <a:cubicBezTo>
                  <a:pt x="6750" y="12115"/>
                  <a:pt x="6823" y="12231"/>
                  <a:pt x="6846" y="12328"/>
                </a:cubicBezTo>
                <a:cubicBezTo>
                  <a:pt x="6858" y="12380"/>
                  <a:pt x="6844" y="12413"/>
                  <a:pt x="6821" y="12452"/>
                </a:cubicBezTo>
                <a:cubicBezTo>
                  <a:pt x="6765" y="12452"/>
                  <a:pt x="6730" y="12427"/>
                  <a:pt x="6697" y="12378"/>
                </a:cubicBezTo>
                <a:cubicBezTo>
                  <a:pt x="6649" y="12307"/>
                  <a:pt x="6628" y="12213"/>
                  <a:pt x="6648" y="12129"/>
                </a:cubicBezTo>
                <a:cubicBezTo>
                  <a:pt x="6662" y="12073"/>
                  <a:pt x="6758" y="11975"/>
                  <a:pt x="6796" y="11931"/>
                </a:cubicBezTo>
                <a:cubicBezTo>
                  <a:pt x="6845" y="11874"/>
                  <a:pt x="6896" y="11838"/>
                  <a:pt x="6945" y="11782"/>
                </a:cubicBezTo>
                <a:cubicBezTo>
                  <a:pt x="6970" y="11757"/>
                  <a:pt x="6978" y="11749"/>
                  <a:pt x="6995" y="11733"/>
                </a:cubicBezTo>
              </a:path>
              <a:path w="7542" h="1440">
                <a:moveTo>
                  <a:pt x="7119" y="12005"/>
                </a:moveTo>
                <a:cubicBezTo>
                  <a:pt x="7190" y="12191"/>
                  <a:pt x="7259" y="12299"/>
                  <a:pt x="7392" y="12452"/>
                </a:cubicBezTo>
                <a:cubicBezTo>
                  <a:pt x="7459" y="12529"/>
                  <a:pt x="7502" y="12543"/>
                  <a:pt x="7590" y="12576"/>
                </a:cubicBezTo>
              </a:path>
              <a:path w="7542" h="1440">
                <a:moveTo>
                  <a:pt x="7392" y="12030"/>
                </a:moveTo>
                <a:cubicBezTo>
                  <a:pt x="7326" y="12162"/>
                  <a:pt x="7214" y="12334"/>
                  <a:pt x="7169" y="12477"/>
                </a:cubicBezTo>
                <a:cubicBezTo>
                  <a:pt x="7151" y="12534"/>
                  <a:pt x="7134" y="12580"/>
                  <a:pt x="7169" y="12626"/>
                </a:cubicBezTo>
              </a:path>
              <a:path w="7542" h="1440">
                <a:moveTo>
                  <a:pt x="7615" y="11385"/>
                </a:moveTo>
                <a:cubicBezTo>
                  <a:pt x="7666" y="11389"/>
                  <a:pt x="7811" y="11385"/>
                  <a:pt x="7838" y="11460"/>
                </a:cubicBezTo>
                <a:cubicBezTo>
                  <a:pt x="7866" y="11538"/>
                  <a:pt x="7785" y="11587"/>
                  <a:pt x="7739" y="11633"/>
                </a:cubicBezTo>
                <a:cubicBezTo>
                  <a:pt x="7697" y="11675"/>
                  <a:pt x="7711" y="11687"/>
                  <a:pt x="7739" y="11708"/>
                </a:cubicBezTo>
                <a:cubicBezTo>
                  <a:pt x="7790" y="11746"/>
                  <a:pt x="7848" y="11733"/>
                  <a:pt x="7913" y="11733"/>
                </a:cubicBezTo>
                <a:cubicBezTo>
                  <a:pt x="7971" y="11733"/>
                  <a:pt x="8028" y="11733"/>
                  <a:pt x="8086" y="11733"/>
                </a:cubicBezTo>
              </a:path>
              <a:path w="7542" h="1440">
                <a:moveTo>
                  <a:pt x="8111" y="12105"/>
                </a:moveTo>
                <a:cubicBezTo>
                  <a:pt x="8226" y="12150"/>
                  <a:pt x="8287" y="12154"/>
                  <a:pt x="8409" y="12154"/>
                </a:cubicBezTo>
              </a:path>
              <a:path w="7542" h="1440">
                <a:moveTo>
                  <a:pt x="8632" y="11782"/>
                </a:moveTo>
                <a:cubicBezTo>
                  <a:pt x="8772" y="11770"/>
                  <a:pt x="8861" y="11735"/>
                  <a:pt x="8954" y="11857"/>
                </a:cubicBezTo>
                <a:cubicBezTo>
                  <a:pt x="8993" y="11908"/>
                  <a:pt x="8993" y="11985"/>
                  <a:pt x="8954" y="12030"/>
                </a:cubicBezTo>
                <a:cubicBezTo>
                  <a:pt x="8910" y="12081"/>
                  <a:pt x="8815" y="12152"/>
                  <a:pt x="8756" y="12179"/>
                </a:cubicBezTo>
                <a:cubicBezTo>
                  <a:pt x="8728" y="12179"/>
                  <a:pt x="8717" y="12181"/>
                  <a:pt x="8706" y="12204"/>
                </a:cubicBezTo>
                <a:cubicBezTo>
                  <a:pt x="8772" y="12204"/>
                  <a:pt x="8819" y="12202"/>
                  <a:pt x="8880" y="12229"/>
                </a:cubicBezTo>
                <a:cubicBezTo>
                  <a:pt x="8964" y="12267"/>
                  <a:pt x="9012" y="12336"/>
                  <a:pt x="9029" y="12427"/>
                </a:cubicBezTo>
                <a:cubicBezTo>
                  <a:pt x="9044" y="12507"/>
                  <a:pt x="9019" y="12576"/>
                  <a:pt x="8954" y="12626"/>
                </a:cubicBezTo>
                <a:cubicBezTo>
                  <a:pt x="8900" y="12667"/>
                  <a:pt x="8821" y="12696"/>
                  <a:pt x="8756" y="12700"/>
                </a:cubicBezTo>
                <a:cubicBezTo>
                  <a:pt x="8683" y="12704"/>
                  <a:pt x="8661" y="12667"/>
                  <a:pt x="8657" y="12601"/>
                </a:cubicBezTo>
                <a:cubicBezTo>
                  <a:pt x="8651" y="12506"/>
                  <a:pt x="8685" y="12460"/>
                  <a:pt x="8731" y="12378"/>
                </a:cubicBezTo>
              </a:path>
              <a:path w="7542" h="1440">
                <a:moveTo>
                  <a:pt x="9327" y="11956"/>
                </a:moveTo>
                <a:cubicBezTo>
                  <a:pt x="9302" y="12053"/>
                  <a:pt x="9219" y="12267"/>
                  <a:pt x="9227" y="12378"/>
                </a:cubicBezTo>
                <a:cubicBezTo>
                  <a:pt x="9234" y="12468"/>
                  <a:pt x="9291" y="12563"/>
                  <a:pt x="9351" y="12626"/>
                </a:cubicBezTo>
                <a:cubicBezTo>
                  <a:pt x="9395" y="12672"/>
                  <a:pt x="9454" y="12724"/>
                  <a:pt x="9525" y="12700"/>
                </a:cubicBezTo>
                <a:cubicBezTo>
                  <a:pt x="9617" y="12669"/>
                  <a:pt x="9695" y="12596"/>
                  <a:pt x="9723" y="12502"/>
                </a:cubicBezTo>
                <a:cubicBezTo>
                  <a:pt x="9736" y="12460"/>
                  <a:pt x="9735" y="12356"/>
                  <a:pt x="9699" y="12328"/>
                </a:cubicBezTo>
                <a:cubicBezTo>
                  <a:pt x="9659" y="12297"/>
                  <a:pt x="9584" y="12283"/>
                  <a:pt x="9550" y="12328"/>
                </a:cubicBezTo>
                <a:cubicBezTo>
                  <a:pt x="9499" y="12395"/>
                  <a:pt x="9500" y="12443"/>
                  <a:pt x="9500" y="12526"/>
                </a:cubicBezTo>
                <a:cubicBezTo>
                  <a:pt x="9500" y="12597"/>
                  <a:pt x="9551" y="12612"/>
                  <a:pt x="9599" y="12650"/>
                </a:cubicBezTo>
              </a:path>
              <a:path w="7542" h="1440">
                <a:moveTo>
                  <a:pt x="9947" y="11782"/>
                </a:moveTo>
                <a:cubicBezTo>
                  <a:pt x="10000" y="11850"/>
                  <a:pt x="10025" y="11937"/>
                  <a:pt x="10071" y="12005"/>
                </a:cubicBezTo>
                <a:cubicBezTo>
                  <a:pt x="10151" y="12123"/>
                  <a:pt x="10249" y="12283"/>
                  <a:pt x="10344" y="12378"/>
                </a:cubicBezTo>
                <a:cubicBezTo>
                  <a:pt x="10389" y="12423"/>
                  <a:pt x="10424" y="12435"/>
                  <a:pt x="10468" y="12402"/>
                </a:cubicBezTo>
              </a:path>
              <a:path w="7542" h="1440">
                <a:moveTo>
                  <a:pt x="10468" y="11857"/>
                </a:moveTo>
                <a:cubicBezTo>
                  <a:pt x="10311" y="12014"/>
                  <a:pt x="10136" y="12147"/>
                  <a:pt x="10046" y="12353"/>
                </a:cubicBezTo>
                <a:cubicBezTo>
                  <a:pt x="10016" y="12422"/>
                  <a:pt x="9969" y="12504"/>
                  <a:pt x="9947" y="12576"/>
                </a:cubicBezTo>
                <a:cubicBezTo>
                  <a:pt x="9947" y="12584"/>
                  <a:pt x="9947" y="12593"/>
                  <a:pt x="9947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17960" y="4268880"/>
            <a:ext cx="625320" cy="482400"/>
          </a:xfrm>
          <a:custGeom>
            <a:avLst/>
            <a:gdLst/>
            <a:ahLst/>
            <a:rect l="l" t="t" r="r" b="b"/>
            <a:pathLst>
              <a:path w="1737" h="1340">
                <a:moveTo>
                  <a:pt x="11162" y="12005"/>
                </a:moveTo>
                <a:cubicBezTo>
                  <a:pt x="11245" y="12035"/>
                  <a:pt x="11364" y="12085"/>
                  <a:pt x="11460" y="12055"/>
                </a:cubicBezTo>
                <a:cubicBezTo>
                  <a:pt x="11468" y="12047"/>
                  <a:pt x="11477" y="12038"/>
                  <a:pt x="11485" y="12030"/>
                </a:cubicBezTo>
              </a:path>
              <a:path w="1737" h="1340">
                <a:moveTo>
                  <a:pt x="11361" y="11881"/>
                </a:moveTo>
                <a:cubicBezTo>
                  <a:pt x="11352" y="12059"/>
                  <a:pt x="11308" y="12284"/>
                  <a:pt x="11385" y="12452"/>
                </a:cubicBezTo>
                <a:cubicBezTo>
                  <a:pt x="11408" y="12475"/>
                  <a:pt x="11416" y="12479"/>
                  <a:pt x="11410" y="12502"/>
                </a:cubicBezTo>
              </a:path>
              <a:path w="1737" h="1340">
                <a:moveTo>
                  <a:pt x="11906" y="11881"/>
                </a:moveTo>
                <a:cubicBezTo>
                  <a:pt x="11938" y="11887"/>
                  <a:pt x="12187" y="11882"/>
                  <a:pt x="12154" y="12005"/>
                </a:cubicBezTo>
                <a:cubicBezTo>
                  <a:pt x="12136" y="12071"/>
                  <a:pt x="12084" y="12163"/>
                  <a:pt x="12030" y="12204"/>
                </a:cubicBezTo>
                <a:cubicBezTo>
                  <a:pt x="11976" y="12245"/>
                  <a:pt x="11901" y="12305"/>
                  <a:pt x="11881" y="12378"/>
                </a:cubicBezTo>
                <a:cubicBezTo>
                  <a:pt x="11868" y="12424"/>
                  <a:pt x="11878" y="12494"/>
                  <a:pt x="11906" y="12526"/>
                </a:cubicBezTo>
                <a:cubicBezTo>
                  <a:pt x="11972" y="12602"/>
                  <a:pt x="12005" y="12621"/>
                  <a:pt x="12105" y="12626"/>
                </a:cubicBezTo>
                <a:cubicBezTo>
                  <a:pt x="12212" y="12631"/>
                  <a:pt x="12272" y="12560"/>
                  <a:pt x="12353" y="12502"/>
                </a:cubicBezTo>
              </a:path>
              <a:path w="1737" h="1340">
                <a:moveTo>
                  <a:pt x="12452" y="12030"/>
                </a:moveTo>
                <a:cubicBezTo>
                  <a:pt x="12452" y="12101"/>
                  <a:pt x="12477" y="12126"/>
                  <a:pt x="12526" y="12179"/>
                </a:cubicBezTo>
                <a:cubicBezTo>
                  <a:pt x="12573" y="12229"/>
                  <a:pt x="12614" y="12248"/>
                  <a:pt x="12675" y="12278"/>
                </a:cubicBezTo>
              </a:path>
              <a:path w="1737" h="1340">
                <a:moveTo>
                  <a:pt x="12799" y="11857"/>
                </a:moveTo>
                <a:cubicBezTo>
                  <a:pt x="12840" y="12082"/>
                  <a:pt x="12828" y="12278"/>
                  <a:pt x="12849" y="12502"/>
                </a:cubicBezTo>
                <a:cubicBezTo>
                  <a:pt x="12865" y="12673"/>
                  <a:pt x="12852" y="12853"/>
                  <a:pt x="12874" y="13022"/>
                </a:cubicBezTo>
                <a:cubicBezTo>
                  <a:pt x="12896" y="13113"/>
                  <a:pt x="12904" y="13136"/>
                  <a:pt x="12898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4010040"/>
            <a:ext cx="2303640" cy="1793880"/>
          </a:xfrm>
          <a:custGeom>
            <a:avLst/>
            <a:gdLst/>
            <a:ahLst/>
            <a:rect l="l" t="t" r="r" b="b"/>
            <a:pathLst>
              <a:path w="6400" h="4987">
                <a:moveTo>
                  <a:pt x="595" y="13444"/>
                </a:moveTo>
                <a:cubicBezTo>
                  <a:pt x="652" y="13444"/>
                  <a:pt x="692" y="13460"/>
                  <a:pt x="744" y="13469"/>
                </a:cubicBezTo>
                <a:cubicBezTo>
                  <a:pt x="823" y="13482"/>
                  <a:pt x="895" y="13455"/>
                  <a:pt x="967" y="13444"/>
                </a:cubicBezTo>
                <a:cubicBezTo>
                  <a:pt x="1042" y="13432"/>
                  <a:pt x="1096" y="13405"/>
                  <a:pt x="1166" y="13370"/>
                </a:cubicBezTo>
              </a:path>
              <a:path w="6400" h="4987">
                <a:moveTo>
                  <a:pt x="1389" y="13246"/>
                </a:moveTo>
                <a:cubicBezTo>
                  <a:pt x="1378" y="13291"/>
                  <a:pt x="1364" y="13401"/>
                  <a:pt x="1339" y="13444"/>
                </a:cubicBezTo>
                <a:cubicBezTo>
                  <a:pt x="1332" y="13457"/>
                  <a:pt x="1289" y="13522"/>
                  <a:pt x="1315" y="13543"/>
                </a:cubicBezTo>
                <a:cubicBezTo>
                  <a:pt x="1330" y="13555"/>
                  <a:pt x="1359" y="13583"/>
                  <a:pt x="1389" y="13593"/>
                </a:cubicBezTo>
                <a:cubicBezTo>
                  <a:pt x="1444" y="13611"/>
                  <a:pt x="1507" y="13630"/>
                  <a:pt x="1563" y="13643"/>
                </a:cubicBezTo>
                <a:cubicBezTo>
                  <a:pt x="1598" y="13643"/>
                  <a:pt x="1615" y="13638"/>
                  <a:pt x="1637" y="13618"/>
                </a:cubicBezTo>
              </a:path>
              <a:path w="6400" h="4987">
                <a:moveTo>
                  <a:pt x="1761" y="13122"/>
                </a:moveTo>
                <a:cubicBezTo>
                  <a:pt x="1752" y="13227"/>
                  <a:pt x="1751" y="13339"/>
                  <a:pt x="1736" y="13444"/>
                </a:cubicBezTo>
                <a:cubicBezTo>
                  <a:pt x="1716" y="13587"/>
                  <a:pt x="1712" y="13720"/>
                  <a:pt x="1712" y="13866"/>
                </a:cubicBezTo>
                <a:cubicBezTo>
                  <a:pt x="1712" y="13969"/>
                  <a:pt x="1736" y="14059"/>
                  <a:pt x="1736" y="14163"/>
                </a:cubicBezTo>
                <a:cubicBezTo>
                  <a:pt x="1736" y="14264"/>
                  <a:pt x="1785" y="14088"/>
                  <a:pt x="1811" y="13990"/>
                </a:cubicBezTo>
              </a:path>
              <a:path w="6400" h="4987">
                <a:moveTo>
                  <a:pt x="2307" y="12725"/>
                </a:moveTo>
                <a:cubicBezTo>
                  <a:pt x="2470" y="12731"/>
                  <a:pt x="2641" y="12731"/>
                  <a:pt x="2803" y="12750"/>
                </a:cubicBezTo>
                <a:cubicBezTo>
                  <a:pt x="2891" y="12760"/>
                  <a:pt x="3063" y="12822"/>
                  <a:pt x="3150" y="12799"/>
                </a:cubicBezTo>
                <a:cubicBezTo>
                  <a:pt x="3158" y="12791"/>
                  <a:pt x="3167" y="12782"/>
                  <a:pt x="3175" y="12774"/>
                </a:cubicBezTo>
              </a:path>
              <a:path w="6400" h="4987">
                <a:moveTo>
                  <a:pt x="2356" y="12799"/>
                </a:moveTo>
                <a:cubicBezTo>
                  <a:pt x="2356" y="13020"/>
                  <a:pt x="2337" y="13226"/>
                  <a:pt x="2332" y="13444"/>
                </a:cubicBezTo>
                <a:cubicBezTo>
                  <a:pt x="2327" y="13637"/>
                  <a:pt x="2322" y="13824"/>
                  <a:pt x="2307" y="14015"/>
                </a:cubicBezTo>
                <a:cubicBezTo>
                  <a:pt x="2298" y="14134"/>
                  <a:pt x="2270" y="14246"/>
                  <a:pt x="2257" y="14362"/>
                </a:cubicBezTo>
                <a:cubicBezTo>
                  <a:pt x="2248" y="14439"/>
                  <a:pt x="2219" y="14518"/>
                  <a:pt x="2208" y="14585"/>
                </a:cubicBezTo>
                <a:cubicBezTo>
                  <a:pt x="2203" y="14616"/>
                  <a:pt x="2196" y="14691"/>
                  <a:pt x="2232" y="14709"/>
                </a:cubicBezTo>
                <a:cubicBezTo>
                  <a:pt x="2270" y="14728"/>
                  <a:pt x="2413" y="14728"/>
                  <a:pt x="2456" y="14734"/>
                </a:cubicBezTo>
                <a:cubicBezTo>
                  <a:pt x="2564" y="14748"/>
                  <a:pt x="2666" y="14759"/>
                  <a:pt x="2778" y="14759"/>
                </a:cubicBezTo>
                <a:cubicBezTo>
                  <a:pt x="2803" y="14759"/>
                  <a:pt x="2828" y="14759"/>
                  <a:pt x="2853" y="14759"/>
                </a:cubicBezTo>
              </a:path>
              <a:path w="6400" h="4987">
                <a:moveTo>
                  <a:pt x="2977" y="14412"/>
                </a:moveTo>
                <a:cubicBezTo>
                  <a:pt x="3049" y="14454"/>
                  <a:pt x="3114" y="14421"/>
                  <a:pt x="3200" y="14436"/>
                </a:cubicBezTo>
                <a:cubicBezTo>
                  <a:pt x="3340" y="14460"/>
                  <a:pt x="3480" y="14467"/>
                  <a:pt x="3621" y="14486"/>
                </a:cubicBezTo>
                <a:cubicBezTo>
                  <a:pt x="3763" y="14505"/>
                  <a:pt x="3900" y="14531"/>
                  <a:pt x="4043" y="14536"/>
                </a:cubicBezTo>
                <a:cubicBezTo>
                  <a:pt x="4134" y="14539"/>
                  <a:pt x="4208" y="14524"/>
                  <a:pt x="4291" y="14511"/>
                </a:cubicBezTo>
                <a:cubicBezTo>
                  <a:pt x="4308" y="14511"/>
                  <a:pt x="4324" y="14511"/>
                  <a:pt x="4341" y="14511"/>
                </a:cubicBezTo>
              </a:path>
              <a:path w="6400" h="4987">
                <a:moveTo>
                  <a:pt x="5531" y="14412"/>
                </a:moveTo>
                <a:cubicBezTo>
                  <a:pt x="5659" y="14412"/>
                  <a:pt x="5777" y="14433"/>
                  <a:pt x="5904" y="14436"/>
                </a:cubicBezTo>
                <a:cubicBezTo>
                  <a:pt x="6055" y="14440"/>
                  <a:pt x="6202" y="14475"/>
                  <a:pt x="6350" y="14486"/>
                </a:cubicBezTo>
                <a:cubicBezTo>
                  <a:pt x="6460" y="14494"/>
                  <a:pt x="6563" y="14504"/>
                  <a:pt x="6672" y="14511"/>
                </a:cubicBezTo>
              </a:path>
              <a:path w="6400" h="4987">
                <a:moveTo>
                  <a:pt x="2803" y="13419"/>
                </a:moveTo>
                <a:cubicBezTo>
                  <a:pt x="2803" y="13588"/>
                  <a:pt x="2793" y="13751"/>
                  <a:pt x="2778" y="13915"/>
                </a:cubicBezTo>
                <a:cubicBezTo>
                  <a:pt x="2768" y="14023"/>
                  <a:pt x="2758" y="14131"/>
                  <a:pt x="2753" y="14238"/>
                </a:cubicBezTo>
                <a:cubicBezTo>
                  <a:pt x="2750" y="14304"/>
                  <a:pt x="2753" y="14370"/>
                  <a:pt x="2753" y="14436"/>
                </a:cubicBezTo>
              </a:path>
              <a:path w="6400" h="4987">
                <a:moveTo>
                  <a:pt x="5135" y="13419"/>
                </a:moveTo>
                <a:cubicBezTo>
                  <a:pt x="5135" y="13541"/>
                  <a:pt x="5137" y="13648"/>
                  <a:pt x="5110" y="13767"/>
                </a:cubicBezTo>
                <a:cubicBezTo>
                  <a:pt x="5074" y="13924"/>
                  <a:pt x="5048" y="14037"/>
                  <a:pt x="5110" y="14188"/>
                </a:cubicBezTo>
                <a:cubicBezTo>
                  <a:pt x="5151" y="14288"/>
                  <a:pt x="5218" y="14298"/>
                  <a:pt x="5308" y="14337"/>
                </a:cubicBezTo>
                <a:cubicBezTo>
                  <a:pt x="5396" y="14375"/>
                  <a:pt x="5424" y="14353"/>
                  <a:pt x="5507" y="14312"/>
                </a:cubicBezTo>
                <a:cubicBezTo>
                  <a:pt x="5580" y="14276"/>
                  <a:pt x="5636" y="14251"/>
                  <a:pt x="5655" y="14163"/>
                </a:cubicBezTo>
                <a:cubicBezTo>
                  <a:pt x="5663" y="14128"/>
                  <a:pt x="5664" y="14061"/>
                  <a:pt x="5631" y="14039"/>
                </a:cubicBezTo>
                <a:cubicBezTo>
                  <a:pt x="5556" y="13988"/>
                  <a:pt x="5526" y="14065"/>
                  <a:pt x="5482" y="14114"/>
                </a:cubicBezTo>
                <a:cubicBezTo>
                  <a:pt x="5416" y="14188"/>
                  <a:pt x="5417" y="14248"/>
                  <a:pt x="5457" y="14337"/>
                </a:cubicBezTo>
                <a:cubicBezTo>
                  <a:pt x="5465" y="14354"/>
                  <a:pt x="5474" y="14370"/>
                  <a:pt x="5482" y="14387"/>
                </a:cubicBezTo>
              </a:path>
              <a:path w="6400" h="4987">
                <a:moveTo>
                  <a:pt x="3225" y="13891"/>
                </a:moveTo>
                <a:cubicBezTo>
                  <a:pt x="3256" y="14000"/>
                  <a:pt x="3287" y="14068"/>
                  <a:pt x="3349" y="14163"/>
                </a:cubicBezTo>
                <a:cubicBezTo>
                  <a:pt x="3400" y="14241"/>
                  <a:pt x="3470" y="14331"/>
                  <a:pt x="3547" y="14387"/>
                </a:cubicBezTo>
                <a:cubicBezTo>
                  <a:pt x="3564" y="14395"/>
                  <a:pt x="3580" y="14404"/>
                  <a:pt x="3597" y="14412"/>
                </a:cubicBezTo>
              </a:path>
              <a:path w="6400" h="4987">
                <a:moveTo>
                  <a:pt x="3398" y="13965"/>
                </a:moveTo>
                <a:cubicBezTo>
                  <a:pt x="3338" y="14071"/>
                  <a:pt x="3195" y="14265"/>
                  <a:pt x="3150" y="14387"/>
                </a:cubicBezTo>
                <a:cubicBezTo>
                  <a:pt x="3133" y="14432"/>
                  <a:pt x="3109" y="14497"/>
                  <a:pt x="3150" y="14511"/>
                </a:cubicBezTo>
              </a:path>
              <a:path w="6400" h="4987">
                <a:moveTo>
                  <a:pt x="3696" y="13494"/>
                </a:moveTo>
                <a:cubicBezTo>
                  <a:pt x="3691" y="13505"/>
                  <a:pt x="3529" y="13774"/>
                  <a:pt x="3547" y="13841"/>
                </a:cubicBezTo>
                <a:cubicBezTo>
                  <a:pt x="3563" y="13902"/>
                  <a:pt x="3616" y="13911"/>
                  <a:pt x="3671" y="13915"/>
                </a:cubicBezTo>
                <a:cubicBezTo>
                  <a:pt x="3719" y="13919"/>
                  <a:pt x="3770" y="13880"/>
                  <a:pt x="3795" y="13841"/>
                </a:cubicBezTo>
                <a:cubicBezTo>
                  <a:pt x="3817" y="13806"/>
                  <a:pt x="3836" y="13777"/>
                  <a:pt x="3845" y="13742"/>
                </a:cubicBezTo>
                <a:cubicBezTo>
                  <a:pt x="3810" y="13716"/>
                  <a:pt x="3761" y="13695"/>
                  <a:pt x="3721" y="13742"/>
                </a:cubicBezTo>
                <a:cubicBezTo>
                  <a:pt x="3687" y="13781"/>
                  <a:pt x="3696" y="13824"/>
                  <a:pt x="3721" y="13866"/>
                </a:cubicBezTo>
              </a:path>
              <a:path w="6400" h="4987">
                <a:moveTo>
                  <a:pt x="5779" y="13866"/>
                </a:moveTo>
                <a:cubicBezTo>
                  <a:pt x="5812" y="13976"/>
                  <a:pt x="5871" y="14123"/>
                  <a:pt x="5953" y="14213"/>
                </a:cubicBezTo>
                <a:cubicBezTo>
                  <a:pt x="5996" y="14259"/>
                  <a:pt x="6073" y="14303"/>
                  <a:pt x="6127" y="14337"/>
                </a:cubicBezTo>
              </a:path>
              <a:path w="6400" h="4987">
                <a:moveTo>
                  <a:pt x="6052" y="13841"/>
                </a:moveTo>
                <a:cubicBezTo>
                  <a:pt x="5951" y="13983"/>
                  <a:pt x="5863" y="14100"/>
                  <a:pt x="5804" y="14263"/>
                </a:cubicBezTo>
                <a:cubicBezTo>
                  <a:pt x="5786" y="14313"/>
                  <a:pt x="5765" y="14362"/>
                  <a:pt x="5755" y="14412"/>
                </a:cubicBezTo>
              </a:path>
              <a:path w="6400" h="4987">
                <a:moveTo>
                  <a:pt x="6226" y="13370"/>
                </a:moveTo>
                <a:cubicBezTo>
                  <a:pt x="6325" y="13327"/>
                  <a:pt x="6348" y="13320"/>
                  <a:pt x="6449" y="13320"/>
                </a:cubicBezTo>
              </a:path>
              <a:path w="6400" h="4987">
                <a:moveTo>
                  <a:pt x="6077" y="13370"/>
                </a:moveTo>
                <a:cubicBezTo>
                  <a:pt x="6066" y="13471"/>
                  <a:pt x="6100" y="13501"/>
                  <a:pt x="6176" y="13568"/>
                </a:cubicBezTo>
                <a:cubicBezTo>
                  <a:pt x="6237" y="13622"/>
                  <a:pt x="6316" y="13656"/>
                  <a:pt x="6325" y="13742"/>
                </a:cubicBezTo>
                <a:cubicBezTo>
                  <a:pt x="6332" y="13811"/>
                  <a:pt x="6196" y="13791"/>
                  <a:pt x="6152" y="13791"/>
                </a:cubicBezTo>
                <a:cubicBezTo>
                  <a:pt x="6103" y="13791"/>
                  <a:pt x="6041" y="13807"/>
                  <a:pt x="6028" y="13767"/>
                </a:cubicBezTo>
              </a:path>
              <a:path w="6400" h="4987">
                <a:moveTo>
                  <a:pt x="1339" y="11485"/>
                </a:moveTo>
                <a:cubicBezTo>
                  <a:pt x="1195" y="11485"/>
                  <a:pt x="1005" y="11469"/>
                  <a:pt x="868" y="11509"/>
                </a:cubicBezTo>
                <a:cubicBezTo>
                  <a:pt x="783" y="11534"/>
                  <a:pt x="640" y="11576"/>
                  <a:pt x="571" y="11633"/>
                </a:cubicBezTo>
                <a:cubicBezTo>
                  <a:pt x="492" y="11698"/>
                  <a:pt x="483" y="11764"/>
                  <a:pt x="471" y="11857"/>
                </a:cubicBezTo>
                <a:cubicBezTo>
                  <a:pt x="442" y="12089"/>
                  <a:pt x="439" y="12318"/>
                  <a:pt x="397" y="12551"/>
                </a:cubicBezTo>
                <a:cubicBezTo>
                  <a:pt x="352" y="12801"/>
                  <a:pt x="331" y="13045"/>
                  <a:pt x="298" y="13295"/>
                </a:cubicBezTo>
                <a:cubicBezTo>
                  <a:pt x="267" y="13527"/>
                  <a:pt x="273" y="13756"/>
                  <a:pt x="273" y="13990"/>
                </a:cubicBezTo>
                <a:cubicBezTo>
                  <a:pt x="273" y="14216"/>
                  <a:pt x="294" y="14436"/>
                  <a:pt x="298" y="14660"/>
                </a:cubicBezTo>
                <a:cubicBezTo>
                  <a:pt x="301" y="14835"/>
                  <a:pt x="322" y="15004"/>
                  <a:pt x="322" y="15180"/>
                </a:cubicBezTo>
                <a:cubicBezTo>
                  <a:pt x="322" y="15273"/>
                  <a:pt x="338" y="15361"/>
                  <a:pt x="347" y="15453"/>
                </a:cubicBezTo>
                <a:cubicBezTo>
                  <a:pt x="347" y="15461"/>
                  <a:pt x="347" y="15470"/>
                  <a:pt x="347" y="15478"/>
                </a:cubicBezTo>
                <a:cubicBezTo>
                  <a:pt x="410" y="15469"/>
                  <a:pt x="410" y="15469"/>
                  <a:pt x="471" y="15478"/>
                </a:cubicBezTo>
                <a:cubicBezTo>
                  <a:pt x="574" y="15492"/>
                  <a:pt x="665" y="15526"/>
                  <a:pt x="769" y="15553"/>
                </a:cubicBezTo>
                <a:cubicBezTo>
                  <a:pt x="928" y="15594"/>
                  <a:pt x="1031" y="15622"/>
                  <a:pt x="1191" y="15602"/>
                </a:cubicBezTo>
              </a:path>
              <a:path w="6400" h="4987">
                <a:moveTo>
                  <a:pt x="1116" y="15106"/>
                </a:moveTo>
                <a:cubicBezTo>
                  <a:pt x="1185" y="15161"/>
                  <a:pt x="1248" y="15191"/>
                  <a:pt x="1315" y="15255"/>
                </a:cubicBezTo>
                <a:cubicBezTo>
                  <a:pt x="1393" y="15330"/>
                  <a:pt x="1523" y="15424"/>
                  <a:pt x="1563" y="15528"/>
                </a:cubicBezTo>
                <a:cubicBezTo>
                  <a:pt x="1588" y="15592"/>
                  <a:pt x="1495" y="15649"/>
                  <a:pt x="1463" y="15677"/>
                </a:cubicBezTo>
                <a:cubicBezTo>
                  <a:pt x="1382" y="15749"/>
                  <a:pt x="1311" y="15822"/>
                  <a:pt x="1240" y="15900"/>
                </a:cubicBezTo>
                <a:cubicBezTo>
                  <a:pt x="1205" y="15939"/>
                  <a:pt x="1109" y="16060"/>
                  <a:pt x="1141" y="16123"/>
                </a:cubicBezTo>
                <a:cubicBezTo>
                  <a:pt x="1187" y="16123"/>
                  <a:pt x="1214" y="16111"/>
                  <a:pt x="1240" y="16073"/>
                </a:cubicBezTo>
              </a:path>
              <a:path w="6400" h="4987">
                <a:moveTo>
                  <a:pt x="595" y="11162"/>
                </a:moveTo>
                <a:cubicBezTo>
                  <a:pt x="658" y="11139"/>
                  <a:pt x="691" y="11153"/>
                  <a:pt x="794" y="11162"/>
                </a:cubicBezTo>
                <a:cubicBezTo>
                  <a:pt x="938" y="11175"/>
                  <a:pt x="1073" y="11196"/>
                  <a:pt x="1215" y="11212"/>
                </a:cubicBezTo>
                <a:cubicBezTo>
                  <a:pt x="1316" y="11223"/>
                  <a:pt x="1447" y="11210"/>
                  <a:pt x="1538" y="11261"/>
                </a:cubicBezTo>
                <a:cubicBezTo>
                  <a:pt x="1617" y="11306"/>
                  <a:pt x="1583" y="11397"/>
                  <a:pt x="1563" y="11460"/>
                </a:cubicBezTo>
                <a:cubicBezTo>
                  <a:pt x="1527" y="11575"/>
                  <a:pt x="1497" y="11692"/>
                  <a:pt x="1463" y="11807"/>
                </a:cubicBezTo>
                <a:cubicBezTo>
                  <a:pt x="1438" y="11891"/>
                  <a:pt x="1434" y="11970"/>
                  <a:pt x="1414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32040" y="4705200"/>
            <a:ext cx="625680" cy="482760"/>
          </a:xfrm>
          <a:custGeom>
            <a:avLst/>
            <a:gdLst/>
            <a:ahLst/>
            <a:rect l="l" t="t" r="r" b="b"/>
            <a:pathLst>
              <a:path w="1738" h="1341">
                <a:moveTo>
                  <a:pt x="8136" y="14263"/>
                </a:moveTo>
                <a:cubicBezTo>
                  <a:pt x="8298" y="14270"/>
                  <a:pt x="8447" y="14282"/>
                  <a:pt x="8607" y="14312"/>
                </a:cubicBezTo>
                <a:cubicBezTo>
                  <a:pt x="8766" y="14342"/>
                  <a:pt x="8941" y="14372"/>
                  <a:pt x="9103" y="14387"/>
                </a:cubicBezTo>
                <a:cubicBezTo>
                  <a:pt x="9220" y="14387"/>
                  <a:pt x="9255" y="14385"/>
                  <a:pt x="9327" y="14412"/>
                </a:cubicBezTo>
              </a:path>
              <a:path w="1738" h="1341">
                <a:moveTo>
                  <a:pt x="7590" y="13419"/>
                </a:moveTo>
                <a:cubicBezTo>
                  <a:pt x="7590" y="13629"/>
                  <a:pt x="7592" y="13834"/>
                  <a:pt x="7615" y="14039"/>
                </a:cubicBezTo>
                <a:cubicBezTo>
                  <a:pt x="7623" y="14109"/>
                  <a:pt x="7633" y="14177"/>
                  <a:pt x="7640" y="14238"/>
                </a:cubicBezTo>
                <a:cubicBezTo>
                  <a:pt x="7640" y="14266"/>
                  <a:pt x="7642" y="14272"/>
                  <a:pt x="7665" y="14238"/>
                </a:cubicBezTo>
              </a:path>
              <a:path w="1738" h="1341">
                <a:moveTo>
                  <a:pt x="8012" y="13444"/>
                </a:moveTo>
                <a:cubicBezTo>
                  <a:pt x="8120" y="13422"/>
                  <a:pt x="8224" y="13395"/>
                  <a:pt x="8334" y="13395"/>
                </a:cubicBezTo>
                <a:cubicBezTo>
                  <a:pt x="8342" y="13395"/>
                  <a:pt x="8351" y="13395"/>
                  <a:pt x="8359" y="13395"/>
                </a:cubicBezTo>
              </a:path>
              <a:path w="1738" h="1341">
                <a:moveTo>
                  <a:pt x="7962" y="13419"/>
                </a:moveTo>
                <a:cubicBezTo>
                  <a:pt x="7953" y="13427"/>
                  <a:pt x="7795" y="13531"/>
                  <a:pt x="7813" y="13593"/>
                </a:cubicBezTo>
                <a:cubicBezTo>
                  <a:pt x="7833" y="13664"/>
                  <a:pt x="7924" y="13665"/>
                  <a:pt x="7987" y="13692"/>
                </a:cubicBezTo>
                <a:cubicBezTo>
                  <a:pt x="8073" y="13729"/>
                  <a:pt x="8158" y="13792"/>
                  <a:pt x="8210" y="13866"/>
                </a:cubicBezTo>
                <a:cubicBezTo>
                  <a:pt x="8240" y="13909"/>
                  <a:pt x="8298" y="14012"/>
                  <a:pt x="8285" y="14064"/>
                </a:cubicBezTo>
                <a:cubicBezTo>
                  <a:pt x="8265" y="14146"/>
                  <a:pt x="8210" y="14184"/>
                  <a:pt x="8136" y="14213"/>
                </a:cubicBezTo>
                <a:cubicBezTo>
                  <a:pt x="8071" y="14239"/>
                  <a:pt x="7959" y="14258"/>
                  <a:pt x="7888" y="14238"/>
                </a:cubicBezTo>
                <a:cubicBezTo>
                  <a:pt x="7819" y="14219"/>
                  <a:pt x="7817" y="14206"/>
                  <a:pt x="7838" y="14163"/>
                </a:cubicBezTo>
              </a:path>
              <a:path w="1738" h="1341">
                <a:moveTo>
                  <a:pt x="8434" y="13816"/>
                </a:moveTo>
                <a:cubicBezTo>
                  <a:pt x="8542" y="13956"/>
                  <a:pt x="8627" y="14099"/>
                  <a:pt x="8731" y="14238"/>
                </a:cubicBezTo>
                <a:cubicBezTo>
                  <a:pt x="8772" y="14293"/>
                  <a:pt x="8807" y="14338"/>
                  <a:pt x="8855" y="14387"/>
                </a:cubicBezTo>
              </a:path>
              <a:path w="1738" h="1341">
                <a:moveTo>
                  <a:pt x="8607" y="13866"/>
                </a:moveTo>
                <a:cubicBezTo>
                  <a:pt x="8528" y="13948"/>
                  <a:pt x="8402" y="14155"/>
                  <a:pt x="8310" y="14238"/>
                </a:cubicBezTo>
                <a:cubicBezTo>
                  <a:pt x="8302" y="14238"/>
                  <a:pt x="8293" y="14238"/>
                  <a:pt x="8285" y="14238"/>
                </a:cubicBezTo>
              </a:path>
              <a:path w="1738" h="1341">
                <a:moveTo>
                  <a:pt x="8880" y="13122"/>
                </a:moveTo>
                <a:cubicBezTo>
                  <a:pt x="8872" y="13214"/>
                  <a:pt x="8825" y="13226"/>
                  <a:pt x="8806" y="13295"/>
                </a:cubicBezTo>
                <a:cubicBezTo>
                  <a:pt x="8786" y="13368"/>
                  <a:pt x="8806" y="13420"/>
                  <a:pt x="8855" y="13469"/>
                </a:cubicBezTo>
                <a:cubicBezTo>
                  <a:pt x="8889" y="13503"/>
                  <a:pt x="8957" y="13509"/>
                  <a:pt x="9004" y="13519"/>
                </a:cubicBezTo>
              </a:path>
              <a:path w="1738" h="1341">
                <a:moveTo>
                  <a:pt x="9153" y="13072"/>
                </a:moveTo>
                <a:cubicBezTo>
                  <a:pt x="9095" y="13171"/>
                  <a:pt x="9045" y="13278"/>
                  <a:pt x="9029" y="13395"/>
                </a:cubicBezTo>
                <a:cubicBezTo>
                  <a:pt x="9015" y="13503"/>
                  <a:pt x="9004" y="13607"/>
                  <a:pt x="9004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7760" y="4776840"/>
            <a:ext cx="857160" cy="509400"/>
          </a:xfrm>
          <a:custGeom>
            <a:avLst/>
            <a:gdLst/>
            <a:ahLst/>
            <a:rect l="l" t="t" r="r" b="b"/>
            <a:pathLst>
              <a:path w="2382" h="1414">
                <a:moveTo>
                  <a:pt x="11633" y="14486"/>
                </a:moveTo>
                <a:cubicBezTo>
                  <a:pt x="11774" y="14511"/>
                  <a:pt x="11915" y="14513"/>
                  <a:pt x="12055" y="14536"/>
                </a:cubicBezTo>
                <a:cubicBezTo>
                  <a:pt x="12196" y="14559"/>
                  <a:pt x="12336" y="14600"/>
                  <a:pt x="12477" y="14610"/>
                </a:cubicBezTo>
                <a:cubicBezTo>
                  <a:pt x="12613" y="14620"/>
                  <a:pt x="12739" y="14655"/>
                  <a:pt x="12874" y="14660"/>
                </a:cubicBezTo>
                <a:cubicBezTo>
                  <a:pt x="12952" y="14663"/>
                  <a:pt x="13020" y="14678"/>
                  <a:pt x="13097" y="14684"/>
                </a:cubicBezTo>
              </a:path>
              <a:path w="2382" h="1414">
                <a:moveTo>
                  <a:pt x="10716" y="13568"/>
                </a:moveTo>
                <a:cubicBezTo>
                  <a:pt x="10863" y="13552"/>
                  <a:pt x="10924" y="13567"/>
                  <a:pt x="11063" y="13618"/>
                </a:cubicBezTo>
                <a:cubicBezTo>
                  <a:pt x="11155" y="13651"/>
                  <a:pt x="11222" y="13694"/>
                  <a:pt x="11237" y="13791"/>
                </a:cubicBezTo>
                <a:cubicBezTo>
                  <a:pt x="11245" y="13844"/>
                  <a:pt x="11228" y="13927"/>
                  <a:pt x="11187" y="13965"/>
                </a:cubicBezTo>
                <a:cubicBezTo>
                  <a:pt x="11127" y="14020"/>
                  <a:pt x="11069" y="14067"/>
                  <a:pt x="11088" y="14163"/>
                </a:cubicBezTo>
                <a:cubicBezTo>
                  <a:pt x="11105" y="14251"/>
                  <a:pt x="11149" y="14357"/>
                  <a:pt x="11261" y="14337"/>
                </a:cubicBezTo>
                <a:cubicBezTo>
                  <a:pt x="11286" y="14329"/>
                  <a:pt x="11311" y="14320"/>
                  <a:pt x="11336" y="14312"/>
                </a:cubicBezTo>
              </a:path>
              <a:path w="2382" h="1414">
                <a:moveTo>
                  <a:pt x="11559" y="13940"/>
                </a:moveTo>
                <a:cubicBezTo>
                  <a:pt x="11483" y="14037"/>
                  <a:pt x="11307" y="14175"/>
                  <a:pt x="11485" y="14288"/>
                </a:cubicBezTo>
                <a:cubicBezTo>
                  <a:pt x="11558" y="14334"/>
                  <a:pt x="11698" y="14356"/>
                  <a:pt x="11782" y="14337"/>
                </a:cubicBezTo>
                <a:cubicBezTo>
                  <a:pt x="11869" y="14317"/>
                  <a:pt x="11945" y="14272"/>
                  <a:pt x="11981" y="14188"/>
                </a:cubicBezTo>
                <a:cubicBezTo>
                  <a:pt x="12028" y="14079"/>
                  <a:pt x="12009" y="14026"/>
                  <a:pt x="11956" y="13940"/>
                </a:cubicBezTo>
                <a:cubicBezTo>
                  <a:pt x="11917" y="13876"/>
                  <a:pt x="11860" y="13844"/>
                  <a:pt x="11807" y="13791"/>
                </a:cubicBezTo>
              </a:path>
              <a:path w="2382" h="1414">
                <a:moveTo>
                  <a:pt x="12154" y="13940"/>
                </a:moveTo>
                <a:cubicBezTo>
                  <a:pt x="12197" y="14078"/>
                  <a:pt x="12248" y="14191"/>
                  <a:pt x="12328" y="14312"/>
                </a:cubicBezTo>
                <a:cubicBezTo>
                  <a:pt x="12403" y="14425"/>
                  <a:pt x="12484" y="14496"/>
                  <a:pt x="12601" y="14560"/>
                </a:cubicBezTo>
              </a:path>
              <a:path w="2382" h="1414">
                <a:moveTo>
                  <a:pt x="12353" y="13965"/>
                </a:moveTo>
                <a:cubicBezTo>
                  <a:pt x="12253" y="14096"/>
                  <a:pt x="12154" y="14233"/>
                  <a:pt x="12055" y="14362"/>
                </a:cubicBezTo>
                <a:cubicBezTo>
                  <a:pt x="12047" y="14370"/>
                  <a:pt x="12038" y="14379"/>
                  <a:pt x="12030" y="14387"/>
                </a:cubicBezTo>
              </a:path>
              <a:path w="2382" h="1414">
                <a:moveTo>
                  <a:pt x="12452" y="13271"/>
                </a:moveTo>
                <a:cubicBezTo>
                  <a:pt x="12588" y="13328"/>
                  <a:pt x="12654" y="13307"/>
                  <a:pt x="12700" y="13419"/>
                </a:cubicBezTo>
                <a:cubicBezTo>
                  <a:pt x="12669" y="13442"/>
                  <a:pt x="12640" y="13465"/>
                  <a:pt x="12601" y="13469"/>
                </a:cubicBezTo>
                <a:cubicBezTo>
                  <a:pt x="12576" y="13469"/>
                  <a:pt x="12568" y="13469"/>
                  <a:pt x="12551" y="13469"/>
                </a:cubicBezTo>
                <a:cubicBezTo>
                  <a:pt x="12567" y="13547"/>
                  <a:pt x="12606" y="13556"/>
                  <a:pt x="12650" y="13618"/>
                </a:cubicBezTo>
                <a:cubicBezTo>
                  <a:pt x="12690" y="13674"/>
                  <a:pt x="12685" y="13730"/>
                  <a:pt x="12626" y="13767"/>
                </a:cubicBezTo>
                <a:cubicBezTo>
                  <a:pt x="12566" y="13805"/>
                  <a:pt x="12495" y="13791"/>
                  <a:pt x="12427" y="13791"/>
                </a:cubicBezTo>
                <a:cubicBezTo>
                  <a:pt x="12324" y="13791"/>
                  <a:pt x="12364" y="13770"/>
                  <a:pt x="12402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768920"/>
            <a:ext cx="650880" cy="50940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14288" y="14585"/>
                </a:moveTo>
                <a:cubicBezTo>
                  <a:pt x="14531" y="14589"/>
                  <a:pt x="14810" y="14578"/>
                  <a:pt x="15056" y="14610"/>
                </a:cubicBezTo>
                <a:cubicBezTo>
                  <a:pt x="15198" y="14628"/>
                  <a:pt x="15335" y="14651"/>
                  <a:pt x="15478" y="14660"/>
                </a:cubicBezTo>
              </a:path>
              <a:path w="1812" h="1415">
                <a:moveTo>
                  <a:pt x="14015" y="13568"/>
                </a:moveTo>
                <a:cubicBezTo>
                  <a:pt x="13990" y="13703"/>
                  <a:pt x="13990" y="13827"/>
                  <a:pt x="13990" y="13965"/>
                </a:cubicBezTo>
                <a:cubicBezTo>
                  <a:pt x="13990" y="14058"/>
                  <a:pt x="13979" y="14177"/>
                  <a:pt x="14015" y="14263"/>
                </a:cubicBezTo>
                <a:cubicBezTo>
                  <a:pt x="14035" y="14311"/>
                  <a:pt x="14033" y="14308"/>
                  <a:pt x="14064" y="14288"/>
                </a:cubicBezTo>
              </a:path>
              <a:path w="1812" h="1415">
                <a:moveTo>
                  <a:pt x="14486" y="13568"/>
                </a:moveTo>
                <a:cubicBezTo>
                  <a:pt x="14583" y="13552"/>
                  <a:pt x="14662" y="13543"/>
                  <a:pt x="14759" y="13543"/>
                </a:cubicBezTo>
              </a:path>
              <a:path w="1812" h="1415">
                <a:moveTo>
                  <a:pt x="14585" y="13593"/>
                </a:moveTo>
                <a:cubicBezTo>
                  <a:pt x="14491" y="13632"/>
                  <a:pt x="14330" y="13646"/>
                  <a:pt x="14362" y="13791"/>
                </a:cubicBezTo>
                <a:cubicBezTo>
                  <a:pt x="14381" y="13875"/>
                  <a:pt x="14512" y="13994"/>
                  <a:pt x="14560" y="14064"/>
                </a:cubicBezTo>
                <a:cubicBezTo>
                  <a:pt x="14634" y="14171"/>
                  <a:pt x="14739" y="14250"/>
                  <a:pt x="14684" y="14387"/>
                </a:cubicBezTo>
                <a:cubicBezTo>
                  <a:pt x="14662" y="14442"/>
                  <a:pt x="14616" y="14472"/>
                  <a:pt x="14560" y="14486"/>
                </a:cubicBezTo>
                <a:cubicBezTo>
                  <a:pt x="14528" y="14494"/>
                  <a:pt x="14408" y="14436"/>
                  <a:pt x="14387" y="14412"/>
                </a:cubicBezTo>
                <a:cubicBezTo>
                  <a:pt x="14387" y="14404"/>
                  <a:pt x="14387" y="14395"/>
                  <a:pt x="14387" y="14387"/>
                </a:cubicBezTo>
              </a:path>
              <a:path w="1812" h="1415">
                <a:moveTo>
                  <a:pt x="14808" y="13990"/>
                </a:moveTo>
                <a:cubicBezTo>
                  <a:pt x="14887" y="14104"/>
                  <a:pt x="14956" y="14222"/>
                  <a:pt x="15032" y="14337"/>
                </a:cubicBezTo>
                <a:cubicBezTo>
                  <a:pt x="15134" y="14492"/>
                  <a:pt x="15178" y="14536"/>
                  <a:pt x="15354" y="14585"/>
                </a:cubicBezTo>
              </a:path>
              <a:path w="1812" h="1415">
                <a:moveTo>
                  <a:pt x="15304" y="13990"/>
                </a:moveTo>
                <a:cubicBezTo>
                  <a:pt x="15195" y="14055"/>
                  <a:pt x="15071" y="14142"/>
                  <a:pt x="14982" y="14238"/>
                </a:cubicBezTo>
                <a:cubicBezTo>
                  <a:pt x="14897" y="14330"/>
                  <a:pt x="14812" y="14386"/>
                  <a:pt x="14709" y="14461"/>
                </a:cubicBezTo>
                <a:cubicBezTo>
                  <a:pt x="14686" y="14484"/>
                  <a:pt x="14678" y="14488"/>
                  <a:pt x="14684" y="14511"/>
                </a:cubicBezTo>
              </a:path>
              <a:path w="1812" h="1415">
                <a:moveTo>
                  <a:pt x="15180" y="13246"/>
                </a:moveTo>
                <a:cubicBezTo>
                  <a:pt x="15272" y="13246"/>
                  <a:pt x="15362" y="13221"/>
                  <a:pt x="15404" y="13320"/>
                </a:cubicBezTo>
                <a:cubicBezTo>
                  <a:pt x="15421" y="13360"/>
                  <a:pt x="15402" y="13416"/>
                  <a:pt x="15379" y="13444"/>
                </a:cubicBezTo>
                <a:cubicBezTo>
                  <a:pt x="15342" y="13490"/>
                  <a:pt x="15307" y="13491"/>
                  <a:pt x="15354" y="13543"/>
                </a:cubicBezTo>
                <a:cubicBezTo>
                  <a:pt x="15426" y="13623"/>
                  <a:pt x="15479" y="13669"/>
                  <a:pt x="15602" y="13692"/>
                </a:cubicBezTo>
                <a:cubicBezTo>
                  <a:pt x="15701" y="13692"/>
                  <a:pt x="15735" y="13692"/>
                  <a:pt x="15801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86680" y="4902120"/>
            <a:ext cx="679320" cy="357120"/>
          </a:xfrm>
          <a:custGeom>
            <a:avLst/>
            <a:gdLst/>
            <a:ahLst/>
            <a:rect l="l" t="t" r="r" b="b"/>
            <a:pathLst>
              <a:path w="1887" h="993">
                <a:moveTo>
                  <a:pt x="17760" y="14461"/>
                </a:moveTo>
                <a:cubicBezTo>
                  <a:pt x="17934" y="14480"/>
                  <a:pt x="18107" y="14506"/>
                  <a:pt x="18281" y="14511"/>
                </a:cubicBezTo>
                <a:cubicBezTo>
                  <a:pt x="18425" y="14515"/>
                  <a:pt x="18584" y="14519"/>
                  <a:pt x="18728" y="14536"/>
                </a:cubicBezTo>
                <a:cubicBezTo>
                  <a:pt x="18866" y="14553"/>
                  <a:pt x="19012" y="14564"/>
                  <a:pt x="19149" y="14585"/>
                </a:cubicBezTo>
                <a:cubicBezTo>
                  <a:pt x="19247" y="14610"/>
                  <a:pt x="19280" y="14618"/>
                  <a:pt x="19348" y="14610"/>
                </a:cubicBezTo>
              </a:path>
              <a:path w="1887" h="993">
                <a:moveTo>
                  <a:pt x="17636" y="13618"/>
                </a:moveTo>
                <a:cubicBezTo>
                  <a:pt x="17589" y="13702"/>
                  <a:pt x="17528" y="13785"/>
                  <a:pt x="17487" y="13866"/>
                </a:cubicBezTo>
                <a:cubicBezTo>
                  <a:pt x="17445" y="13949"/>
                  <a:pt x="17450" y="14114"/>
                  <a:pt x="17512" y="14188"/>
                </a:cubicBezTo>
                <a:cubicBezTo>
                  <a:pt x="17569" y="14256"/>
                  <a:pt x="17704" y="14331"/>
                  <a:pt x="17785" y="14362"/>
                </a:cubicBezTo>
                <a:cubicBezTo>
                  <a:pt x="17869" y="14394"/>
                  <a:pt x="17981" y="14363"/>
                  <a:pt x="18058" y="14312"/>
                </a:cubicBezTo>
                <a:cubicBezTo>
                  <a:pt x="18131" y="14263"/>
                  <a:pt x="18214" y="14165"/>
                  <a:pt x="18157" y="14089"/>
                </a:cubicBezTo>
                <a:cubicBezTo>
                  <a:pt x="18076" y="14040"/>
                  <a:pt x="18057" y="14069"/>
                  <a:pt x="17983" y="14114"/>
                </a:cubicBezTo>
                <a:cubicBezTo>
                  <a:pt x="17923" y="14151"/>
                  <a:pt x="17889" y="14241"/>
                  <a:pt x="17934" y="14312"/>
                </a:cubicBezTo>
                <a:cubicBezTo>
                  <a:pt x="17950" y="14329"/>
                  <a:pt x="17967" y="14345"/>
                  <a:pt x="17983" y="14362"/>
                </a:cubicBezTo>
              </a:path>
              <a:path w="1887" h="993">
                <a:moveTo>
                  <a:pt x="18256" y="13965"/>
                </a:moveTo>
                <a:cubicBezTo>
                  <a:pt x="18350" y="14117"/>
                  <a:pt x="18428" y="14262"/>
                  <a:pt x="18554" y="14387"/>
                </a:cubicBezTo>
                <a:cubicBezTo>
                  <a:pt x="18619" y="14451"/>
                  <a:pt x="18638" y="14436"/>
                  <a:pt x="18728" y="14436"/>
                </a:cubicBezTo>
              </a:path>
              <a:path w="1887" h="993">
                <a:moveTo>
                  <a:pt x="18752" y="14015"/>
                </a:moveTo>
                <a:cubicBezTo>
                  <a:pt x="18630" y="14117"/>
                  <a:pt x="18526" y="14235"/>
                  <a:pt x="18405" y="14337"/>
                </a:cubicBezTo>
                <a:cubicBezTo>
                  <a:pt x="18311" y="14408"/>
                  <a:pt x="18282" y="14429"/>
                  <a:pt x="18231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6040" y="4411800"/>
            <a:ext cx="919080" cy="990360"/>
          </a:xfrm>
          <a:custGeom>
            <a:avLst/>
            <a:gdLst/>
            <a:ahLst/>
            <a:rect l="l" t="t" r="r" b="b"/>
            <a:pathLst>
              <a:path w="2556" h="2754">
                <a:moveTo>
                  <a:pt x="21134" y="14560"/>
                </a:moveTo>
                <a:cubicBezTo>
                  <a:pt x="21379" y="14565"/>
                  <a:pt x="21613" y="14590"/>
                  <a:pt x="21853" y="14610"/>
                </a:cubicBezTo>
                <a:cubicBezTo>
                  <a:pt x="21942" y="14618"/>
                  <a:pt x="22036" y="14610"/>
                  <a:pt x="22126" y="14610"/>
                </a:cubicBezTo>
              </a:path>
              <a:path w="2556" h="2754">
                <a:moveTo>
                  <a:pt x="21654" y="12353"/>
                </a:moveTo>
                <a:cubicBezTo>
                  <a:pt x="21762" y="12306"/>
                  <a:pt x="21850" y="12287"/>
                  <a:pt x="21977" y="12278"/>
                </a:cubicBezTo>
                <a:cubicBezTo>
                  <a:pt x="22316" y="12254"/>
                  <a:pt x="22659" y="12290"/>
                  <a:pt x="22994" y="12254"/>
                </a:cubicBezTo>
                <a:cubicBezTo>
                  <a:pt x="23056" y="12247"/>
                  <a:pt x="23068" y="12252"/>
                  <a:pt x="23093" y="12278"/>
                </a:cubicBezTo>
                <a:cubicBezTo>
                  <a:pt x="23143" y="12331"/>
                  <a:pt x="23105" y="12340"/>
                  <a:pt x="23093" y="12402"/>
                </a:cubicBezTo>
                <a:cubicBezTo>
                  <a:pt x="23074" y="12501"/>
                  <a:pt x="23084" y="12601"/>
                  <a:pt x="23068" y="12700"/>
                </a:cubicBezTo>
                <a:cubicBezTo>
                  <a:pt x="23037" y="12889"/>
                  <a:pt x="23044" y="13076"/>
                  <a:pt x="23044" y="13271"/>
                </a:cubicBezTo>
                <a:cubicBezTo>
                  <a:pt x="23044" y="13456"/>
                  <a:pt x="23057" y="13634"/>
                  <a:pt x="23068" y="13816"/>
                </a:cubicBezTo>
                <a:cubicBezTo>
                  <a:pt x="23078" y="13978"/>
                  <a:pt x="23058" y="14129"/>
                  <a:pt x="23093" y="14288"/>
                </a:cubicBezTo>
                <a:cubicBezTo>
                  <a:pt x="23121" y="14415"/>
                  <a:pt x="23128" y="14534"/>
                  <a:pt x="23168" y="14660"/>
                </a:cubicBezTo>
                <a:cubicBezTo>
                  <a:pt x="23192" y="14736"/>
                  <a:pt x="23191" y="14817"/>
                  <a:pt x="23242" y="14883"/>
                </a:cubicBezTo>
                <a:cubicBezTo>
                  <a:pt x="23265" y="14906"/>
                  <a:pt x="23269" y="14914"/>
                  <a:pt x="23292" y="14908"/>
                </a:cubicBezTo>
                <a:cubicBezTo>
                  <a:pt x="23068" y="15014"/>
                  <a:pt x="22920" y="15012"/>
                  <a:pt x="22671" y="14982"/>
                </a:cubicBezTo>
                <a:cubicBezTo>
                  <a:pt x="22481" y="14958"/>
                  <a:pt x="22423" y="14951"/>
                  <a:pt x="22299" y="14932"/>
                </a:cubicBezTo>
              </a:path>
              <a:path w="2556" h="2754">
                <a:moveTo>
                  <a:pt x="20861" y="13196"/>
                </a:moveTo>
                <a:cubicBezTo>
                  <a:pt x="20869" y="13188"/>
                  <a:pt x="20878" y="13179"/>
                  <a:pt x="20886" y="13171"/>
                </a:cubicBezTo>
                <a:cubicBezTo>
                  <a:pt x="20886" y="13397"/>
                  <a:pt x="20883" y="13619"/>
                  <a:pt x="20861" y="13841"/>
                </a:cubicBezTo>
                <a:cubicBezTo>
                  <a:pt x="20848" y="13971"/>
                  <a:pt x="20800" y="14046"/>
                  <a:pt x="20762" y="14163"/>
                </a:cubicBezTo>
                <a:cubicBezTo>
                  <a:pt x="20754" y="14205"/>
                  <a:pt x="20745" y="14246"/>
                  <a:pt x="20737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8160" y="5607000"/>
            <a:ext cx="11592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604" y="15577"/>
                </a:moveTo>
                <a:cubicBezTo>
                  <a:pt x="2668" y="15616"/>
                  <a:pt x="2702" y="15587"/>
                  <a:pt x="2778" y="15602"/>
                </a:cubicBezTo>
                <a:cubicBezTo>
                  <a:pt x="2851" y="15626"/>
                  <a:pt x="2875" y="15635"/>
                  <a:pt x="2927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04920" y="5392800"/>
            <a:ext cx="3760920" cy="581040"/>
          </a:xfrm>
          <a:custGeom>
            <a:avLst/>
            <a:gdLst/>
            <a:ahLst/>
            <a:rect l="l" t="t" r="r" b="b"/>
            <a:pathLst>
              <a:path w="10443" h="1613">
                <a:moveTo>
                  <a:pt x="3473" y="15354"/>
                </a:moveTo>
                <a:cubicBezTo>
                  <a:pt x="3459" y="15376"/>
                  <a:pt x="3354" y="15506"/>
                  <a:pt x="3349" y="15553"/>
                </a:cubicBezTo>
                <a:cubicBezTo>
                  <a:pt x="3342" y="15616"/>
                  <a:pt x="3379" y="15598"/>
                  <a:pt x="3398" y="15627"/>
                </a:cubicBezTo>
                <a:cubicBezTo>
                  <a:pt x="3425" y="15668"/>
                  <a:pt x="3482" y="15652"/>
                  <a:pt x="3547" y="15652"/>
                </a:cubicBezTo>
                <a:cubicBezTo>
                  <a:pt x="3630" y="15652"/>
                  <a:pt x="3712" y="15652"/>
                  <a:pt x="3795" y="15652"/>
                </a:cubicBezTo>
              </a:path>
              <a:path w="10443" h="1613">
                <a:moveTo>
                  <a:pt x="3820" y="15032"/>
                </a:moveTo>
                <a:cubicBezTo>
                  <a:pt x="3820" y="15211"/>
                  <a:pt x="3810" y="15378"/>
                  <a:pt x="3795" y="15553"/>
                </a:cubicBezTo>
                <a:cubicBezTo>
                  <a:pt x="3781" y="15723"/>
                  <a:pt x="3791" y="15920"/>
                  <a:pt x="3820" y="16073"/>
                </a:cubicBezTo>
                <a:cubicBezTo>
                  <a:pt x="3832" y="16136"/>
                  <a:pt x="3818" y="16137"/>
                  <a:pt x="3870" y="16098"/>
                </a:cubicBezTo>
              </a:path>
              <a:path w="10443" h="1613">
                <a:moveTo>
                  <a:pt x="4118" y="15577"/>
                </a:moveTo>
                <a:cubicBezTo>
                  <a:pt x="4189" y="15743"/>
                  <a:pt x="4244" y="15877"/>
                  <a:pt x="4341" y="16024"/>
                </a:cubicBezTo>
                <a:cubicBezTo>
                  <a:pt x="4399" y="16112"/>
                  <a:pt x="4460" y="16156"/>
                  <a:pt x="4539" y="16222"/>
                </a:cubicBezTo>
              </a:path>
              <a:path w="10443" h="1613">
                <a:moveTo>
                  <a:pt x="4490" y="15478"/>
                </a:moveTo>
                <a:cubicBezTo>
                  <a:pt x="4413" y="15575"/>
                  <a:pt x="4327" y="15667"/>
                  <a:pt x="4266" y="15776"/>
                </a:cubicBezTo>
                <a:cubicBezTo>
                  <a:pt x="4208" y="15879"/>
                  <a:pt x="4166" y="15992"/>
                  <a:pt x="4118" y="16098"/>
                </a:cubicBezTo>
                <a:cubicBezTo>
                  <a:pt x="4093" y="16153"/>
                  <a:pt x="4068" y="16187"/>
                  <a:pt x="4068" y="16247"/>
                </a:cubicBezTo>
              </a:path>
              <a:path w="10443" h="1613">
                <a:moveTo>
                  <a:pt x="4762" y="15032"/>
                </a:moveTo>
                <a:cubicBezTo>
                  <a:pt x="4698" y="15140"/>
                  <a:pt x="4644" y="15207"/>
                  <a:pt x="4638" y="15329"/>
                </a:cubicBezTo>
                <a:cubicBezTo>
                  <a:pt x="4633" y="15429"/>
                  <a:pt x="4644" y="15442"/>
                  <a:pt x="4713" y="15503"/>
                </a:cubicBezTo>
                <a:cubicBezTo>
                  <a:pt x="4772" y="15555"/>
                  <a:pt x="4798" y="15601"/>
                  <a:pt x="4887" y="15577"/>
                </a:cubicBezTo>
                <a:cubicBezTo>
                  <a:pt x="4932" y="15565"/>
                  <a:pt x="4983" y="15516"/>
                  <a:pt x="5011" y="15478"/>
                </a:cubicBezTo>
                <a:cubicBezTo>
                  <a:pt x="5038" y="15441"/>
                  <a:pt x="5089" y="15366"/>
                  <a:pt x="5035" y="15329"/>
                </a:cubicBezTo>
                <a:cubicBezTo>
                  <a:pt x="4988" y="15297"/>
                  <a:pt x="4939" y="15350"/>
                  <a:pt x="4911" y="15379"/>
                </a:cubicBezTo>
                <a:cubicBezTo>
                  <a:pt x="4863" y="15428"/>
                  <a:pt x="4840" y="15486"/>
                  <a:pt x="4837" y="15553"/>
                </a:cubicBezTo>
                <a:cubicBezTo>
                  <a:pt x="4837" y="15621"/>
                  <a:pt x="4840" y="15640"/>
                  <a:pt x="4812" y="15677"/>
                </a:cubicBezTo>
              </a:path>
              <a:path w="10443" h="1613">
                <a:moveTo>
                  <a:pt x="5209" y="15925"/>
                </a:moveTo>
                <a:cubicBezTo>
                  <a:pt x="5292" y="15925"/>
                  <a:pt x="5376" y="15934"/>
                  <a:pt x="5457" y="15949"/>
                </a:cubicBezTo>
                <a:cubicBezTo>
                  <a:pt x="5568" y="15970"/>
                  <a:pt x="5598" y="15976"/>
                  <a:pt x="5705" y="15949"/>
                </a:cubicBezTo>
              </a:path>
              <a:path w="10443" h="1613">
                <a:moveTo>
                  <a:pt x="5904" y="15404"/>
                </a:moveTo>
                <a:cubicBezTo>
                  <a:pt x="5954" y="15376"/>
                  <a:pt x="6059" y="15316"/>
                  <a:pt x="6127" y="15354"/>
                </a:cubicBezTo>
                <a:cubicBezTo>
                  <a:pt x="6217" y="15405"/>
                  <a:pt x="6265" y="15482"/>
                  <a:pt x="6300" y="15577"/>
                </a:cubicBezTo>
                <a:cubicBezTo>
                  <a:pt x="6347" y="15705"/>
                  <a:pt x="6316" y="15807"/>
                  <a:pt x="6251" y="15925"/>
                </a:cubicBezTo>
                <a:cubicBezTo>
                  <a:pt x="6191" y="16033"/>
                  <a:pt x="6101" y="16195"/>
                  <a:pt x="6003" y="16272"/>
                </a:cubicBezTo>
                <a:cubicBezTo>
                  <a:pt x="5962" y="16304"/>
                  <a:pt x="5926" y="16297"/>
                  <a:pt x="5879" y="16297"/>
                </a:cubicBezTo>
                <a:cubicBezTo>
                  <a:pt x="5879" y="16230"/>
                  <a:pt x="5882" y="16200"/>
                  <a:pt x="5928" y="16148"/>
                </a:cubicBezTo>
                <a:cubicBezTo>
                  <a:pt x="5979" y="16091"/>
                  <a:pt x="6027" y="16088"/>
                  <a:pt x="6077" y="16148"/>
                </a:cubicBezTo>
                <a:cubicBezTo>
                  <a:pt x="6156" y="16242"/>
                  <a:pt x="6219" y="16334"/>
                  <a:pt x="6325" y="16396"/>
                </a:cubicBezTo>
                <a:cubicBezTo>
                  <a:pt x="6362" y="16378"/>
                  <a:pt x="6390" y="16336"/>
                  <a:pt x="6424" y="16297"/>
                </a:cubicBezTo>
              </a:path>
              <a:path w="10443" h="1613">
                <a:moveTo>
                  <a:pt x="6623" y="15478"/>
                </a:moveTo>
                <a:cubicBezTo>
                  <a:pt x="6596" y="15551"/>
                  <a:pt x="6573" y="15600"/>
                  <a:pt x="6573" y="15677"/>
                </a:cubicBezTo>
                <a:cubicBezTo>
                  <a:pt x="6573" y="15744"/>
                  <a:pt x="6609" y="15797"/>
                  <a:pt x="6648" y="15850"/>
                </a:cubicBezTo>
                <a:cubicBezTo>
                  <a:pt x="6684" y="15899"/>
                  <a:pt x="6751" y="15970"/>
                  <a:pt x="6821" y="15949"/>
                </a:cubicBezTo>
                <a:cubicBezTo>
                  <a:pt x="6851" y="15920"/>
                  <a:pt x="6863" y="15906"/>
                  <a:pt x="6871" y="15875"/>
                </a:cubicBezTo>
              </a:path>
              <a:path w="10443" h="1613">
                <a:moveTo>
                  <a:pt x="6970" y="15230"/>
                </a:moveTo>
                <a:cubicBezTo>
                  <a:pt x="6935" y="15334"/>
                  <a:pt x="6904" y="15444"/>
                  <a:pt x="6896" y="15553"/>
                </a:cubicBezTo>
                <a:cubicBezTo>
                  <a:pt x="6878" y="15794"/>
                  <a:pt x="6902" y="16035"/>
                  <a:pt x="6871" y="16272"/>
                </a:cubicBezTo>
                <a:cubicBezTo>
                  <a:pt x="6867" y="16303"/>
                  <a:pt x="6871" y="16340"/>
                  <a:pt x="6871" y="16371"/>
                </a:cubicBezTo>
              </a:path>
              <a:path w="10443" h="1613">
                <a:moveTo>
                  <a:pt x="7144" y="15751"/>
                </a:moveTo>
                <a:cubicBezTo>
                  <a:pt x="7211" y="15843"/>
                  <a:pt x="7264" y="15924"/>
                  <a:pt x="7317" y="16024"/>
                </a:cubicBezTo>
                <a:cubicBezTo>
                  <a:pt x="7375" y="16134"/>
                  <a:pt x="7424" y="16283"/>
                  <a:pt x="7516" y="16371"/>
                </a:cubicBezTo>
                <a:cubicBezTo>
                  <a:pt x="7541" y="16388"/>
                  <a:pt x="7565" y="16404"/>
                  <a:pt x="7590" y="16421"/>
                </a:cubicBezTo>
              </a:path>
              <a:path w="10443" h="1613">
                <a:moveTo>
                  <a:pt x="7590" y="15652"/>
                </a:moveTo>
                <a:cubicBezTo>
                  <a:pt x="7509" y="15733"/>
                  <a:pt x="7432" y="15806"/>
                  <a:pt x="7367" y="15900"/>
                </a:cubicBezTo>
                <a:cubicBezTo>
                  <a:pt x="7285" y="16017"/>
                  <a:pt x="7225" y="16157"/>
                  <a:pt x="7193" y="16297"/>
                </a:cubicBezTo>
                <a:cubicBezTo>
                  <a:pt x="7184" y="16339"/>
                  <a:pt x="7178" y="16358"/>
                  <a:pt x="7169" y="16396"/>
                </a:cubicBezTo>
              </a:path>
              <a:path w="10443" h="1613">
                <a:moveTo>
                  <a:pt x="7789" y="15255"/>
                </a:moveTo>
                <a:cubicBezTo>
                  <a:pt x="7920" y="15238"/>
                  <a:pt x="8016" y="15252"/>
                  <a:pt x="8111" y="15180"/>
                </a:cubicBezTo>
              </a:path>
              <a:path w="10443" h="1613">
                <a:moveTo>
                  <a:pt x="7789" y="15255"/>
                </a:moveTo>
                <a:cubicBezTo>
                  <a:pt x="7789" y="15315"/>
                  <a:pt x="7798" y="15302"/>
                  <a:pt x="7838" y="15329"/>
                </a:cubicBezTo>
                <a:cubicBezTo>
                  <a:pt x="7887" y="15362"/>
                  <a:pt x="7932" y="15345"/>
                  <a:pt x="7987" y="15379"/>
                </a:cubicBezTo>
                <a:cubicBezTo>
                  <a:pt x="8031" y="15407"/>
                  <a:pt x="8075" y="15479"/>
                  <a:pt x="8086" y="15528"/>
                </a:cubicBezTo>
                <a:cubicBezTo>
                  <a:pt x="8096" y="15574"/>
                  <a:pt x="8074" y="15648"/>
                  <a:pt x="8037" y="15677"/>
                </a:cubicBezTo>
                <a:cubicBezTo>
                  <a:pt x="8008" y="15700"/>
                  <a:pt x="7931" y="15701"/>
                  <a:pt x="7888" y="15701"/>
                </a:cubicBezTo>
                <a:cubicBezTo>
                  <a:pt x="7843" y="15701"/>
                  <a:pt x="7823" y="15707"/>
                  <a:pt x="7789" y="15677"/>
                </a:cubicBezTo>
                <a:cubicBezTo>
                  <a:pt x="7781" y="15669"/>
                  <a:pt x="7772" y="15660"/>
                  <a:pt x="7764" y="15652"/>
                </a:cubicBezTo>
              </a:path>
              <a:path w="10443" h="1613">
                <a:moveTo>
                  <a:pt x="8111" y="15949"/>
                </a:moveTo>
                <a:cubicBezTo>
                  <a:pt x="8221" y="15949"/>
                  <a:pt x="8331" y="15962"/>
                  <a:pt x="8434" y="15925"/>
                </a:cubicBezTo>
              </a:path>
              <a:path w="10443" h="1613">
                <a:moveTo>
                  <a:pt x="8930" y="15453"/>
                </a:moveTo>
                <a:cubicBezTo>
                  <a:pt x="8867" y="15606"/>
                  <a:pt x="8797" y="15741"/>
                  <a:pt x="8756" y="15900"/>
                </a:cubicBezTo>
                <a:cubicBezTo>
                  <a:pt x="8723" y="16029"/>
                  <a:pt x="8721" y="16144"/>
                  <a:pt x="8756" y="16272"/>
                </a:cubicBezTo>
                <a:cubicBezTo>
                  <a:pt x="8780" y="16362"/>
                  <a:pt x="8818" y="16428"/>
                  <a:pt x="8880" y="16495"/>
                </a:cubicBezTo>
                <a:cubicBezTo>
                  <a:pt x="8934" y="16553"/>
                  <a:pt x="8996" y="16498"/>
                  <a:pt x="9054" y="16470"/>
                </a:cubicBezTo>
                <a:cubicBezTo>
                  <a:pt x="9148" y="16424"/>
                  <a:pt x="9184" y="16349"/>
                  <a:pt x="9203" y="16247"/>
                </a:cubicBezTo>
                <a:cubicBezTo>
                  <a:pt x="9214" y="16190"/>
                  <a:pt x="9204" y="16142"/>
                  <a:pt x="9178" y="16098"/>
                </a:cubicBezTo>
                <a:cubicBezTo>
                  <a:pt x="9149" y="16098"/>
                  <a:pt x="9094" y="16104"/>
                  <a:pt x="9079" y="16123"/>
                </a:cubicBezTo>
                <a:cubicBezTo>
                  <a:pt x="9030" y="16184"/>
                  <a:pt x="9029" y="16248"/>
                  <a:pt x="9029" y="16321"/>
                </a:cubicBezTo>
                <a:cubicBezTo>
                  <a:pt x="9029" y="16366"/>
                  <a:pt x="9026" y="16379"/>
                  <a:pt x="9054" y="16396"/>
                </a:cubicBezTo>
              </a:path>
              <a:path w="10443" h="1613">
                <a:moveTo>
                  <a:pt x="9451" y="15652"/>
                </a:moveTo>
                <a:cubicBezTo>
                  <a:pt x="9406" y="15751"/>
                  <a:pt x="9357" y="15822"/>
                  <a:pt x="9327" y="15925"/>
                </a:cubicBezTo>
                <a:cubicBezTo>
                  <a:pt x="9293" y="16041"/>
                  <a:pt x="9282" y="16201"/>
                  <a:pt x="9302" y="16321"/>
                </a:cubicBezTo>
                <a:cubicBezTo>
                  <a:pt x="9311" y="16378"/>
                  <a:pt x="9368" y="16547"/>
                  <a:pt x="9426" y="16570"/>
                </a:cubicBezTo>
                <a:cubicBezTo>
                  <a:pt x="9524" y="16610"/>
                  <a:pt x="9606" y="16458"/>
                  <a:pt x="9649" y="16396"/>
                </a:cubicBezTo>
                <a:cubicBezTo>
                  <a:pt x="9743" y="16261"/>
                  <a:pt x="9762" y="16087"/>
                  <a:pt x="9748" y="15925"/>
                </a:cubicBezTo>
                <a:cubicBezTo>
                  <a:pt x="9737" y="15788"/>
                  <a:pt x="9682" y="15686"/>
                  <a:pt x="9575" y="15602"/>
                </a:cubicBezTo>
                <a:cubicBezTo>
                  <a:pt x="9512" y="15552"/>
                  <a:pt x="9445" y="15499"/>
                  <a:pt x="9376" y="15553"/>
                </a:cubicBezTo>
                <a:cubicBezTo>
                  <a:pt x="9353" y="15575"/>
                  <a:pt x="9345" y="15580"/>
                  <a:pt x="9351" y="15602"/>
                </a:cubicBezTo>
              </a:path>
              <a:path w="10443" h="1613">
                <a:moveTo>
                  <a:pt x="9971" y="16049"/>
                </a:moveTo>
                <a:cubicBezTo>
                  <a:pt x="10072" y="16250"/>
                  <a:pt x="10133" y="16365"/>
                  <a:pt x="10269" y="16520"/>
                </a:cubicBezTo>
                <a:cubicBezTo>
                  <a:pt x="10303" y="16554"/>
                  <a:pt x="10324" y="16562"/>
                  <a:pt x="10368" y="16545"/>
                </a:cubicBezTo>
              </a:path>
              <a:path w="10443" h="1613">
                <a:moveTo>
                  <a:pt x="10294" y="15900"/>
                </a:moveTo>
                <a:cubicBezTo>
                  <a:pt x="10144" y="15999"/>
                  <a:pt x="10116" y="16039"/>
                  <a:pt x="10021" y="16197"/>
                </a:cubicBezTo>
                <a:cubicBezTo>
                  <a:pt x="9979" y="16266"/>
                  <a:pt x="9923" y="16348"/>
                  <a:pt x="9897" y="16421"/>
                </a:cubicBezTo>
                <a:cubicBezTo>
                  <a:pt x="9897" y="16446"/>
                  <a:pt x="9897" y="16454"/>
                  <a:pt x="9872" y="16446"/>
                </a:cubicBezTo>
              </a:path>
              <a:path w="10443" h="1613">
                <a:moveTo>
                  <a:pt x="10368" y="15280"/>
                </a:moveTo>
                <a:cubicBezTo>
                  <a:pt x="10359" y="15324"/>
                  <a:pt x="10344" y="15358"/>
                  <a:pt x="10344" y="15404"/>
                </a:cubicBezTo>
                <a:cubicBezTo>
                  <a:pt x="10344" y="15490"/>
                  <a:pt x="10387" y="15541"/>
                  <a:pt x="10443" y="15602"/>
                </a:cubicBezTo>
                <a:cubicBezTo>
                  <a:pt x="10465" y="15625"/>
                  <a:pt x="10534" y="15687"/>
                  <a:pt x="10567" y="15677"/>
                </a:cubicBezTo>
                <a:cubicBezTo>
                  <a:pt x="10616" y="15652"/>
                  <a:pt x="10633" y="15643"/>
                  <a:pt x="10641" y="15602"/>
                </a:cubicBezTo>
              </a:path>
              <a:path w="10443" h="1613">
                <a:moveTo>
                  <a:pt x="10790" y="15007"/>
                </a:moveTo>
                <a:cubicBezTo>
                  <a:pt x="10684" y="14994"/>
                  <a:pt x="10678" y="15050"/>
                  <a:pt x="10641" y="15156"/>
                </a:cubicBezTo>
                <a:cubicBezTo>
                  <a:pt x="10595" y="15288"/>
                  <a:pt x="10616" y="15438"/>
                  <a:pt x="10616" y="15577"/>
                </a:cubicBezTo>
                <a:cubicBezTo>
                  <a:pt x="10616" y="15731"/>
                  <a:pt x="10612" y="15872"/>
                  <a:pt x="10592" y="16024"/>
                </a:cubicBezTo>
              </a:path>
              <a:path w="10443" h="1613">
                <a:moveTo>
                  <a:pt x="10964" y="16024"/>
                </a:moveTo>
                <a:cubicBezTo>
                  <a:pt x="11071" y="16024"/>
                  <a:pt x="11139" y="16011"/>
                  <a:pt x="11237" y="15999"/>
                </a:cubicBezTo>
              </a:path>
              <a:path w="10443" h="1613">
                <a:moveTo>
                  <a:pt x="11807" y="15602"/>
                </a:moveTo>
                <a:cubicBezTo>
                  <a:pt x="11772" y="15515"/>
                  <a:pt x="11772" y="15502"/>
                  <a:pt x="11683" y="15478"/>
                </a:cubicBezTo>
                <a:cubicBezTo>
                  <a:pt x="11675" y="15478"/>
                  <a:pt x="11666" y="15478"/>
                  <a:pt x="11658" y="15478"/>
                </a:cubicBezTo>
                <a:cubicBezTo>
                  <a:pt x="11599" y="15538"/>
                  <a:pt x="11609" y="15565"/>
                  <a:pt x="11609" y="15652"/>
                </a:cubicBezTo>
                <a:cubicBezTo>
                  <a:pt x="11609" y="15835"/>
                  <a:pt x="11669" y="16014"/>
                  <a:pt x="11683" y="16197"/>
                </a:cubicBezTo>
                <a:cubicBezTo>
                  <a:pt x="11690" y="16292"/>
                  <a:pt x="11668" y="16409"/>
                  <a:pt x="11633" y="16495"/>
                </a:cubicBezTo>
                <a:cubicBezTo>
                  <a:pt x="11603" y="16567"/>
                  <a:pt x="11604" y="16525"/>
                  <a:pt x="11559" y="16570"/>
                </a:cubicBezTo>
                <a:cubicBezTo>
                  <a:pt x="11524" y="16524"/>
                  <a:pt x="11516" y="16515"/>
                  <a:pt x="11509" y="16446"/>
                </a:cubicBezTo>
                <a:cubicBezTo>
                  <a:pt x="11499" y="16351"/>
                  <a:pt x="11526" y="16305"/>
                  <a:pt x="11559" y="16222"/>
                </a:cubicBezTo>
                <a:cubicBezTo>
                  <a:pt x="11591" y="16140"/>
                  <a:pt x="11634" y="16022"/>
                  <a:pt x="11683" y="15949"/>
                </a:cubicBezTo>
                <a:cubicBezTo>
                  <a:pt x="11725" y="15886"/>
                  <a:pt x="11788" y="15838"/>
                  <a:pt x="11832" y="15776"/>
                </a:cubicBezTo>
                <a:cubicBezTo>
                  <a:pt x="11854" y="15746"/>
                  <a:pt x="11887" y="15664"/>
                  <a:pt x="11931" y="15652"/>
                </a:cubicBezTo>
                <a:cubicBezTo>
                  <a:pt x="11956" y="15652"/>
                  <a:pt x="11964" y="15652"/>
                  <a:pt x="11981" y="15652"/>
                </a:cubicBezTo>
                <a:cubicBezTo>
                  <a:pt x="11960" y="15730"/>
                  <a:pt x="11919" y="15823"/>
                  <a:pt x="11906" y="15900"/>
                </a:cubicBezTo>
                <a:cubicBezTo>
                  <a:pt x="11891" y="15990"/>
                  <a:pt x="11864" y="16104"/>
                  <a:pt x="11881" y="16197"/>
                </a:cubicBezTo>
                <a:cubicBezTo>
                  <a:pt x="11894" y="16265"/>
                  <a:pt x="11937" y="16371"/>
                  <a:pt x="11981" y="16421"/>
                </a:cubicBezTo>
                <a:cubicBezTo>
                  <a:pt x="12027" y="16474"/>
                  <a:pt x="12092" y="16484"/>
                  <a:pt x="12154" y="16446"/>
                </a:cubicBezTo>
                <a:cubicBezTo>
                  <a:pt x="12221" y="16405"/>
                  <a:pt x="12289" y="16270"/>
                  <a:pt x="12303" y="16197"/>
                </a:cubicBezTo>
                <a:cubicBezTo>
                  <a:pt x="12325" y="16079"/>
                  <a:pt x="12289" y="15960"/>
                  <a:pt x="12254" y="15850"/>
                </a:cubicBezTo>
                <a:cubicBezTo>
                  <a:pt x="12226" y="15762"/>
                  <a:pt x="12152" y="15705"/>
                  <a:pt x="12105" y="15652"/>
                </a:cubicBezTo>
              </a:path>
              <a:path w="10443" h="1613">
                <a:moveTo>
                  <a:pt x="12502" y="16049"/>
                </a:moveTo>
                <a:cubicBezTo>
                  <a:pt x="12593" y="16220"/>
                  <a:pt x="12672" y="16405"/>
                  <a:pt x="12774" y="16570"/>
                </a:cubicBezTo>
                <a:cubicBezTo>
                  <a:pt x="12782" y="16578"/>
                  <a:pt x="12791" y="16586"/>
                  <a:pt x="12799" y="16594"/>
                </a:cubicBezTo>
              </a:path>
              <a:path w="10443" h="1613">
                <a:moveTo>
                  <a:pt x="12750" y="15850"/>
                </a:moveTo>
                <a:cubicBezTo>
                  <a:pt x="12667" y="15978"/>
                  <a:pt x="12634" y="16061"/>
                  <a:pt x="12576" y="16197"/>
                </a:cubicBezTo>
                <a:cubicBezTo>
                  <a:pt x="12537" y="16288"/>
                  <a:pt x="12501" y="16414"/>
                  <a:pt x="12452" y="16495"/>
                </a:cubicBezTo>
                <a:cubicBezTo>
                  <a:pt x="12444" y="16503"/>
                  <a:pt x="12435" y="16512"/>
                  <a:pt x="12427" y="16520"/>
                </a:cubicBezTo>
              </a:path>
              <a:path w="10443" h="1613">
                <a:moveTo>
                  <a:pt x="12948" y="15354"/>
                </a:moveTo>
                <a:cubicBezTo>
                  <a:pt x="13099" y="15392"/>
                  <a:pt x="13235" y="15373"/>
                  <a:pt x="13295" y="15528"/>
                </a:cubicBezTo>
                <a:cubicBezTo>
                  <a:pt x="13311" y="15568"/>
                  <a:pt x="13249" y="15599"/>
                  <a:pt x="13221" y="15602"/>
                </a:cubicBezTo>
                <a:cubicBezTo>
                  <a:pt x="13171" y="15608"/>
                  <a:pt x="13156" y="15649"/>
                  <a:pt x="13171" y="15701"/>
                </a:cubicBezTo>
                <a:cubicBezTo>
                  <a:pt x="13196" y="15786"/>
                  <a:pt x="13218" y="15861"/>
                  <a:pt x="13171" y="15949"/>
                </a:cubicBezTo>
                <a:cubicBezTo>
                  <a:pt x="13153" y="15981"/>
                  <a:pt x="13077" y="15989"/>
                  <a:pt x="13047" y="15974"/>
                </a:cubicBezTo>
                <a:cubicBezTo>
                  <a:pt x="12985" y="15943"/>
                  <a:pt x="12962" y="15903"/>
                  <a:pt x="12923" y="15850"/>
                </a:cubicBezTo>
                <a:cubicBezTo>
                  <a:pt x="12915" y="15842"/>
                  <a:pt x="12906" y="15833"/>
                  <a:pt x="12898" y="15825"/>
                </a:cubicBezTo>
              </a:path>
              <a:path w="10443" h="1613">
                <a:moveTo>
                  <a:pt x="13494" y="15974"/>
                </a:moveTo>
                <a:cubicBezTo>
                  <a:pt x="13597" y="15994"/>
                  <a:pt x="13689" y="16015"/>
                  <a:pt x="13791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3680" y="5554800"/>
            <a:ext cx="2071440" cy="642960"/>
          </a:xfrm>
          <a:custGeom>
            <a:avLst/>
            <a:gdLst/>
            <a:ahLst/>
            <a:rect l="l" t="t" r="r" b="b"/>
            <a:pathLst>
              <a:path w="5755" h="1786">
                <a:moveTo>
                  <a:pt x="14486" y="15429"/>
                </a:moveTo>
                <a:cubicBezTo>
                  <a:pt x="14472" y="15499"/>
                  <a:pt x="14424" y="15541"/>
                  <a:pt x="14387" y="15602"/>
                </a:cubicBezTo>
                <a:cubicBezTo>
                  <a:pt x="14284" y="15770"/>
                  <a:pt x="14288" y="15854"/>
                  <a:pt x="14288" y="16049"/>
                </a:cubicBezTo>
                <a:cubicBezTo>
                  <a:pt x="14288" y="16136"/>
                  <a:pt x="14291" y="16293"/>
                  <a:pt x="14337" y="16371"/>
                </a:cubicBezTo>
                <a:cubicBezTo>
                  <a:pt x="14375" y="16435"/>
                  <a:pt x="14415" y="16489"/>
                  <a:pt x="14486" y="16495"/>
                </a:cubicBezTo>
                <a:cubicBezTo>
                  <a:pt x="14537" y="16499"/>
                  <a:pt x="14600" y="16454"/>
                  <a:pt x="14635" y="16421"/>
                </a:cubicBezTo>
                <a:cubicBezTo>
                  <a:pt x="14669" y="16389"/>
                  <a:pt x="14726" y="16298"/>
                  <a:pt x="14709" y="16247"/>
                </a:cubicBezTo>
                <a:cubicBezTo>
                  <a:pt x="14696" y="16209"/>
                  <a:pt x="14672" y="16182"/>
                  <a:pt x="14635" y="16173"/>
                </a:cubicBezTo>
                <a:cubicBezTo>
                  <a:pt x="14571" y="16188"/>
                  <a:pt x="14563" y="16232"/>
                  <a:pt x="14560" y="16297"/>
                </a:cubicBezTo>
                <a:cubicBezTo>
                  <a:pt x="14558" y="16332"/>
                  <a:pt x="14538" y="16499"/>
                  <a:pt x="14585" y="16520"/>
                </a:cubicBezTo>
                <a:cubicBezTo>
                  <a:pt x="14610" y="16520"/>
                  <a:pt x="14635" y="16520"/>
                  <a:pt x="14660" y="16520"/>
                </a:cubicBezTo>
              </a:path>
              <a:path w="5755" h="1786">
                <a:moveTo>
                  <a:pt x="15056" y="15726"/>
                </a:moveTo>
                <a:cubicBezTo>
                  <a:pt x="15001" y="15771"/>
                  <a:pt x="14971" y="15789"/>
                  <a:pt x="14932" y="15850"/>
                </a:cubicBezTo>
                <a:cubicBezTo>
                  <a:pt x="14846" y="15987"/>
                  <a:pt x="14895" y="16118"/>
                  <a:pt x="14932" y="16272"/>
                </a:cubicBezTo>
                <a:cubicBezTo>
                  <a:pt x="14963" y="16400"/>
                  <a:pt x="14984" y="16420"/>
                  <a:pt x="15081" y="16495"/>
                </a:cubicBezTo>
                <a:cubicBezTo>
                  <a:pt x="15129" y="16532"/>
                  <a:pt x="15222" y="16476"/>
                  <a:pt x="15255" y="16421"/>
                </a:cubicBezTo>
                <a:cubicBezTo>
                  <a:pt x="15317" y="16317"/>
                  <a:pt x="15351" y="16219"/>
                  <a:pt x="15354" y="16098"/>
                </a:cubicBezTo>
                <a:cubicBezTo>
                  <a:pt x="15358" y="15953"/>
                  <a:pt x="15356" y="15851"/>
                  <a:pt x="15280" y="15726"/>
                </a:cubicBezTo>
                <a:cubicBezTo>
                  <a:pt x="15212" y="15614"/>
                  <a:pt x="15144" y="15509"/>
                  <a:pt x="15007" y="15577"/>
                </a:cubicBezTo>
                <a:cubicBezTo>
                  <a:pt x="14984" y="15600"/>
                  <a:pt x="14976" y="15604"/>
                  <a:pt x="14982" y="15627"/>
                </a:cubicBezTo>
              </a:path>
              <a:path w="5755" h="1786">
                <a:moveTo>
                  <a:pt x="15553" y="15999"/>
                </a:moveTo>
                <a:cubicBezTo>
                  <a:pt x="15668" y="16169"/>
                  <a:pt x="15736" y="16302"/>
                  <a:pt x="15825" y="16470"/>
                </a:cubicBezTo>
                <a:cubicBezTo>
                  <a:pt x="15864" y="16543"/>
                  <a:pt x="15900" y="16605"/>
                  <a:pt x="15949" y="16669"/>
                </a:cubicBezTo>
              </a:path>
              <a:path w="5755" h="1786">
                <a:moveTo>
                  <a:pt x="15974" y="15999"/>
                </a:moveTo>
                <a:cubicBezTo>
                  <a:pt x="15862" y="16074"/>
                  <a:pt x="15719" y="16148"/>
                  <a:pt x="15652" y="16272"/>
                </a:cubicBezTo>
                <a:cubicBezTo>
                  <a:pt x="15607" y="16355"/>
                  <a:pt x="15546" y="16439"/>
                  <a:pt x="15503" y="16520"/>
                </a:cubicBezTo>
                <a:cubicBezTo>
                  <a:pt x="15465" y="16592"/>
                  <a:pt x="15551" y="16459"/>
                  <a:pt x="15602" y="16396"/>
                </a:cubicBezTo>
              </a:path>
              <a:path w="5755" h="1786">
                <a:moveTo>
                  <a:pt x="16123" y="15478"/>
                </a:moveTo>
                <a:cubicBezTo>
                  <a:pt x="16311" y="15565"/>
                  <a:pt x="16377" y="15540"/>
                  <a:pt x="16297" y="15701"/>
                </a:cubicBezTo>
                <a:cubicBezTo>
                  <a:pt x="16268" y="15760"/>
                  <a:pt x="16197" y="15765"/>
                  <a:pt x="16173" y="15801"/>
                </a:cubicBezTo>
                <a:cubicBezTo>
                  <a:pt x="16152" y="15832"/>
                  <a:pt x="16185" y="15879"/>
                  <a:pt x="16197" y="15900"/>
                </a:cubicBezTo>
                <a:cubicBezTo>
                  <a:pt x="16230" y="15957"/>
                  <a:pt x="16302" y="16009"/>
                  <a:pt x="16371" y="16024"/>
                </a:cubicBezTo>
                <a:cubicBezTo>
                  <a:pt x="16437" y="16039"/>
                  <a:pt x="16458" y="16039"/>
                  <a:pt x="16520" y="16024"/>
                </a:cubicBezTo>
              </a:path>
              <a:path w="5755" h="1786">
                <a:moveTo>
                  <a:pt x="16793" y="16297"/>
                </a:moveTo>
                <a:cubicBezTo>
                  <a:pt x="16881" y="16315"/>
                  <a:pt x="16941" y="16340"/>
                  <a:pt x="17016" y="16297"/>
                </a:cubicBezTo>
              </a:path>
              <a:path w="5755" h="1786">
                <a:moveTo>
                  <a:pt x="17388" y="15627"/>
                </a:moveTo>
                <a:cubicBezTo>
                  <a:pt x="17467" y="15659"/>
                  <a:pt x="17518" y="15677"/>
                  <a:pt x="17562" y="15751"/>
                </a:cubicBezTo>
                <a:cubicBezTo>
                  <a:pt x="17614" y="15840"/>
                  <a:pt x="17607" y="15860"/>
                  <a:pt x="17562" y="15949"/>
                </a:cubicBezTo>
                <a:cubicBezTo>
                  <a:pt x="17522" y="16028"/>
                  <a:pt x="17428" y="16118"/>
                  <a:pt x="17363" y="16173"/>
                </a:cubicBezTo>
                <a:cubicBezTo>
                  <a:pt x="17309" y="16218"/>
                  <a:pt x="17211" y="16243"/>
                  <a:pt x="17165" y="16297"/>
                </a:cubicBezTo>
                <a:cubicBezTo>
                  <a:pt x="17121" y="16348"/>
                  <a:pt x="17115" y="16383"/>
                  <a:pt x="17115" y="16446"/>
                </a:cubicBezTo>
                <a:cubicBezTo>
                  <a:pt x="17115" y="16510"/>
                  <a:pt x="17159" y="16548"/>
                  <a:pt x="17214" y="16570"/>
                </a:cubicBezTo>
                <a:cubicBezTo>
                  <a:pt x="17322" y="16613"/>
                  <a:pt x="17374" y="16627"/>
                  <a:pt x="17487" y="16594"/>
                </a:cubicBezTo>
                <a:cubicBezTo>
                  <a:pt x="17512" y="16586"/>
                  <a:pt x="17537" y="16578"/>
                  <a:pt x="17562" y="16570"/>
                </a:cubicBezTo>
              </a:path>
              <a:path w="5755" h="1786">
                <a:moveTo>
                  <a:pt x="17835" y="15751"/>
                </a:moveTo>
                <a:cubicBezTo>
                  <a:pt x="17867" y="15816"/>
                  <a:pt x="17907" y="15881"/>
                  <a:pt x="17934" y="15949"/>
                </a:cubicBezTo>
                <a:cubicBezTo>
                  <a:pt x="17964" y="16024"/>
                  <a:pt x="17977" y="16091"/>
                  <a:pt x="18058" y="16123"/>
                </a:cubicBezTo>
                <a:cubicBezTo>
                  <a:pt x="18091" y="16123"/>
                  <a:pt x="18107" y="16123"/>
                  <a:pt x="18132" y="16123"/>
                </a:cubicBezTo>
              </a:path>
              <a:path w="5755" h="1786">
                <a:moveTo>
                  <a:pt x="18182" y="15726"/>
                </a:moveTo>
                <a:cubicBezTo>
                  <a:pt x="18137" y="15866"/>
                  <a:pt x="18092" y="16005"/>
                  <a:pt x="18058" y="16148"/>
                </a:cubicBezTo>
                <a:cubicBezTo>
                  <a:pt x="18029" y="16271"/>
                  <a:pt x="17995" y="16418"/>
                  <a:pt x="17983" y="16545"/>
                </a:cubicBezTo>
                <a:cubicBezTo>
                  <a:pt x="17983" y="16570"/>
                  <a:pt x="17983" y="16578"/>
                  <a:pt x="17983" y="16594"/>
                </a:cubicBezTo>
              </a:path>
              <a:path w="5755" h="1786">
                <a:moveTo>
                  <a:pt x="18355" y="16024"/>
                </a:moveTo>
                <a:cubicBezTo>
                  <a:pt x="18435" y="16135"/>
                  <a:pt x="18486" y="16217"/>
                  <a:pt x="18529" y="16346"/>
                </a:cubicBezTo>
                <a:cubicBezTo>
                  <a:pt x="18550" y="16408"/>
                  <a:pt x="18598" y="16558"/>
                  <a:pt x="18653" y="16594"/>
                </a:cubicBezTo>
                <a:cubicBezTo>
                  <a:pt x="18661" y="16594"/>
                  <a:pt x="18670" y="16594"/>
                  <a:pt x="18678" y="16594"/>
                </a:cubicBezTo>
              </a:path>
              <a:path w="5755" h="1786">
                <a:moveTo>
                  <a:pt x="18827" y="16173"/>
                </a:moveTo>
                <a:cubicBezTo>
                  <a:pt x="18739" y="16236"/>
                  <a:pt x="18649" y="16316"/>
                  <a:pt x="18579" y="16396"/>
                </a:cubicBezTo>
                <a:cubicBezTo>
                  <a:pt x="18491" y="16496"/>
                  <a:pt x="18454" y="16600"/>
                  <a:pt x="18405" y="16718"/>
                </a:cubicBezTo>
                <a:cubicBezTo>
                  <a:pt x="18387" y="16761"/>
                  <a:pt x="18365" y="16778"/>
                  <a:pt x="18355" y="16818"/>
                </a:cubicBezTo>
              </a:path>
              <a:path w="5755" h="1786">
                <a:moveTo>
                  <a:pt x="19100" y="16495"/>
                </a:moveTo>
                <a:cubicBezTo>
                  <a:pt x="19245" y="16533"/>
                  <a:pt x="19289" y="16582"/>
                  <a:pt x="19397" y="16495"/>
                </a:cubicBezTo>
              </a:path>
              <a:path w="5755" h="1786">
                <a:moveTo>
                  <a:pt x="19596" y="16098"/>
                </a:moveTo>
                <a:cubicBezTo>
                  <a:pt x="19596" y="16175"/>
                  <a:pt x="19604" y="16225"/>
                  <a:pt x="19621" y="16297"/>
                </a:cubicBezTo>
                <a:cubicBezTo>
                  <a:pt x="19636" y="16360"/>
                  <a:pt x="19652" y="16398"/>
                  <a:pt x="19720" y="16421"/>
                </a:cubicBezTo>
                <a:cubicBezTo>
                  <a:pt x="19770" y="16438"/>
                  <a:pt x="19828" y="16392"/>
                  <a:pt x="19869" y="16371"/>
                </a:cubicBezTo>
              </a:path>
              <a:path w="5755" h="1786">
                <a:moveTo>
                  <a:pt x="20042" y="15776"/>
                </a:moveTo>
                <a:cubicBezTo>
                  <a:pt x="20012" y="15885"/>
                  <a:pt x="20000" y="16009"/>
                  <a:pt x="19993" y="16123"/>
                </a:cubicBezTo>
                <a:cubicBezTo>
                  <a:pt x="19980" y="16313"/>
                  <a:pt x="19980" y="16505"/>
                  <a:pt x="19968" y="16694"/>
                </a:cubicBezTo>
                <a:cubicBezTo>
                  <a:pt x="19960" y="16823"/>
                  <a:pt x="19937" y="16944"/>
                  <a:pt x="19918" y="17066"/>
                </a:cubicBezTo>
                <a:cubicBezTo>
                  <a:pt x="19909" y="17124"/>
                  <a:pt x="19933" y="17145"/>
                  <a:pt x="19893" y="17190"/>
                </a:cubicBezTo>
                <a:cubicBezTo>
                  <a:pt x="19869" y="17190"/>
                  <a:pt x="19861" y="17190"/>
                  <a:pt x="19869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054840"/>
            <a:ext cx="7848720" cy="687240"/>
          </a:xfrm>
          <a:custGeom>
            <a:avLst/>
            <a:gdLst/>
            <a:ahLst/>
            <a:rect l="l" t="t" r="r" b="b"/>
            <a:pathLst>
              <a:path w="21804" h="1911">
                <a:moveTo>
                  <a:pt x="422" y="17314"/>
                </a:moveTo>
                <a:cubicBezTo>
                  <a:pt x="500" y="17360"/>
                  <a:pt x="550" y="17357"/>
                  <a:pt x="645" y="17338"/>
                </a:cubicBezTo>
                <a:cubicBezTo>
                  <a:pt x="800" y="17307"/>
                  <a:pt x="946" y="17274"/>
                  <a:pt x="1091" y="17214"/>
                </a:cubicBezTo>
              </a:path>
              <a:path w="21804" h="1911">
                <a:moveTo>
                  <a:pt x="1463" y="17041"/>
                </a:moveTo>
                <a:cubicBezTo>
                  <a:pt x="1463" y="17160"/>
                  <a:pt x="1461" y="17222"/>
                  <a:pt x="1414" y="17338"/>
                </a:cubicBezTo>
                <a:cubicBezTo>
                  <a:pt x="1390" y="17397"/>
                  <a:pt x="1354" y="17451"/>
                  <a:pt x="1339" y="17512"/>
                </a:cubicBezTo>
                <a:cubicBezTo>
                  <a:pt x="1327" y="17559"/>
                  <a:pt x="1341" y="17571"/>
                  <a:pt x="1364" y="17587"/>
                </a:cubicBezTo>
                <a:cubicBezTo>
                  <a:pt x="1406" y="17618"/>
                  <a:pt x="1433" y="17611"/>
                  <a:pt x="1488" y="17611"/>
                </a:cubicBezTo>
                <a:cubicBezTo>
                  <a:pt x="1558" y="17611"/>
                  <a:pt x="1622" y="17619"/>
                  <a:pt x="1687" y="17636"/>
                </a:cubicBezTo>
                <a:cubicBezTo>
                  <a:pt x="1770" y="17658"/>
                  <a:pt x="1780" y="17646"/>
                  <a:pt x="1860" y="17636"/>
                </a:cubicBezTo>
              </a:path>
              <a:path w="21804" h="1911">
                <a:moveTo>
                  <a:pt x="1761" y="16867"/>
                </a:moveTo>
                <a:cubicBezTo>
                  <a:pt x="1705" y="17126"/>
                  <a:pt x="1687" y="17304"/>
                  <a:pt x="1687" y="17562"/>
                </a:cubicBezTo>
                <a:cubicBezTo>
                  <a:pt x="1687" y="17740"/>
                  <a:pt x="1696" y="17909"/>
                  <a:pt x="1712" y="18083"/>
                </a:cubicBezTo>
                <a:cubicBezTo>
                  <a:pt x="1720" y="18166"/>
                  <a:pt x="1716" y="18189"/>
                  <a:pt x="1786" y="18231"/>
                </a:cubicBezTo>
              </a:path>
              <a:path w="21804" h="1911">
                <a:moveTo>
                  <a:pt x="2084" y="17388"/>
                </a:moveTo>
                <a:cubicBezTo>
                  <a:pt x="2152" y="17624"/>
                  <a:pt x="2210" y="17822"/>
                  <a:pt x="2332" y="18033"/>
                </a:cubicBezTo>
                <a:cubicBezTo>
                  <a:pt x="2404" y="18158"/>
                  <a:pt x="2461" y="18251"/>
                  <a:pt x="2580" y="18331"/>
                </a:cubicBezTo>
              </a:path>
              <a:path w="21804" h="1911">
                <a:moveTo>
                  <a:pt x="2555" y="17314"/>
                </a:moveTo>
                <a:cubicBezTo>
                  <a:pt x="2454" y="17414"/>
                  <a:pt x="2354" y="17511"/>
                  <a:pt x="2282" y="17636"/>
                </a:cubicBezTo>
                <a:cubicBezTo>
                  <a:pt x="2201" y="17775"/>
                  <a:pt x="2120" y="17908"/>
                  <a:pt x="2059" y="18058"/>
                </a:cubicBezTo>
                <a:cubicBezTo>
                  <a:pt x="2049" y="18083"/>
                  <a:pt x="1967" y="18260"/>
                  <a:pt x="1984" y="18281"/>
                </a:cubicBezTo>
                <a:cubicBezTo>
                  <a:pt x="1992" y="18281"/>
                  <a:pt x="2001" y="18281"/>
                  <a:pt x="2009" y="18281"/>
                </a:cubicBezTo>
              </a:path>
              <a:path w="21804" h="1911">
                <a:moveTo>
                  <a:pt x="2927" y="16818"/>
                </a:moveTo>
                <a:cubicBezTo>
                  <a:pt x="2967" y="16870"/>
                  <a:pt x="2955" y="16904"/>
                  <a:pt x="2927" y="16966"/>
                </a:cubicBezTo>
                <a:cubicBezTo>
                  <a:pt x="2878" y="17075"/>
                  <a:pt x="2853" y="17148"/>
                  <a:pt x="2853" y="17264"/>
                </a:cubicBezTo>
                <a:cubicBezTo>
                  <a:pt x="2853" y="17375"/>
                  <a:pt x="2850" y="17394"/>
                  <a:pt x="2927" y="17462"/>
                </a:cubicBezTo>
                <a:cubicBezTo>
                  <a:pt x="3002" y="17528"/>
                  <a:pt x="3026" y="17537"/>
                  <a:pt x="3125" y="17537"/>
                </a:cubicBezTo>
                <a:cubicBezTo>
                  <a:pt x="3214" y="17537"/>
                  <a:pt x="3270" y="17474"/>
                  <a:pt x="3299" y="17388"/>
                </a:cubicBezTo>
                <a:cubicBezTo>
                  <a:pt x="3314" y="17342"/>
                  <a:pt x="3292" y="17263"/>
                  <a:pt x="3249" y="17239"/>
                </a:cubicBezTo>
                <a:cubicBezTo>
                  <a:pt x="3187" y="17204"/>
                  <a:pt x="3135" y="17280"/>
                  <a:pt x="3101" y="17314"/>
                </a:cubicBezTo>
                <a:cubicBezTo>
                  <a:pt x="3014" y="17400"/>
                  <a:pt x="3006" y="17519"/>
                  <a:pt x="2977" y="17636"/>
                </a:cubicBezTo>
                <a:cubicBezTo>
                  <a:pt x="2969" y="17669"/>
                  <a:pt x="2960" y="17702"/>
                  <a:pt x="2952" y="17735"/>
                </a:cubicBezTo>
              </a:path>
              <a:path w="21804" h="1911">
                <a:moveTo>
                  <a:pt x="3572" y="17735"/>
                </a:moveTo>
                <a:cubicBezTo>
                  <a:pt x="3693" y="17735"/>
                  <a:pt x="3803" y="17723"/>
                  <a:pt x="3919" y="17711"/>
                </a:cubicBezTo>
                <a:cubicBezTo>
                  <a:pt x="4002" y="17702"/>
                  <a:pt x="4061" y="17688"/>
                  <a:pt x="4142" y="17661"/>
                </a:cubicBezTo>
              </a:path>
              <a:path w="21804" h="1911">
                <a:moveTo>
                  <a:pt x="4490" y="17388"/>
                </a:moveTo>
                <a:cubicBezTo>
                  <a:pt x="4627" y="17422"/>
                  <a:pt x="4725" y="17431"/>
                  <a:pt x="4762" y="17587"/>
                </a:cubicBezTo>
                <a:cubicBezTo>
                  <a:pt x="4780" y="17662"/>
                  <a:pt x="4757" y="17796"/>
                  <a:pt x="4713" y="17859"/>
                </a:cubicBezTo>
                <a:cubicBezTo>
                  <a:pt x="4653" y="17944"/>
                  <a:pt x="4532" y="18059"/>
                  <a:pt x="4440" y="18107"/>
                </a:cubicBezTo>
                <a:cubicBezTo>
                  <a:pt x="4384" y="18136"/>
                  <a:pt x="4257" y="18215"/>
                  <a:pt x="4192" y="18182"/>
                </a:cubicBezTo>
                <a:cubicBezTo>
                  <a:pt x="4157" y="18164"/>
                  <a:pt x="4156" y="18090"/>
                  <a:pt x="4167" y="18058"/>
                </a:cubicBezTo>
                <a:cubicBezTo>
                  <a:pt x="4173" y="18041"/>
                  <a:pt x="4239" y="17932"/>
                  <a:pt x="4266" y="17934"/>
                </a:cubicBezTo>
                <a:cubicBezTo>
                  <a:pt x="4339" y="17940"/>
                  <a:pt x="4407" y="18059"/>
                  <a:pt x="4440" y="18107"/>
                </a:cubicBezTo>
                <a:cubicBezTo>
                  <a:pt x="4512" y="18211"/>
                  <a:pt x="4505" y="18348"/>
                  <a:pt x="4638" y="18405"/>
                </a:cubicBezTo>
                <a:cubicBezTo>
                  <a:pt x="4655" y="18405"/>
                  <a:pt x="4671" y="18405"/>
                  <a:pt x="4688" y="18405"/>
                </a:cubicBezTo>
              </a:path>
              <a:path w="21804" h="1911">
                <a:moveTo>
                  <a:pt x="5110" y="17438"/>
                </a:moveTo>
                <a:cubicBezTo>
                  <a:pt x="5110" y="17481"/>
                  <a:pt x="5075" y="17525"/>
                  <a:pt x="5085" y="17562"/>
                </a:cubicBezTo>
                <a:cubicBezTo>
                  <a:pt x="5106" y="17641"/>
                  <a:pt x="5154" y="17755"/>
                  <a:pt x="5209" y="17810"/>
                </a:cubicBezTo>
                <a:cubicBezTo>
                  <a:pt x="5279" y="17880"/>
                  <a:pt x="5319" y="17804"/>
                  <a:pt x="5358" y="17760"/>
                </a:cubicBezTo>
                <a:cubicBezTo>
                  <a:pt x="5374" y="17744"/>
                  <a:pt x="5391" y="17727"/>
                  <a:pt x="5407" y="17711"/>
                </a:cubicBezTo>
              </a:path>
              <a:path w="21804" h="1911">
                <a:moveTo>
                  <a:pt x="5507" y="17140"/>
                </a:moveTo>
                <a:cubicBezTo>
                  <a:pt x="5507" y="17115"/>
                  <a:pt x="5507" y="17091"/>
                  <a:pt x="5507" y="17066"/>
                </a:cubicBezTo>
                <a:cubicBezTo>
                  <a:pt x="5491" y="17128"/>
                  <a:pt x="5441" y="17193"/>
                  <a:pt x="5432" y="17264"/>
                </a:cubicBezTo>
                <a:cubicBezTo>
                  <a:pt x="5413" y="17413"/>
                  <a:pt x="5407" y="17559"/>
                  <a:pt x="5407" y="17711"/>
                </a:cubicBezTo>
                <a:cubicBezTo>
                  <a:pt x="5407" y="17890"/>
                  <a:pt x="5378" y="18020"/>
                  <a:pt x="5358" y="18182"/>
                </a:cubicBezTo>
                <a:cubicBezTo>
                  <a:pt x="5358" y="18243"/>
                  <a:pt x="5349" y="18277"/>
                  <a:pt x="5383" y="18231"/>
                </a:cubicBezTo>
              </a:path>
              <a:path w="21804" h="1911">
                <a:moveTo>
                  <a:pt x="5655" y="17711"/>
                </a:moveTo>
                <a:cubicBezTo>
                  <a:pt x="5724" y="17789"/>
                  <a:pt x="5770" y="17883"/>
                  <a:pt x="5804" y="17983"/>
                </a:cubicBezTo>
                <a:cubicBezTo>
                  <a:pt x="5848" y="18111"/>
                  <a:pt x="5888" y="18304"/>
                  <a:pt x="5978" y="18405"/>
                </a:cubicBezTo>
                <a:cubicBezTo>
                  <a:pt x="5995" y="18413"/>
                  <a:pt x="6011" y="18422"/>
                  <a:pt x="6028" y="18430"/>
                </a:cubicBezTo>
              </a:path>
              <a:path w="21804" h="1911">
                <a:moveTo>
                  <a:pt x="6201" y="17611"/>
                </a:moveTo>
                <a:cubicBezTo>
                  <a:pt x="6125" y="17688"/>
                  <a:pt x="6057" y="17764"/>
                  <a:pt x="6003" y="17859"/>
                </a:cubicBezTo>
                <a:cubicBezTo>
                  <a:pt x="5917" y="18012"/>
                  <a:pt x="5882" y="18175"/>
                  <a:pt x="5804" y="18331"/>
                </a:cubicBezTo>
                <a:cubicBezTo>
                  <a:pt x="5771" y="18396"/>
                  <a:pt x="5726" y="18473"/>
                  <a:pt x="5680" y="18529"/>
                </a:cubicBezTo>
              </a:path>
              <a:path w="21804" h="1911">
                <a:moveTo>
                  <a:pt x="6499" y="17289"/>
                </a:moveTo>
                <a:cubicBezTo>
                  <a:pt x="6609" y="17322"/>
                  <a:pt x="6648" y="17338"/>
                  <a:pt x="6747" y="17338"/>
                </a:cubicBezTo>
              </a:path>
              <a:path w="21804" h="1911">
                <a:moveTo>
                  <a:pt x="6499" y="17338"/>
                </a:moveTo>
                <a:cubicBezTo>
                  <a:pt x="6479" y="17386"/>
                  <a:pt x="6460" y="17432"/>
                  <a:pt x="6474" y="17487"/>
                </a:cubicBezTo>
                <a:cubicBezTo>
                  <a:pt x="6502" y="17599"/>
                  <a:pt x="6558" y="17703"/>
                  <a:pt x="6598" y="17810"/>
                </a:cubicBezTo>
                <a:cubicBezTo>
                  <a:pt x="6618" y="17863"/>
                  <a:pt x="6654" y="17965"/>
                  <a:pt x="6598" y="18008"/>
                </a:cubicBezTo>
                <a:cubicBezTo>
                  <a:pt x="6531" y="18059"/>
                  <a:pt x="6533" y="18053"/>
                  <a:pt x="6474" y="18033"/>
                </a:cubicBezTo>
                <a:cubicBezTo>
                  <a:pt x="6435" y="18020"/>
                  <a:pt x="6387" y="17986"/>
                  <a:pt x="6350" y="17959"/>
                </a:cubicBezTo>
                <a:cubicBezTo>
                  <a:pt x="6297" y="17920"/>
                  <a:pt x="6279" y="17872"/>
                  <a:pt x="6226" y="17835"/>
                </a:cubicBezTo>
              </a:path>
              <a:path w="21804" h="1911">
                <a:moveTo>
                  <a:pt x="6821" y="18058"/>
                </a:moveTo>
                <a:cubicBezTo>
                  <a:pt x="6920" y="18058"/>
                  <a:pt x="7001" y="18079"/>
                  <a:pt x="7094" y="18083"/>
                </a:cubicBezTo>
                <a:cubicBezTo>
                  <a:pt x="7169" y="18083"/>
                  <a:pt x="7193" y="18083"/>
                  <a:pt x="7243" y="18083"/>
                </a:cubicBezTo>
              </a:path>
              <a:path w="21804" h="1911">
                <a:moveTo>
                  <a:pt x="7888" y="17438"/>
                </a:moveTo>
                <a:cubicBezTo>
                  <a:pt x="7826" y="17481"/>
                  <a:pt x="7764" y="17547"/>
                  <a:pt x="7714" y="17611"/>
                </a:cubicBezTo>
                <a:cubicBezTo>
                  <a:pt x="7646" y="17699"/>
                  <a:pt x="7619" y="17801"/>
                  <a:pt x="7615" y="17909"/>
                </a:cubicBezTo>
                <a:cubicBezTo>
                  <a:pt x="7611" y="18014"/>
                  <a:pt x="7609" y="18108"/>
                  <a:pt x="7640" y="18207"/>
                </a:cubicBezTo>
                <a:cubicBezTo>
                  <a:pt x="7660" y="18270"/>
                  <a:pt x="7716" y="18388"/>
                  <a:pt x="7789" y="18405"/>
                </a:cubicBezTo>
                <a:cubicBezTo>
                  <a:pt x="7849" y="18419"/>
                  <a:pt x="7937" y="18383"/>
                  <a:pt x="7987" y="18355"/>
                </a:cubicBezTo>
                <a:cubicBezTo>
                  <a:pt x="8033" y="18329"/>
                  <a:pt x="8094" y="18258"/>
                  <a:pt x="8111" y="18207"/>
                </a:cubicBezTo>
                <a:cubicBezTo>
                  <a:pt x="8128" y="18157"/>
                  <a:pt x="8127" y="18148"/>
                  <a:pt x="8111" y="18107"/>
                </a:cubicBezTo>
                <a:cubicBezTo>
                  <a:pt x="8067" y="18086"/>
                  <a:pt x="8028" y="18102"/>
                  <a:pt x="7987" y="18157"/>
                </a:cubicBezTo>
                <a:cubicBezTo>
                  <a:pt x="7939" y="18220"/>
                  <a:pt x="7924" y="18328"/>
                  <a:pt x="7938" y="18405"/>
                </a:cubicBezTo>
                <a:cubicBezTo>
                  <a:pt x="7959" y="18470"/>
                  <a:pt x="7967" y="18486"/>
                  <a:pt x="7962" y="18529"/>
                </a:cubicBezTo>
              </a:path>
              <a:path w="21804" h="1911">
                <a:moveTo>
                  <a:pt x="8458" y="17735"/>
                </a:moveTo>
                <a:cubicBezTo>
                  <a:pt x="8442" y="17655"/>
                  <a:pt x="8395" y="17724"/>
                  <a:pt x="8359" y="17785"/>
                </a:cubicBezTo>
                <a:cubicBezTo>
                  <a:pt x="8295" y="17893"/>
                  <a:pt x="8271" y="18060"/>
                  <a:pt x="8285" y="18182"/>
                </a:cubicBezTo>
                <a:cubicBezTo>
                  <a:pt x="8296" y="18281"/>
                  <a:pt x="8341" y="18390"/>
                  <a:pt x="8384" y="18479"/>
                </a:cubicBezTo>
                <a:cubicBezTo>
                  <a:pt x="8406" y="18526"/>
                  <a:pt x="8474" y="18562"/>
                  <a:pt x="8533" y="18529"/>
                </a:cubicBezTo>
                <a:cubicBezTo>
                  <a:pt x="8612" y="18484"/>
                  <a:pt x="8688" y="18333"/>
                  <a:pt x="8731" y="18256"/>
                </a:cubicBezTo>
                <a:cubicBezTo>
                  <a:pt x="8820" y="18097"/>
                  <a:pt x="8841" y="17940"/>
                  <a:pt x="8806" y="17760"/>
                </a:cubicBezTo>
                <a:cubicBezTo>
                  <a:pt x="8787" y="17664"/>
                  <a:pt x="8748" y="17556"/>
                  <a:pt x="8657" y="17512"/>
                </a:cubicBezTo>
                <a:cubicBezTo>
                  <a:pt x="8608" y="17488"/>
                  <a:pt x="8498" y="17459"/>
                  <a:pt x="8458" y="17512"/>
                </a:cubicBezTo>
                <a:cubicBezTo>
                  <a:pt x="8416" y="17567"/>
                  <a:pt x="8434" y="17647"/>
                  <a:pt x="8434" y="17711"/>
                </a:cubicBezTo>
              </a:path>
              <a:path w="21804" h="1911">
                <a:moveTo>
                  <a:pt x="8954" y="17934"/>
                </a:moveTo>
                <a:cubicBezTo>
                  <a:pt x="9067" y="18047"/>
                  <a:pt x="9174" y="18142"/>
                  <a:pt x="9252" y="18281"/>
                </a:cubicBezTo>
                <a:cubicBezTo>
                  <a:pt x="9302" y="18370"/>
                  <a:pt x="9306" y="18419"/>
                  <a:pt x="9376" y="18479"/>
                </a:cubicBezTo>
              </a:path>
              <a:path w="21804" h="1911">
                <a:moveTo>
                  <a:pt x="9351" y="17835"/>
                </a:moveTo>
                <a:cubicBezTo>
                  <a:pt x="9219" y="17974"/>
                  <a:pt x="9149" y="18072"/>
                  <a:pt x="9054" y="18231"/>
                </a:cubicBezTo>
                <a:cubicBezTo>
                  <a:pt x="9011" y="18303"/>
                  <a:pt x="8986" y="18393"/>
                  <a:pt x="8930" y="18455"/>
                </a:cubicBezTo>
                <a:cubicBezTo>
                  <a:pt x="8922" y="18463"/>
                  <a:pt x="8913" y="18471"/>
                  <a:pt x="8905" y="18479"/>
                </a:cubicBezTo>
              </a:path>
              <a:path w="21804" h="1911">
                <a:moveTo>
                  <a:pt x="9575" y="17438"/>
                </a:moveTo>
                <a:cubicBezTo>
                  <a:pt x="9540" y="17495"/>
                  <a:pt x="9529" y="17539"/>
                  <a:pt x="9525" y="17611"/>
                </a:cubicBezTo>
                <a:cubicBezTo>
                  <a:pt x="9521" y="17682"/>
                  <a:pt x="9555" y="17778"/>
                  <a:pt x="9599" y="17835"/>
                </a:cubicBezTo>
                <a:cubicBezTo>
                  <a:pt x="9640" y="17887"/>
                  <a:pt x="9660" y="17934"/>
                  <a:pt x="9723" y="17934"/>
                </a:cubicBezTo>
                <a:cubicBezTo>
                  <a:pt x="9791" y="17934"/>
                  <a:pt x="9801" y="17887"/>
                  <a:pt x="9847" y="17835"/>
                </a:cubicBezTo>
              </a:path>
              <a:path w="21804" h="1911">
                <a:moveTo>
                  <a:pt x="9996" y="17388"/>
                </a:moveTo>
                <a:cubicBezTo>
                  <a:pt x="9945" y="17465"/>
                  <a:pt x="9944" y="17544"/>
                  <a:pt x="9922" y="17636"/>
                </a:cubicBezTo>
                <a:cubicBezTo>
                  <a:pt x="9885" y="17793"/>
                  <a:pt x="9857" y="17946"/>
                  <a:pt x="9847" y="18107"/>
                </a:cubicBezTo>
                <a:cubicBezTo>
                  <a:pt x="9839" y="18236"/>
                  <a:pt x="9844" y="18385"/>
                  <a:pt x="9798" y="18504"/>
                </a:cubicBezTo>
                <a:cubicBezTo>
                  <a:pt x="9773" y="18554"/>
                  <a:pt x="9765" y="18571"/>
                  <a:pt x="9748" y="18604"/>
                </a:cubicBezTo>
              </a:path>
              <a:path w="21804" h="1911">
                <a:moveTo>
                  <a:pt x="10344" y="17934"/>
                </a:moveTo>
                <a:cubicBezTo>
                  <a:pt x="10461" y="17904"/>
                  <a:pt x="10526" y="17921"/>
                  <a:pt x="10641" y="17934"/>
                </a:cubicBezTo>
                <a:cubicBezTo>
                  <a:pt x="10729" y="17944"/>
                  <a:pt x="10807" y="17910"/>
                  <a:pt x="10889" y="17884"/>
                </a:cubicBezTo>
              </a:path>
              <a:path w="21804" h="1911">
                <a:moveTo>
                  <a:pt x="11410" y="17636"/>
                </a:moveTo>
                <a:cubicBezTo>
                  <a:pt x="11355" y="17488"/>
                  <a:pt x="11334" y="17396"/>
                  <a:pt x="11162" y="17388"/>
                </a:cubicBezTo>
                <a:cubicBezTo>
                  <a:pt x="11081" y="17384"/>
                  <a:pt x="11033" y="17412"/>
                  <a:pt x="10988" y="17462"/>
                </a:cubicBezTo>
                <a:cubicBezTo>
                  <a:pt x="10911" y="17548"/>
                  <a:pt x="10944" y="17634"/>
                  <a:pt x="10964" y="17735"/>
                </a:cubicBezTo>
                <a:cubicBezTo>
                  <a:pt x="10995" y="17894"/>
                  <a:pt x="11070" y="18044"/>
                  <a:pt x="11088" y="18207"/>
                </a:cubicBezTo>
                <a:cubicBezTo>
                  <a:pt x="11098" y="18300"/>
                  <a:pt x="11110" y="18446"/>
                  <a:pt x="11063" y="18529"/>
                </a:cubicBezTo>
                <a:cubicBezTo>
                  <a:pt x="11055" y="18537"/>
                  <a:pt x="11046" y="18546"/>
                  <a:pt x="11038" y="18554"/>
                </a:cubicBezTo>
                <a:cubicBezTo>
                  <a:pt x="10988" y="18525"/>
                  <a:pt x="10971" y="18516"/>
                  <a:pt x="10939" y="18455"/>
                </a:cubicBezTo>
                <a:cubicBezTo>
                  <a:pt x="10901" y="18383"/>
                  <a:pt x="10859" y="18292"/>
                  <a:pt x="10889" y="18207"/>
                </a:cubicBezTo>
                <a:cubicBezTo>
                  <a:pt x="10912" y="18140"/>
                  <a:pt x="10992" y="18036"/>
                  <a:pt x="11038" y="17983"/>
                </a:cubicBezTo>
                <a:cubicBezTo>
                  <a:pt x="11127" y="17880"/>
                  <a:pt x="11232" y="17795"/>
                  <a:pt x="11336" y="17711"/>
                </a:cubicBezTo>
                <a:cubicBezTo>
                  <a:pt x="11402" y="17658"/>
                  <a:pt x="11425" y="17616"/>
                  <a:pt x="11435" y="17537"/>
                </a:cubicBezTo>
              </a:path>
              <a:path w="21804" h="1911">
                <a:moveTo>
                  <a:pt x="11633" y="17438"/>
                </a:moveTo>
                <a:cubicBezTo>
                  <a:pt x="11679" y="17474"/>
                  <a:pt x="11741" y="17508"/>
                  <a:pt x="11782" y="17537"/>
                </a:cubicBezTo>
                <a:cubicBezTo>
                  <a:pt x="11826" y="17568"/>
                  <a:pt x="11879" y="17567"/>
                  <a:pt x="11931" y="17587"/>
                </a:cubicBezTo>
                <a:cubicBezTo>
                  <a:pt x="11975" y="17604"/>
                  <a:pt x="12065" y="17665"/>
                  <a:pt x="12080" y="17711"/>
                </a:cubicBezTo>
                <a:cubicBezTo>
                  <a:pt x="12106" y="17789"/>
                  <a:pt x="12054" y="17799"/>
                  <a:pt x="12005" y="17835"/>
                </a:cubicBezTo>
                <a:cubicBezTo>
                  <a:pt x="11954" y="17873"/>
                  <a:pt x="11894" y="17899"/>
                  <a:pt x="11832" y="17909"/>
                </a:cubicBezTo>
                <a:cubicBezTo>
                  <a:pt x="11785" y="17917"/>
                  <a:pt x="11774" y="17924"/>
                  <a:pt x="11733" y="17934"/>
                </a:cubicBezTo>
                <a:cubicBezTo>
                  <a:pt x="11733" y="17986"/>
                  <a:pt x="11745" y="17995"/>
                  <a:pt x="11782" y="18033"/>
                </a:cubicBezTo>
                <a:cubicBezTo>
                  <a:pt x="11849" y="18100"/>
                  <a:pt x="11934" y="18117"/>
                  <a:pt x="11981" y="18207"/>
                </a:cubicBezTo>
                <a:cubicBezTo>
                  <a:pt x="12010" y="18262"/>
                  <a:pt x="12033" y="18403"/>
                  <a:pt x="11981" y="18455"/>
                </a:cubicBezTo>
                <a:cubicBezTo>
                  <a:pt x="11946" y="18490"/>
                  <a:pt x="11858" y="18540"/>
                  <a:pt x="11807" y="18529"/>
                </a:cubicBezTo>
                <a:cubicBezTo>
                  <a:pt x="11755" y="18517"/>
                  <a:pt x="11664" y="18471"/>
                  <a:pt x="11633" y="18430"/>
                </a:cubicBezTo>
                <a:cubicBezTo>
                  <a:pt x="11598" y="18383"/>
                  <a:pt x="11591" y="18335"/>
                  <a:pt x="11584" y="18281"/>
                </a:cubicBezTo>
              </a:path>
              <a:path w="21804" h="1911">
                <a:moveTo>
                  <a:pt x="12278" y="17959"/>
                </a:moveTo>
                <a:cubicBezTo>
                  <a:pt x="12425" y="18181"/>
                  <a:pt x="12569" y="18398"/>
                  <a:pt x="12700" y="18628"/>
                </a:cubicBezTo>
                <a:cubicBezTo>
                  <a:pt x="12708" y="18645"/>
                  <a:pt x="12717" y="18661"/>
                  <a:pt x="12725" y="18678"/>
                </a:cubicBezTo>
              </a:path>
              <a:path w="21804" h="1911">
                <a:moveTo>
                  <a:pt x="12750" y="17959"/>
                </a:moveTo>
                <a:cubicBezTo>
                  <a:pt x="12607" y="18070"/>
                  <a:pt x="12535" y="18146"/>
                  <a:pt x="12427" y="18281"/>
                </a:cubicBezTo>
                <a:cubicBezTo>
                  <a:pt x="12354" y="18372"/>
                  <a:pt x="12290" y="18457"/>
                  <a:pt x="12229" y="18554"/>
                </a:cubicBezTo>
                <a:cubicBezTo>
                  <a:pt x="12208" y="18587"/>
                  <a:pt x="12177" y="18669"/>
                  <a:pt x="12154" y="18604"/>
                </a:cubicBezTo>
              </a:path>
              <a:path w="21804" h="1911">
                <a:moveTo>
                  <a:pt x="12874" y="17413"/>
                </a:moveTo>
                <a:cubicBezTo>
                  <a:pt x="13044" y="17423"/>
                  <a:pt x="13059" y="17439"/>
                  <a:pt x="13171" y="17562"/>
                </a:cubicBezTo>
                <a:cubicBezTo>
                  <a:pt x="13215" y="17611"/>
                  <a:pt x="13234" y="17624"/>
                  <a:pt x="13246" y="17686"/>
                </a:cubicBezTo>
                <a:cubicBezTo>
                  <a:pt x="13188" y="17729"/>
                  <a:pt x="13190" y="17703"/>
                  <a:pt x="13122" y="17686"/>
                </a:cubicBezTo>
                <a:cubicBezTo>
                  <a:pt x="13097" y="17686"/>
                  <a:pt x="13089" y="17686"/>
                  <a:pt x="13072" y="17686"/>
                </a:cubicBezTo>
                <a:cubicBezTo>
                  <a:pt x="13072" y="17766"/>
                  <a:pt x="13081" y="17857"/>
                  <a:pt x="13097" y="17934"/>
                </a:cubicBezTo>
                <a:cubicBezTo>
                  <a:pt x="13113" y="18009"/>
                  <a:pt x="13123" y="18167"/>
                  <a:pt x="12998" y="18182"/>
                </a:cubicBezTo>
                <a:cubicBezTo>
                  <a:pt x="12897" y="18194"/>
                  <a:pt x="12739" y="18125"/>
                  <a:pt x="12650" y="18083"/>
                </a:cubicBezTo>
                <a:cubicBezTo>
                  <a:pt x="12617" y="18066"/>
                  <a:pt x="12584" y="18050"/>
                  <a:pt x="12551" y="18033"/>
                </a:cubicBezTo>
              </a:path>
              <a:path w="21804" h="1911">
                <a:moveTo>
                  <a:pt x="13643" y="17959"/>
                </a:moveTo>
                <a:cubicBezTo>
                  <a:pt x="13740" y="17947"/>
                  <a:pt x="13791" y="17948"/>
                  <a:pt x="13891" y="17959"/>
                </a:cubicBezTo>
                <a:cubicBezTo>
                  <a:pt x="13973" y="17968"/>
                  <a:pt x="14080" y="18004"/>
                  <a:pt x="14163" y="17983"/>
                </a:cubicBezTo>
                <a:cubicBezTo>
                  <a:pt x="14180" y="17975"/>
                  <a:pt x="14196" y="17967"/>
                  <a:pt x="14213" y="17959"/>
                </a:cubicBezTo>
              </a:path>
              <a:path w="21804" h="1911">
                <a:moveTo>
                  <a:pt x="14536" y="17438"/>
                </a:moveTo>
                <a:cubicBezTo>
                  <a:pt x="14536" y="17478"/>
                  <a:pt x="14530" y="17518"/>
                  <a:pt x="14486" y="17537"/>
                </a:cubicBezTo>
                <a:cubicBezTo>
                  <a:pt x="14448" y="17554"/>
                  <a:pt x="14417" y="17560"/>
                  <a:pt x="14412" y="17611"/>
                </a:cubicBezTo>
                <a:cubicBezTo>
                  <a:pt x="14407" y="17659"/>
                  <a:pt x="14415" y="17673"/>
                  <a:pt x="14436" y="17711"/>
                </a:cubicBezTo>
                <a:cubicBezTo>
                  <a:pt x="14473" y="17775"/>
                  <a:pt x="14509" y="17830"/>
                  <a:pt x="14560" y="17884"/>
                </a:cubicBezTo>
                <a:cubicBezTo>
                  <a:pt x="14643" y="17972"/>
                  <a:pt x="14698" y="17968"/>
                  <a:pt x="14808" y="17934"/>
                </a:cubicBezTo>
              </a:path>
              <a:path w="21804" h="1911">
                <a:moveTo>
                  <a:pt x="15007" y="17363"/>
                </a:moveTo>
                <a:cubicBezTo>
                  <a:pt x="14939" y="17552"/>
                  <a:pt x="14918" y="17692"/>
                  <a:pt x="14883" y="17884"/>
                </a:cubicBezTo>
                <a:cubicBezTo>
                  <a:pt x="14857" y="18024"/>
                  <a:pt x="14860" y="18169"/>
                  <a:pt x="14833" y="18306"/>
                </a:cubicBezTo>
                <a:cubicBezTo>
                  <a:pt x="14820" y="18374"/>
                  <a:pt x="14784" y="18573"/>
                  <a:pt x="14784" y="18504"/>
                </a:cubicBezTo>
                <a:cubicBezTo>
                  <a:pt x="14784" y="18496"/>
                  <a:pt x="14784" y="18487"/>
                  <a:pt x="14784" y="18479"/>
                </a:cubicBezTo>
              </a:path>
              <a:path w="21804" h="1911">
                <a:moveTo>
                  <a:pt x="15329" y="17611"/>
                </a:moveTo>
                <a:cubicBezTo>
                  <a:pt x="15433" y="17581"/>
                  <a:pt x="15530" y="17539"/>
                  <a:pt x="15602" y="17661"/>
                </a:cubicBezTo>
                <a:cubicBezTo>
                  <a:pt x="15669" y="17775"/>
                  <a:pt x="15658" y="17913"/>
                  <a:pt x="15627" y="18033"/>
                </a:cubicBezTo>
                <a:cubicBezTo>
                  <a:pt x="15595" y="18155"/>
                  <a:pt x="15508" y="18242"/>
                  <a:pt x="15404" y="18306"/>
                </a:cubicBezTo>
                <a:cubicBezTo>
                  <a:pt x="15373" y="18325"/>
                  <a:pt x="15266" y="18395"/>
                  <a:pt x="15230" y="18380"/>
                </a:cubicBezTo>
                <a:cubicBezTo>
                  <a:pt x="15222" y="18372"/>
                  <a:pt x="15213" y="18363"/>
                  <a:pt x="15205" y="18355"/>
                </a:cubicBezTo>
                <a:cubicBezTo>
                  <a:pt x="15190" y="18326"/>
                  <a:pt x="15189" y="18248"/>
                  <a:pt x="15230" y="18207"/>
                </a:cubicBezTo>
                <a:cubicBezTo>
                  <a:pt x="15322" y="18114"/>
                  <a:pt x="15366" y="18160"/>
                  <a:pt x="15429" y="18231"/>
                </a:cubicBezTo>
                <a:cubicBezTo>
                  <a:pt x="15492" y="18303"/>
                  <a:pt x="15538" y="18391"/>
                  <a:pt x="15577" y="18479"/>
                </a:cubicBezTo>
                <a:cubicBezTo>
                  <a:pt x="15617" y="18569"/>
                  <a:pt x="15608" y="18606"/>
                  <a:pt x="15701" y="18579"/>
                </a:cubicBezTo>
              </a:path>
              <a:path w="21804" h="1911">
                <a:moveTo>
                  <a:pt x="15974" y="18033"/>
                </a:moveTo>
                <a:cubicBezTo>
                  <a:pt x="16078" y="18180"/>
                  <a:pt x="16151" y="18294"/>
                  <a:pt x="16222" y="18455"/>
                </a:cubicBezTo>
                <a:cubicBezTo>
                  <a:pt x="16246" y="18509"/>
                  <a:pt x="16271" y="18534"/>
                  <a:pt x="16321" y="18554"/>
                </a:cubicBezTo>
              </a:path>
              <a:path w="21804" h="1911">
                <a:moveTo>
                  <a:pt x="16321" y="17983"/>
                </a:moveTo>
                <a:cubicBezTo>
                  <a:pt x="16204" y="18146"/>
                  <a:pt x="16091" y="18300"/>
                  <a:pt x="15999" y="18479"/>
                </a:cubicBezTo>
                <a:cubicBezTo>
                  <a:pt x="15967" y="18541"/>
                  <a:pt x="15934" y="18682"/>
                  <a:pt x="15875" y="18728"/>
                </a:cubicBezTo>
                <a:cubicBezTo>
                  <a:pt x="15867" y="18728"/>
                  <a:pt x="15858" y="18728"/>
                  <a:pt x="15850" y="18728"/>
                </a:cubicBezTo>
              </a:path>
              <a:path w="21804" h="1911">
                <a:moveTo>
                  <a:pt x="16446" y="17537"/>
                </a:moveTo>
                <a:cubicBezTo>
                  <a:pt x="16544" y="17502"/>
                  <a:pt x="16648" y="17453"/>
                  <a:pt x="16743" y="17537"/>
                </a:cubicBezTo>
                <a:cubicBezTo>
                  <a:pt x="16813" y="17599"/>
                  <a:pt x="16837" y="17673"/>
                  <a:pt x="16793" y="17760"/>
                </a:cubicBezTo>
                <a:cubicBezTo>
                  <a:pt x="16771" y="17803"/>
                  <a:pt x="16653" y="17855"/>
                  <a:pt x="16669" y="17909"/>
                </a:cubicBezTo>
                <a:cubicBezTo>
                  <a:pt x="16700" y="18017"/>
                  <a:pt x="16840" y="18153"/>
                  <a:pt x="16917" y="18207"/>
                </a:cubicBezTo>
                <a:cubicBezTo>
                  <a:pt x="16975" y="18248"/>
                  <a:pt x="17049" y="18272"/>
                  <a:pt x="17090" y="18207"/>
                </a:cubicBezTo>
                <a:cubicBezTo>
                  <a:pt x="17098" y="18190"/>
                  <a:pt x="17107" y="18174"/>
                  <a:pt x="17115" y="18157"/>
                </a:cubicBezTo>
              </a:path>
              <a:path w="21804" h="1911">
                <a:moveTo>
                  <a:pt x="17512" y="18058"/>
                </a:moveTo>
                <a:cubicBezTo>
                  <a:pt x="17636" y="18037"/>
                  <a:pt x="17660" y="18029"/>
                  <a:pt x="17735" y="18033"/>
                </a:cubicBezTo>
              </a:path>
              <a:path w="21804" h="1911">
                <a:moveTo>
                  <a:pt x="18231" y="17884"/>
                </a:moveTo>
                <a:cubicBezTo>
                  <a:pt x="18185" y="17932"/>
                  <a:pt x="18148" y="17983"/>
                  <a:pt x="18107" y="18033"/>
                </a:cubicBezTo>
                <a:cubicBezTo>
                  <a:pt x="18046" y="18107"/>
                  <a:pt x="17998" y="18207"/>
                  <a:pt x="17983" y="18306"/>
                </a:cubicBezTo>
                <a:cubicBezTo>
                  <a:pt x="17969" y="18398"/>
                  <a:pt x="17982" y="18500"/>
                  <a:pt x="18033" y="18579"/>
                </a:cubicBezTo>
                <a:cubicBezTo>
                  <a:pt x="18075" y="18644"/>
                  <a:pt x="18128" y="18642"/>
                  <a:pt x="18182" y="18628"/>
                </a:cubicBezTo>
                <a:cubicBezTo>
                  <a:pt x="18271" y="18605"/>
                  <a:pt x="18326" y="18584"/>
                  <a:pt x="18380" y="18504"/>
                </a:cubicBezTo>
                <a:cubicBezTo>
                  <a:pt x="18397" y="18479"/>
                  <a:pt x="18450" y="18416"/>
                  <a:pt x="18430" y="18380"/>
                </a:cubicBezTo>
                <a:cubicBezTo>
                  <a:pt x="18422" y="18372"/>
                  <a:pt x="18413" y="18363"/>
                  <a:pt x="18405" y="18355"/>
                </a:cubicBezTo>
                <a:cubicBezTo>
                  <a:pt x="18393" y="18404"/>
                  <a:pt x="18352" y="18428"/>
                  <a:pt x="18331" y="18479"/>
                </a:cubicBezTo>
                <a:cubicBezTo>
                  <a:pt x="18314" y="18522"/>
                  <a:pt x="18271" y="18666"/>
                  <a:pt x="18331" y="18703"/>
                </a:cubicBezTo>
                <a:cubicBezTo>
                  <a:pt x="18347" y="18703"/>
                  <a:pt x="18364" y="18703"/>
                  <a:pt x="18380" y="18703"/>
                </a:cubicBezTo>
              </a:path>
              <a:path w="21804" h="1911">
                <a:moveTo>
                  <a:pt x="18876" y="17983"/>
                </a:moveTo>
                <a:cubicBezTo>
                  <a:pt x="18840" y="18002"/>
                  <a:pt x="18772" y="18086"/>
                  <a:pt x="18752" y="18132"/>
                </a:cubicBezTo>
                <a:cubicBezTo>
                  <a:pt x="18707" y="18239"/>
                  <a:pt x="18679" y="18386"/>
                  <a:pt x="18703" y="18504"/>
                </a:cubicBezTo>
                <a:cubicBezTo>
                  <a:pt x="18710" y="18541"/>
                  <a:pt x="18753" y="18639"/>
                  <a:pt x="18802" y="18653"/>
                </a:cubicBezTo>
                <a:cubicBezTo>
                  <a:pt x="18881" y="18675"/>
                  <a:pt x="18959" y="18582"/>
                  <a:pt x="19000" y="18529"/>
                </a:cubicBezTo>
                <a:cubicBezTo>
                  <a:pt x="19080" y="18427"/>
                  <a:pt x="19134" y="18311"/>
                  <a:pt x="19149" y="18182"/>
                </a:cubicBezTo>
                <a:cubicBezTo>
                  <a:pt x="19160" y="18086"/>
                  <a:pt x="19135" y="17940"/>
                  <a:pt x="19075" y="17859"/>
                </a:cubicBezTo>
                <a:cubicBezTo>
                  <a:pt x="19034" y="17804"/>
                  <a:pt x="18997" y="17762"/>
                  <a:pt x="18951" y="17785"/>
                </a:cubicBezTo>
              </a:path>
              <a:path w="21804" h="1911">
                <a:moveTo>
                  <a:pt x="19348" y="18058"/>
                </a:moveTo>
                <a:cubicBezTo>
                  <a:pt x="19402" y="18199"/>
                  <a:pt x="19458" y="18445"/>
                  <a:pt x="19546" y="18579"/>
                </a:cubicBezTo>
                <a:cubicBezTo>
                  <a:pt x="19563" y="18595"/>
                  <a:pt x="19579" y="18612"/>
                  <a:pt x="19596" y="18628"/>
                </a:cubicBezTo>
              </a:path>
              <a:path w="21804" h="1911">
                <a:moveTo>
                  <a:pt x="19869" y="18058"/>
                </a:moveTo>
                <a:cubicBezTo>
                  <a:pt x="19634" y="18144"/>
                  <a:pt x="19555" y="18198"/>
                  <a:pt x="19372" y="18355"/>
                </a:cubicBezTo>
                <a:cubicBezTo>
                  <a:pt x="19269" y="18443"/>
                  <a:pt x="19158" y="18522"/>
                  <a:pt x="19050" y="18604"/>
                </a:cubicBezTo>
              </a:path>
              <a:path w="21804" h="1911">
                <a:moveTo>
                  <a:pt x="20315" y="18107"/>
                </a:moveTo>
                <a:cubicBezTo>
                  <a:pt x="20461" y="18107"/>
                  <a:pt x="20648" y="18133"/>
                  <a:pt x="20786" y="18083"/>
                </a:cubicBezTo>
              </a:path>
              <a:path w="21804" h="1911">
                <a:moveTo>
                  <a:pt x="20712" y="17611"/>
                </a:moveTo>
                <a:cubicBezTo>
                  <a:pt x="20668" y="17741"/>
                  <a:pt x="20642" y="17846"/>
                  <a:pt x="20638" y="17983"/>
                </a:cubicBezTo>
                <a:cubicBezTo>
                  <a:pt x="20633" y="18132"/>
                  <a:pt x="20638" y="18281"/>
                  <a:pt x="20638" y="18430"/>
                </a:cubicBezTo>
              </a:path>
              <a:path w="21804" h="1911">
                <a:moveTo>
                  <a:pt x="21134" y="17562"/>
                </a:moveTo>
                <a:cubicBezTo>
                  <a:pt x="21257" y="17584"/>
                  <a:pt x="21318" y="17577"/>
                  <a:pt x="21406" y="17661"/>
                </a:cubicBezTo>
                <a:cubicBezTo>
                  <a:pt x="21474" y="17725"/>
                  <a:pt x="21525" y="17764"/>
                  <a:pt x="21530" y="17859"/>
                </a:cubicBezTo>
                <a:cubicBezTo>
                  <a:pt x="21533" y="17922"/>
                  <a:pt x="21394" y="18000"/>
                  <a:pt x="21332" y="18033"/>
                </a:cubicBezTo>
                <a:cubicBezTo>
                  <a:pt x="21257" y="18073"/>
                  <a:pt x="21195" y="18098"/>
                  <a:pt x="21158" y="18182"/>
                </a:cubicBezTo>
                <a:cubicBezTo>
                  <a:pt x="21121" y="18264"/>
                  <a:pt x="21124" y="18350"/>
                  <a:pt x="21158" y="18430"/>
                </a:cubicBezTo>
                <a:cubicBezTo>
                  <a:pt x="21188" y="18502"/>
                  <a:pt x="21202" y="18550"/>
                  <a:pt x="21282" y="18554"/>
                </a:cubicBezTo>
                <a:cubicBezTo>
                  <a:pt x="21358" y="18554"/>
                  <a:pt x="21384" y="18554"/>
                  <a:pt x="21431" y="18529"/>
                </a:cubicBezTo>
              </a:path>
              <a:path w="21804" h="1911">
                <a:moveTo>
                  <a:pt x="21853" y="17983"/>
                </a:moveTo>
                <a:cubicBezTo>
                  <a:pt x="21861" y="17958"/>
                  <a:pt x="21870" y="17934"/>
                  <a:pt x="21878" y="17909"/>
                </a:cubicBezTo>
                <a:cubicBezTo>
                  <a:pt x="21818" y="17909"/>
                  <a:pt x="21763" y="17925"/>
                  <a:pt x="21729" y="17983"/>
                </a:cubicBezTo>
                <a:cubicBezTo>
                  <a:pt x="21670" y="18082"/>
                  <a:pt x="21654" y="18200"/>
                  <a:pt x="21679" y="18306"/>
                </a:cubicBezTo>
                <a:cubicBezTo>
                  <a:pt x="21698" y="18385"/>
                  <a:pt x="21732" y="18554"/>
                  <a:pt x="21803" y="18604"/>
                </a:cubicBezTo>
                <a:cubicBezTo>
                  <a:pt x="21888" y="18663"/>
                  <a:pt x="22011" y="18622"/>
                  <a:pt x="22076" y="18554"/>
                </a:cubicBezTo>
                <a:cubicBezTo>
                  <a:pt x="22160" y="18465"/>
                  <a:pt x="22213" y="18327"/>
                  <a:pt x="22225" y="18207"/>
                </a:cubicBezTo>
                <a:cubicBezTo>
                  <a:pt x="22237" y="18081"/>
                  <a:pt x="22226" y="17932"/>
                  <a:pt x="22200" y="17810"/>
                </a:cubicBezTo>
                <a:cubicBezTo>
                  <a:pt x="22181" y="17722"/>
                  <a:pt x="22156" y="17744"/>
                  <a:pt x="22200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0" y="5803920"/>
            <a:ext cx="8045280" cy="563400"/>
          </a:xfrm>
          <a:custGeom>
            <a:avLst/>
            <a:gdLst/>
            <a:ahLst/>
            <a:rect l="l" t="t" r="r" b="b"/>
            <a:pathLst>
              <a:path w="22350" h="1564">
                <a:moveTo>
                  <a:pt x="22399" y="17686"/>
                </a:moveTo>
                <a:cubicBezTo>
                  <a:pt x="22284" y="17606"/>
                  <a:pt x="22265" y="17492"/>
                  <a:pt x="22027" y="17413"/>
                </a:cubicBezTo>
                <a:cubicBezTo>
                  <a:pt x="21637" y="17283"/>
                  <a:pt x="21243" y="17259"/>
                  <a:pt x="20836" y="17264"/>
                </a:cubicBezTo>
                <a:cubicBezTo>
                  <a:pt x="20478" y="17268"/>
                  <a:pt x="20125" y="17294"/>
                  <a:pt x="19769" y="17314"/>
                </a:cubicBezTo>
                <a:cubicBezTo>
                  <a:pt x="19612" y="17323"/>
                  <a:pt x="19455" y="17334"/>
                  <a:pt x="19298" y="17338"/>
                </a:cubicBezTo>
                <a:cubicBezTo>
                  <a:pt x="18843" y="17349"/>
                  <a:pt x="18388" y="17331"/>
                  <a:pt x="17934" y="17314"/>
                </a:cubicBezTo>
                <a:cubicBezTo>
                  <a:pt x="17553" y="17300"/>
                  <a:pt x="17172" y="17257"/>
                  <a:pt x="16793" y="17214"/>
                </a:cubicBezTo>
                <a:cubicBezTo>
                  <a:pt x="16619" y="17194"/>
                  <a:pt x="16444" y="17168"/>
                  <a:pt x="16272" y="17140"/>
                </a:cubicBezTo>
                <a:cubicBezTo>
                  <a:pt x="15904" y="17080"/>
                  <a:pt x="15548" y="16982"/>
                  <a:pt x="15180" y="16917"/>
                </a:cubicBezTo>
                <a:cubicBezTo>
                  <a:pt x="14985" y="16882"/>
                  <a:pt x="14785" y="16853"/>
                  <a:pt x="14585" y="16818"/>
                </a:cubicBezTo>
                <a:cubicBezTo>
                  <a:pt x="13619" y="16649"/>
                  <a:pt x="12662" y="16541"/>
                  <a:pt x="11683" y="16619"/>
                </a:cubicBezTo>
                <a:cubicBezTo>
                  <a:pt x="11491" y="16634"/>
                  <a:pt x="11302" y="16671"/>
                  <a:pt x="11112" y="16694"/>
                </a:cubicBezTo>
                <a:cubicBezTo>
                  <a:pt x="10972" y="16711"/>
                  <a:pt x="10831" y="16725"/>
                  <a:pt x="10691" y="16743"/>
                </a:cubicBezTo>
                <a:cubicBezTo>
                  <a:pt x="10560" y="16760"/>
                  <a:pt x="10424" y="16772"/>
                  <a:pt x="10294" y="16793"/>
                </a:cubicBezTo>
                <a:cubicBezTo>
                  <a:pt x="10168" y="16814"/>
                  <a:pt x="10047" y="16848"/>
                  <a:pt x="9922" y="16867"/>
                </a:cubicBezTo>
                <a:cubicBezTo>
                  <a:pt x="9802" y="16886"/>
                  <a:pt x="9671" y="16906"/>
                  <a:pt x="9550" y="16917"/>
                </a:cubicBezTo>
                <a:cubicBezTo>
                  <a:pt x="9400" y="16931"/>
                  <a:pt x="9256" y="16936"/>
                  <a:pt x="9103" y="16942"/>
                </a:cubicBezTo>
                <a:cubicBezTo>
                  <a:pt x="8629" y="16959"/>
                  <a:pt x="8179" y="16889"/>
                  <a:pt x="7714" y="16867"/>
                </a:cubicBezTo>
                <a:cubicBezTo>
                  <a:pt x="7310" y="16847"/>
                  <a:pt x="6905" y="16831"/>
                  <a:pt x="6499" y="16842"/>
                </a:cubicBezTo>
                <a:cubicBezTo>
                  <a:pt x="6011" y="16855"/>
                  <a:pt x="5528" y="16868"/>
                  <a:pt x="5035" y="16842"/>
                </a:cubicBezTo>
                <a:cubicBezTo>
                  <a:pt x="4784" y="16829"/>
                  <a:pt x="4541" y="16789"/>
                  <a:pt x="4291" y="16743"/>
                </a:cubicBezTo>
                <a:cubicBezTo>
                  <a:pt x="3753" y="16644"/>
                  <a:pt x="3230" y="16505"/>
                  <a:pt x="2704" y="16371"/>
                </a:cubicBezTo>
                <a:cubicBezTo>
                  <a:pt x="2530" y="16327"/>
                  <a:pt x="2360" y="16286"/>
                  <a:pt x="2183" y="16247"/>
                </a:cubicBezTo>
                <a:cubicBezTo>
                  <a:pt x="1852" y="16173"/>
                  <a:pt x="1458" y="16057"/>
                  <a:pt x="1116" y="16123"/>
                </a:cubicBezTo>
                <a:cubicBezTo>
                  <a:pt x="955" y="16154"/>
                  <a:pt x="807" y="16221"/>
                  <a:pt x="670" y="16297"/>
                </a:cubicBezTo>
                <a:cubicBezTo>
                  <a:pt x="269" y="16520"/>
                  <a:pt x="208" y="16899"/>
                  <a:pt x="74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ndamental Counting Princi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otal number of ways that two (or more) events can occur is found by the product of the number of choices for each ev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" y="1803240"/>
            <a:ext cx="268200" cy="563760"/>
          </a:xfrm>
          <a:custGeom>
            <a:avLst/>
            <a:gdLst/>
            <a:ahLst/>
            <a:rect l="l" t="t" r="r" b="b"/>
            <a:pathLst>
              <a:path w="746" h="1563">
                <a:moveTo>
                  <a:pt x="1439" y="5283"/>
                </a:moveTo>
                <a:cubicBezTo>
                  <a:pt x="1439" y="5358"/>
                  <a:pt x="1437" y="5409"/>
                  <a:pt x="1414" y="5482"/>
                </a:cubicBezTo>
                <a:cubicBezTo>
                  <a:pt x="1393" y="5550"/>
                  <a:pt x="1357" y="5620"/>
                  <a:pt x="1339" y="5680"/>
                </a:cubicBezTo>
                <a:cubicBezTo>
                  <a:pt x="1339" y="5705"/>
                  <a:pt x="1339" y="5713"/>
                  <a:pt x="1339" y="5730"/>
                </a:cubicBezTo>
                <a:cubicBezTo>
                  <a:pt x="1406" y="5730"/>
                  <a:pt x="1477" y="5725"/>
                  <a:pt x="1538" y="5705"/>
                </a:cubicBezTo>
                <a:cubicBezTo>
                  <a:pt x="1617" y="5679"/>
                  <a:pt x="1701" y="5669"/>
                  <a:pt x="1786" y="5655"/>
                </a:cubicBezTo>
                <a:cubicBezTo>
                  <a:pt x="1794" y="5655"/>
                  <a:pt x="1803" y="5655"/>
                  <a:pt x="1811" y="5655"/>
                </a:cubicBezTo>
              </a:path>
              <a:path w="746" h="1563">
                <a:moveTo>
                  <a:pt x="1761" y="5011"/>
                </a:moveTo>
                <a:cubicBezTo>
                  <a:pt x="1761" y="5171"/>
                  <a:pt x="1747" y="5325"/>
                  <a:pt x="1736" y="5482"/>
                </a:cubicBezTo>
                <a:cubicBezTo>
                  <a:pt x="1719" y="5716"/>
                  <a:pt x="1709" y="6002"/>
                  <a:pt x="1761" y="6226"/>
                </a:cubicBezTo>
                <a:cubicBezTo>
                  <a:pt x="1768" y="6256"/>
                  <a:pt x="1756" y="6360"/>
                  <a:pt x="1786" y="6300"/>
                </a:cubicBezTo>
              </a:path>
              <a:path w="746" h="1563">
                <a:moveTo>
                  <a:pt x="1339" y="6573"/>
                </a:moveTo>
                <a:cubicBezTo>
                  <a:pt x="1458" y="6543"/>
                  <a:pt x="1589" y="6529"/>
                  <a:pt x="1712" y="6524"/>
                </a:cubicBezTo>
                <a:cubicBezTo>
                  <a:pt x="1807" y="6520"/>
                  <a:pt x="1895" y="6512"/>
                  <a:pt x="1984" y="6499"/>
                </a:cubicBezTo>
                <a:cubicBezTo>
                  <a:pt x="2025" y="6493"/>
                  <a:pt x="2065" y="6561"/>
                  <a:pt x="2084" y="6524"/>
                </a:cubicBezTo>
                <a:cubicBezTo>
                  <a:pt x="2084" y="6516"/>
                  <a:pt x="2084" y="6507"/>
                  <a:pt x="2084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7080" y="1758960"/>
            <a:ext cx="608040" cy="509400"/>
          </a:xfrm>
          <a:custGeom>
            <a:avLst/>
            <a:gdLst/>
            <a:ahLst/>
            <a:rect l="l" t="t" r="r" b="b"/>
            <a:pathLst>
              <a:path w="1687" h="1414">
                <a:moveTo>
                  <a:pt x="2853" y="5854"/>
                </a:moveTo>
                <a:lnTo>
                  <a:pt x="2853" y="5854"/>
                </a:lnTo>
              </a:path>
              <a:path w="1687" h="1414">
                <a:moveTo>
                  <a:pt x="3249" y="5085"/>
                </a:moveTo>
                <a:cubicBezTo>
                  <a:pt x="3336" y="5007"/>
                  <a:pt x="3394" y="4985"/>
                  <a:pt x="3497" y="4936"/>
                </a:cubicBezTo>
                <a:cubicBezTo>
                  <a:pt x="3563" y="4904"/>
                  <a:pt x="3645" y="4866"/>
                  <a:pt x="3721" y="4887"/>
                </a:cubicBezTo>
                <a:cubicBezTo>
                  <a:pt x="3778" y="4902"/>
                  <a:pt x="3845" y="4945"/>
                  <a:pt x="3845" y="5011"/>
                </a:cubicBezTo>
                <a:cubicBezTo>
                  <a:pt x="3845" y="5137"/>
                  <a:pt x="3689" y="5224"/>
                  <a:pt x="3621" y="5308"/>
                </a:cubicBezTo>
                <a:cubicBezTo>
                  <a:pt x="3572" y="5369"/>
                  <a:pt x="3528" y="5426"/>
                  <a:pt x="3473" y="5482"/>
                </a:cubicBezTo>
                <a:cubicBezTo>
                  <a:pt x="3448" y="5482"/>
                  <a:pt x="3440" y="5482"/>
                  <a:pt x="3448" y="5507"/>
                </a:cubicBezTo>
                <a:cubicBezTo>
                  <a:pt x="3477" y="5490"/>
                  <a:pt x="3535" y="5439"/>
                  <a:pt x="3572" y="5432"/>
                </a:cubicBezTo>
                <a:cubicBezTo>
                  <a:pt x="3665" y="5415"/>
                  <a:pt x="3726" y="5438"/>
                  <a:pt x="3795" y="5507"/>
                </a:cubicBezTo>
                <a:cubicBezTo>
                  <a:pt x="3867" y="5579"/>
                  <a:pt x="3885" y="5708"/>
                  <a:pt x="3894" y="5804"/>
                </a:cubicBezTo>
                <a:cubicBezTo>
                  <a:pt x="3901" y="5881"/>
                  <a:pt x="3883" y="6011"/>
                  <a:pt x="3845" y="6077"/>
                </a:cubicBezTo>
                <a:cubicBezTo>
                  <a:pt x="3811" y="6136"/>
                  <a:pt x="3780" y="6191"/>
                  <a:pt x="3721" y="6226"/>
                </a:cubicBezTo>
                <a:cubicBezTo>
                  <a:pt x="3657" y="6263"/>
                  <a:pt x="3567" y="6289"/>
                  <a:pt x="3497" y="6300"/>
                </a:cubicBezTo>
                <a:cubicBezTo>
                  <a:pt x="3473" y="6304"/>
                  <a:pt x="3384" y="6297"/>
                  <a:pt x="3373" y="6276"/>
                </a:cubicBezTo>
                <a:cubicBezTo>
                  <a:pt x="3381" y="6268"/>
                  <a:pt x="3390" y="6259"/>
                  <a:pt x="3398" y="6251"/>
                </a:cubicBezTo>
              </a:path>
              <a:path w="1687" h="1414">
                <a:moveTo>
                  <a:pt x="4514" y="5779"/>
                </a:moveTo>
                <a:cubicBezTo>
                  <a:pt x="4522" y="5779"/>
                  <a:pt x="4531" y="5779"/>
                  <a:pt x="4539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1751040"/>
            <a:ext cx="258840" cy="534960"/>
          </a:xfrm>
          <a:custGeom>
            <a:avLst/>
            <a:gdLst/>
            <a:ahLst/>
            <a:rect l="l" t="t" r="r" b="b"/>
            <a:pathLst>
              <a:path w="721" h="1489">
                <a:moveTo>
                  <a:pt x="5358" y="4911"/>
                </a:moveTo>
                <a:cubicBezTo>
                  <a:pt x="5454" y="4859"/>
                  <a:pt x="5495" y="4862"/>
                  <a:pt x="5606" y="4862"/>
                </a:cubicBezTo>
                <a:cubicBezTo>
                  <a:pt x="5703" y="4862"/>
                  <a:pt x="5785" y="4894"/>
                  <a:pt x="5879" y="4911"/>
                </a:cubicBezTo>
                <a:cubicBezTo>
                  <a:pt x="5887" y="4911"/>
                  <a:pt x="5896" y="4911"/>
                  <a:pt x="5904" y="4911"/>
                </a:cubicBezTo>
              </a:path>
              <a:path w="721" h="1489">
                <a:moveTo>
                  <a:pt x="5234" y="4986"/>
                </a:moveTo>
                <a:cubicBezTo>
                  <a:pt x="5187" y="5124"/>
                  <a:pt x="5184" y="5212"/>
                  <a:pt x="5184" y="5358"/>
                </a:cubicBezTo>
                <a:cubicBezTo>
                  <a:pt x="5184" y="5430"/>
                  <a:pt x="5205" y="5522"/>
                  <a:pt x="5234" y="5581"/>
                </a:cubicBezTo>
                <a:cubicBezTo>
                  <a:pt x="5259" y="5606"/>
                  <a:pt x="5267" y="5614"/>
                  <a:pt x="5283" y="5631"/>
                </a:cubicBezTo>
                <a:cubicBezTo>
                  <a:pt x="5315" y="5591"/>
                  <a:pt x="5337" y="5536"/>
                  <a:pt x="5383" y="5507"/>
                </a:cubicBezTo>
                <a:cubicBezTo>
                  <a:pt x="5462" y="5456"/>
                  <a:pt x="5472" y="5450"/>
                  <a:pt x="5556" y="5457"/>
                </a:cubicBezTo>
                <a:cubicBezTo>
                  <a:pt x="5666" y="5467"/>
                  <a:pt x="5757" y="5520"/>
                  <a:pt x="5804" y="5631"/>
                </a:cubicBezTo>
                <a:cubicBezTo>
                  <a:pt x="5861" y="5768"/>
                  <a:pt x="5883" y="5935"/>
                  <a:pt x="5854" y="6077"/>
                </a:cubicBezTo>
                <a:cubicBezTo>
                  <a:pt x="5832" y="6182"/>
                  <a:pt x="5792" y="6242"/>
                  <a:pt x="5705" y="6300"/>
                </a:cubicBezTo>
                <a:cubicBezTo>
                  <a:pt x="5637" y="6345"/>
                  <a:pt x="5585" y="6350"/>
                  <a:pt x="5507" y="6350"/>
                </a:cubicBezTo>
                <a:cubicBezTo>
                  <a:pt x="5425" y="6350"/>
                  <a:pt x="5383" y="6292"/>
                  <a:pt x="5308" y="6276"/>
                </a:cubicBezTo>
                <a:cubicBezTo>
                  <a:pt x="5216" y="6256"/>
                  <a:pt x="5321" y="6280"/>
                  <a:pt x="5283" y="6251"/>
                </a:cubicBezTo>
                <a:cubicBezTo>
                  <a:pt x="5275" y="6251"/>
                  <a:pt x="5267" y="6251"/>
                  <a:pt x="5259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How many pairs of letters are there in the English alphabe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1920" y="3286080"/>
            <a:ext cx="3768840" cy="115920"/>
          </a:xfrm>
          <a:custGeom>
            <a:avLst/>
            <a:gdLst/>
            <a:ahLst/>
            <a:rect l="l" t="t" r="r" b="b"/>
            <a:pathLst>
              <a:path w="10469" h="324">
                <a:moveTo>
                  <a:pt x="3423" y="9128"/>
                </a:moveTo>
                <a:cubicBezTo>
                  <a:pt x="3472" y="9144"/>
                  <a:pt x="3488" y="9150"/>
                  <a:pt x="3547" y="9153"/>
                </a:cubicBezTo>
                <a:cubicBezTo>
                  <a:pt x="3650" y="9159"/>
                  <a:pt x="3743" y="9175"/>
                  <a:pt x="3845" y="9178"/>
                </a:cubicBezTo>
                <a:cubicBezTo>
                  <a:pt x="4020" y="9183"/>
                  <a:pt x="4191" y="9200"/>
                  <a:pt x="4366" y="9203"/>
                </a:cubicBezTo>
                <a:cubicBezTo>
                  <a:pt x="4599" y="9207"/>
                  <a:pt x="4828" y="9223"/>
                  <a:pt x="5060" y="9227"/>
                </a:cubicBezTo>
                <a:cubicBezTo>
                  <a:pt x="5276" y="9230"/>
                  <a:pt x="5488" y="9252"/>
                  <a:pt x="5705" y="9252"/>
                </a:cubicBezTo>
                <a:cubicBezTo>
                  <a:pt x="5889" y="9252"/>
                  <a:pt x="6078" y="9264"/>
                  <a:pt x="6251" y="9252"/>
                </a:cubicBezTo>
                <a:cubicBezTo>
                  <a:pt x="6318" y="9247"/>
                  <a:pt x="6417" y="9275"/>
                  <a:pt x="6474" y="9227"/>
                </a:cubicBezTo>
                <a:cubicBezTo>
                  <a:pt x="6520" y="9187"/>
                  <a:pt x="6516" y="9174"/>
                  <a:pt x="6573" y="9153"/>
                </a:cubicBezTo>
              </a:path>
              <a:path w="10469" h="324">
                <a:moveTo>
                  <a:pt x="8260" y="9351"/>
                </a:moveTo>
                <a:cubicBezTo>
                  <a:pt x="8224" y="9333"/>
                  <a:pt x="8197" y="9320"/>
                  <a:pt x="8161" y="9302"/>
                </a:cubicBezTo>
                <a:cubicBezTo>
                  <a:pt x="8311" y="9296"/>
                  <a:pt x="8458" y="9280"/>
                  <a:pt x="8607" y="9277"/>
                </a:cubicBezTo>
                <a:cubicBezTo>
                  <a:pt x="9516" y="9258"/>
                  <a:pt x="10429" y="9272"/>
                  <a:pt x="11336" y="9302"/>
                </a:cubicBezTo>
                <a:cubicBezTo>
                  <a:pt x="11644" y="9312"/>
                  <a:pt x="11947" y="9335"/>
                  <a:pt x="12254" y="9351"/>
                </a:cubicBezTo>
                <a:cubicBezTo>
                  <a:pt x="12502" y="9364"/>
                  <a:pt x="12752" y="9376"/>
                  <a:pt x="12998" y="9401"/>
                </a:cubicBezTo>
                <a:cubicBezTo>
                  <a:pt x="13214" y="9423"/>
                  <a:pt x="13450" y="9459"/>
                  <a:pt x="13667" y="9451"/>
                </a:cubicBezTo>
                <a:cubicBezTo>
                  <a:pt x="13698" y="9450"/>
                  <a:pt x="13784" y="9416"/>
                  <a:pt x="13816" y="9401"/>
                </a:cubicBezTo>
                <a:cubicBezTo>
                  <a:pt x="13849" y="9385"/>
                  <a:pt x="13850" y="9385"/>
                  <a:pt x="13866" y="9351"/>
                </a:cubicBezTo>
                <a:cubicBezTo>
                  <a:pt x="13882" y="9318"/>
                  <a:pt x="13852" y="9367"/>
                  <a:pt x="13816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8280" y="2455920"/>
            <a:ext cx="768600" cy="723960"/>
          </a:xfrm>
          <a:custGeom>
            <a:avLst/>
            <a:gdLst/>
            <a:ahLst/>
            <a:rect l="l" t="t" r="r" b="b"/>
            <a:pathLst>
              <a:path w="2134" h="2010">
                <a:moveTo>
                  <a:pt x="3597" y="7268"/>
                </a:moveTo>
                <a:cubicBezTo>
                  <a:pt x="3579" y="7308"/>
                  <a:pt x="3578" y="7297"/>
                  <a:pt x="3572" y="7342"/>
                </a:cubicBezTo>
                <a:cubicBezTo>
                  <a:pt x="3557" y="7318"/>
                  <a:pt x="3549" y="7321"/>
                  <a:pt x="3547" y="7268"/>
                </a:cubicBezTo>
                <a:cubicBezTo>
                  <a:pt x="3546" y="7239"/>
                  <a:pt x="3532" y="7167"/>
                  <a:pt x="3547" y="7119"/>
                </a:cubicBezTo>
                <a:cubicBezTo>
                  <a:pt x="3569" y="7049"/>
                  <a:pt x="3626" y="6975"/>
                  <a:pt x="3671" y="6921"/>
                </a:cubicBezTo>
                <a:cubicBezTo>
                  <a:pt x="3724" y="6858"/>
                  <a:pt x="3790" y="6824"/>
                  <a:pt x="3870" y="6821"/>
                </a:cubicBezTo>
                <a:cubicBezTo>
                  <a:pt x="3976" y="6816"/>
                  <a:pt x="4042" y="6838"/>
                  <a:pt x="4118" y="6921"/>
                </a:cubicBezTo>
                <a:cubicBezTo>
                  <a:pt x="4221" y="7034"/>
                  <a:pt x="4239" y="7183"/>
                  <a:pt x="4291" y="7317"/>
                </a:cubicBezTo>
                <a:cubicBezTo>
                  <a:pt x="4358" y="7490"/>
                  <a:pt x="4366" y="7627"/>
                  <a:pt x="4366" y="7813"/>
                </a:cubicBezTo>
                <a:cubicBezTo>
                  <a:pt x="4366" y="7981"/>
                  <a:pt x="4341" y="8157"/>
                  <a:pt x="4266" y="8310"/>
                </a:cubicBezTo>
                <a:cubicBezTo>
                  <a:pt x="4188" y="8468"/>
                  <a:pt x="4084" y="8645"/>
                  <a:pt x="3919" y="8731"/>
                </a:cubicBezTo>
                <a:cubicBezTo>
                  <a:pt x="3858" y="8763"/>
                  <a:pt x="3772" y="8778"/>
                  <a:pt x="3721" y="8731"/>
                </a:cubicBezTo>
                <a:cubicBezTo>
                  <a:pt x="3640" y="8657"/>
                  <a:pt x="3688" y="8568"/>
                  <a:pt x="3696" y="8483"/>
                </a:cubicBezTo>
                <a:cubicBezTo>
                  <a:pt x="3706" y="8382"/>
                  <a:pt x="3736" y="8282"/>
                  <a:pt x="3820" y="8210"/>
                </a:cubicBezTo>
                <a:cubicBezTo>
                  <a:pt x="3888" y="8151"/>
                  <a:pt x="3977" y="8114"/>
                  <a:pt x="4068" y="8136"/>
                </a:cubicBezTo>
                <a:cubicBezTo>
                  <a:pt x="4167" y="8160"/>
                  <a:pt x="4212" y="8276"/>
                  <a:pt x="4242" y="8359"/>
                </a:cubicBezTo>
                <a:cubicBezTo>
                  <a:pt x="4282" y="8470"/>
                  <a:pt x="4291" y="8566"/>
                  <a:pt x="4291" y="8682"/>
                </a:cubicBezTo>
                <a:cubicBezTo>
                  <a:pt x="4291" y="8718"/>
                  <a:pt x="4284" y="8811"/>
                  <a:pt x="4316" y="8830"/>
                </a:cubicBezTo>
                <a:cubicBezTo>
                  <a:pt x="4341" y="8830"/>
                  <a:pt x="4349" y="8830"/>
                  <a:pt x="4366" y="8830"/>
                </a:cubicBezTo>
              </a:path>
              <a:path w="2134" h="2010">
                <a:moveTo>
                  <a:pt x="4738" y="6921"/>
                </a:moveTo>
                <a:cubicBezTo>
                  <a:pt x="4745" y="7002"/>
                  <a:pt x="4756" y="7040"/>
                  <a:pt x="4738" y="7119"/>
                </a:cubicBezTo>
                <a:cubicBezTo>
                  <a:pt x="4706" y="7262"/>
                  <a:pt x="4684" y="7398"/>
                  <a:pt x="4663" y="7541"/>
                </a:cubicBezTo>
                <a:cubicBezTo>
                  <a:pt x="4640" y="7699"/>
                  <a:pt x="4598" y="7877"/>
                  <a:pt x="4614" y="8037"/>
                </a:cubicBezTo>
                <a:cubicBezTo>
                  <a:pt x="4630" y="8204"/>
                  <a:pt x="4673" y="8338"/>
                  <a:pt x="4762" y="8483"/>
                </a:cubicBezTo>
                <a:cubicBezTo>
                  <a:pt x="4821" y="8579"/>
                  <a:pt x="4926" y="8625"/>
                  <a:pt x="5035" y="8632"/>
                </a:cubicBezTo>
                <a:cubicBezTo>
                  <a:pt x="5157" y="8640"/>
                  <a:pt x="5277" y="8618"/>
                  <a:pt x="5383" y="8558"/>
                </a:cubicBezTo>
                <a:cubicBezTo>
                  <a:pt x="5457" y="8516"/>
                  <a:pt x="5631" y="8373"/>
                  <a:pt x="5655" y="8285"/>
                </a:cubicBezTo>
                <a:cubicBezTo>
                  <a:pt x="5687" y="8169"/>
                  <a:pt x="5650" y="8203"/>
                  <a:pt x="5631" y="8136"/>
                </a:cubicBezTo>
                <a:cubicBezTo>
                  <a:pt x="5535" y="8112"/>
                  <a:pt x="5515" y="8136"/>
                  <a:pt x="5432" y="8186"/>
                </a:cubicBezTo>
                <a:cubicBezTo>
                  <a:pt x="5356" y="8232"/>
                  <a:pt x="5259" y="8316"/>
                  <a:pt x="5234" y="8409"/>
                </a:cubicBezTo>
                <a:cubicBezTo>
                  <a:pt x="5217" y="8471"/>
                  <a:pt x="5223" y="8605"/>
                  <a:pt x="5259" y="8657"/>
                </a:cubicBezTo>
                <a:cubicBezTo>
                  <a:pt x="5309" y="8730"/>
                  <a:pt x="5354" y="8766"/>
                  <a:pt x="5432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2120" y="29289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119" y="8136"/>
                </a:moveTo>
                <a:cubicBezTo>
                  <a:pt x="7119" y="8161"/>
                  <a:pt x="7119" y="8169"/>
                  <a:pt x="7119" y="81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1880" y="2384280"/>
            <a:ext cx="812880" cy="822600"/>
          </a:xfrm>
          <a:custGeom>
            <a:avLst/>
            <a:gdLst/>
            <a:ahLst/>
            <a:rect l="l" t="t" r="r" b="b"/>
            <a:pathLst>
              <a:path w="2258" h="2283">
                <a:moveTo>
                  <a:pt x="8806" y="7144"/>
                </a:moveTo>
                <a:cubicBezTo>
                  <a:pt x="8806" y="7202"/>
                  <a:pt x="8806" y="7210"/>
                  <a:pt x="8806" y="7243"/>
                </a:cubicBezTo>
                <a:cubicBezTo>
                  <a:pt x="8806" y="7210"/>
                  <a:pt x="8796" y="7225"/>
                  <a:pt x="8806" y="7193"/>
                </a:cubicBezTo>
                <a:cubicBezTo>
                  <a:pt x="8833" y="7104"/>
                  <a:pt x="8830" y="7009"/>
                  <a:pt x="8855" y="6921"/>
                </a:cubicBezTo>
                <a:cubicBezTo>
                  <a:pt x="8870" y="6867"/>
                  <a:pt x="8899" y="6766"/>
                  <a:pt x="8930" y="6722"/>
                </a:cubicBezTo>
                <a:cubicBezTo>
                  <a:pt x="8951" y="6691"/>
                  <a:pt x="9016" y="6616"/>
                  <a:pt x="9054" y="6623"/>
                </a:cubicBezTo>
                <a:cubicBezTo>
                  <a:pt x="9153" y="6640"/>
                  <a:pt x="9178" y="6708"/>
                  <a:pt x="9203" y="6796"/>
                </a:cubicBezTo>
                <a:cubicBezTo>
                  <a:pt x="9270" y="7030"/>
                  <a:pt x="9227" y="7297"/>
                  <a:pt x="9227" y="7541"/>
                </a:cubicBezTo>
                <a:cubicBezTo>
                  <a:pt x="9227" y="7748"/>
                  <a:pt x="9178" y="7913"/>
                  <a:pt x="9128" y="8111"/>
                </a:cubicBezTo>
                <a:cubicBezTo>
                  <a:pt x="9078" y="8308"/>
                  <a:pt x="9018" y="8481"/>
                  <a:pt x="8880" y="8632"/>
                </a:cubicBezTo>
                <a:cubicBezTo>
                  <a:pt x="8805" y="8714"/>
                  <a:pt x="8785" y="8722"/>
                  <a:pt x="8682" y="8731"/>
                </a:cubicBezTo>
                <a:cubicBezTo>
                  <a:pt x="8590" y="8739"/>
                  <a:pt x="8583" y="8655"/>
                  <a:pt x="8558" y="8582"/>
                </a:cubicBezTo>
                <a:cubicBezTo>
                  <a:pt x="8525" y="8487"/>
                  <a:pt x="8520" y="8402"/>
                  <a:pt x="8558" y="8310"/>
                </a:cubicBezTo>
                <a:cubicBezTo>
                  <a:pt x="8590" y="8234"/>
                  <a:pt x="8653" y="8222"/>
                  <a:pt x="8731" y="8235"/>
                </a:cubicBezTo>
                <a:cubicBezTo>
                  <a:pt x="8870" y="8258"/>
                  <a:pt x="8936" y="8432"/>
                  <a:pt x="9004" y="8533"/>
                </a:cubicBezTo>
                <a:cubicBezTo>
                  <a:pt x="9075" y="8638"/>
                  <a:pt x="9109" y="8684"/>
                  <a:pt x="9203" y="8756"/>
                </a:cubicBezTo>
                <a:cubicBezTo>
                  <a:pt x="9268" y="8806"/>
                  <a:pt x="9385" y="8946"/>
                  <a:pt x="9475" y="8880"/>
                </a:cubicBezTo>
                <a:cubicBezTo>
                  <a:pt x="9508" y="8847"/>
                  <a:pt x="9525" y="8830"/>
                  <a:pt x="9550" y="8806"/>
                </a:cubicBezTo>
              </a:path>
              <a:path w="2258" h="2283">
                <a:moveTo>
                  <a:pt x="9947" y="7020"/>
                </a:moveTo>
                <a:cubicBezTo>
                  <a:pt x="10149" y="7020"/>
                  <a:pt x="10402" y="7059"/>
                  <a:pt x="10592" y="6995"/>
                </a:cubicBezTo>
              </a:path>
              <a:path w="2258" h="2283">
                <a:moveTo>
                  <a:pt x="9922" y="7045"/>
                </a:moveTo>
                <a:cubicBezTo>
                  <a:pt x="9869" y="7256"/>
                  <a:pt x="9823" y="7406"/>
                  <a:pt x="9823" y="7615"/>
                </a:cubicBezTo>
                <a:cubicBezTo>
                  <a:pt x="9823" y="7685"/>
                  <a:pt x="9813" y="7783"/>
                  <a:pt x="9872" y="7838"/>
                </a:cubicBezTo>
                <a:cubicBezTo>
                  <a:pt x="9917" y="7879"/>
                  <a:pt x="9930" y="7872"/>
                  <a:pt x="9971" y="7863"/>
                </a:cubicBezTo>
                <a:cubicBezTo>
                  <a:pt x="10000" y="7856"/>
                  <a:pt x="10075" y="7812"/>
                  <a:pt x="10096" y="7789"/>
                </a:cubicBezTo>
                <a:cubicBezTo>
                  <a:pt x="10145" y="7734"/>
                  <a:pt x="10161" y="7663"/>
                  <a:pt x="10220" y="7615"/>
                </a:cubicBezTo>
                <a:cubicBezTo>
                  <a:pt x="10266" y="7577"/>
                  <a:pt x="10305" y="7552"/>
                  <a:pt x="10368" y="7565"/>
                </a:cubicBezTo>
                <a:cubicBezTo>
                  <a:pt x="10458" y="7584"/>
                  <a:pt x="10556" y="7645"/>
                  <a:pt x="10616" y="7714"/>
                </a:cubicBezTo>
                <a:cubicBezTo>
                  <a:pt x="10766" y="7887"/>
                  <a:pt x="10803" y="8057"/>
                  <a:pt x="10790" y="8285"/>
                </a:cubicBezTo>
                <a:cubicBezTo>
                  <a:pt x="10784" y="8386"/>
                  <a:pt x="10744" y="8540"/>
                  <a:pt x="10666" y="8607"/>
                </a:cubicBezTo>
                <a:cubicBezTo>
                  <a:pt x="10575" y="8686"/>
                  <a:pt x="10506" y="8682"/>
                  <a:pt x="10393" y="8682"/>
                </a:cubicBezTo>
                <a:cubicBezTo>
                  <a:pt x="10262" y="8682"/>
                  <a:pt x="10208" y="8640"/>
                  <a:pt x="10096" y="8582"/>
                </a:cubicBezTo>
                <a:cubicBezTo>
                  <a:pt x="10062" y="8564"/>
                  <a:pt x="9956" y="8532"/>
                  <a:pt x="9947" y="8483"/>
                </a:cubicBezTo>
                <a:cubicBezTo>
                  <a:pt x="9942" y="8454"/>
                  <a:pt x="9964" y="8436"/>
                  <a:pt x="997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33960" y="2652840"/>
            <a:ext cx="1706400" cy="677880"/>
          </a:xfrm>
          <a:custGeom>
            <a:avLst/>
            <a:gdLst/>
            <a:ahLst/>
            <a:rect l="l" t="t" r="r" b="b"/>
            <a:pathLst>
              <a:path w="4738" h="1886">
                <a:moveTo>
                  <a:pt x="14263" y="8111"/>
                </a:moveTo>
                <a:cubicBezTo>
                  <a:pt x="14403" y="8111"/>
                  <a:pt x="14525" y="8131"/>
                  <a:pt x="14660" y="8136"/>
                </a:cubicBezTo>
                <a:cubicBezTo>
                  <a:pt x="14748" y="8140"/>
                  <a:pt x="14827" y="8156"/>
                  <a:pt x="14908" y="8186"/>
                </a:cubicBezTo>
              </a:path>
              <a:path w="4738" h="1886">
                <a:moveTo>
                  <a:pt x="14362" y="8409"/>
                </a:moveTo>
                <a:cubicBezTo>
                  <a:pt x="14399" y="8437"/>
                  <a:pt x="14462" y="8451"/>
                  <a:pt x="14511" y="8458"/>
                </a:cubicBezTo>
                <a:cubicBezTo>
                  <a:pt x="14600" y="8471"/>
                  <a:pt x="14695" y="8480"/>
                  <a:pt x="14784" y="8483"/>
                </a:cubicBezTo>
                <a:cubicBezTo>
                  <a:pt x="14857" y="8486"/>
                  <a:pt x="14909" y="8508"/>
                  <a:pt x="14982" y="8508"/>
                </a:cubicBezTo>
                <a:cubicBezTo>
                  <a:pt x="15047" y="8508"/>
                  <a:pt x="15016" y="8486"/>
                  <a:pt x="15007" y="8458"/>
                </a:cubicBezTo>
                <a:cubicBezTo>
                  <a:pt x="15040" y="8469"/>
                  <a:pt x="15032" y="8494"/>
                  <a:pt x="15032" y="8458"/>
                </a:cubicBezTo>
              </a:path>
              <a:path w="4738" h="1886">
                <a:moveTo>
                  <a:pt x="15528" y="7441"/>
                </a:moveTo>
                <a:cubicBezTo>
                  <a:pt x="15528" y="7416"/>
                  <a:pt x="15528" y="7392"/>
                  <a:pt x="15528" y="7367"/>
                </a:cubicBezTo>
                <a:cubicBezTo>
                  <a:pt x="15512" y="7410"/>
                  <a:pt x="15496" y="7449"/>
                  <a:pt x="15478" y="7491"/>
                </a:cubicBezTo>
                <a:cubicBezTo>
                  <a:pt x="15442" y="7574"/>
                  <a:pt x="15408" y="7653"/>
                  <a:pt x="15379" y="7739"/>
                </a:cubicBezTo>
                <a:cubicBezTo>
                  <a:pt x="15330" y="7884"/>
                  <a:pt x="15274" y="8035"/>
                  <a:pt x="15255" y="8186"/>
                </a:cubicBezTo>
                <a:cubicBezTo>
                  <a:pt x="15238" y="8320"/>
                  <a:pt x="15212" y="8471"/>
                  <a:pt x="15230" y="8607"/>
                </a:cubicBezTo>
                <a:cubicBezTo>
                  <a:pt x="15246" y="8727"/>
                  <a:pt x="15296" y="8850"/>
                  <a:pt x="15354" y="8954"/>
                </a:cubicBezTo>
                <a:cubicBezTo>
                  <a:pt x="15416" y="9065"/>
                  <a:pt x="15511" y="9095"/>
                  <a:pt x="15627" y="9128"/>
                </a:cubicBezTo>
                <a:cubicBezTo>
                  <a:pt x="15756" y="9165"/>
                  <a:pt x="15873" y="9152"/>
                  <a:pt x="15999" y="9103"/>
                </a:cubicBezTo>
                <a:cubicBezTo>
                  <a:pt x="16121" y="9056"/>
                  <a:pt x="16226" y="9020"/>
                  <a:pt x="16321" y="8930"/>
                </a:cubicBezTo>
                <a:cubicBezTo>
                  <a:pt x="16395" y="8860"/>
                  <a:pt x="16392" y="8829"/>
                  <a:pt x="16396" y="8731"/>
                </a:cubicBezTo>
                <a:cubicBezTo>
                  <a:pt x="16399" y="8667"/>
                  <a:pt x="16356" y="8618"/>
                  <a:pt x="16297" y="8607"/>
                </a:cubicBezTo>
                <a:cubicBezTo>
                  <a:pt x="16182" y="8586"/>
                  <a:pt x="16146" y="8637"/>
                  <a:pt x="16073" y="8706"/>
                </a:cubicBezTo>
                <a:cubicBezTo>
                  <a:pt x="16013" y="8763"/>
                  <a:pt x="15965" y="8847"/>
                  <a:pt x="15949" y="8930"/>
                </a:cubicBezTo>
                <a:cubicBezTo>
                  <a:pt x="15929" y="9032"/>
                  <a:pt x="16001" y="9088"/>
                  <a:pt x="16024" y="9178"/>
                </a:cubicBezTo>
                <a:cubicBezTo>
                  <a:pt x="16050" y="9281"/>
                  <a:pt x="16032" y="9227"/>
                  <a:pt x="16098" y="9227"/>
                </a:cubicBezTo>
              </a:path>
              <a:path w="4738" h="1886">
                <a:moveTo>
                  <a:pt x="16743" y="7615"/>
                </a:moveTo>
                <a:cubicBezTo>
                  <a:pt x="16835" y="7574"/>
                  <a:pt x="16915" y="7544"/>
                  <a:pt x="17016" y="7541"/>
                </a:cubicBezTo>
                <a:cubicBezTo>
                  <a:pt x="17130" y="7538"/>
                  <a:pt x="17559" y="7596"/>
                  <a:pt x="17611" y="7516"/>
                </a:cubicBezTo>
              </a:path>
              <a:path w="4738" h="1886">
                <a:moveTo>
                  <a:pt x="17041" y="7441"/>
                </a:moveTo>
                <a:cubicBezTo>
                  <a:pt x="16890" y="7553"/>
                  <a:pt x="16807" y="7593"/>
                  <a:pt x="16743" y="7764"/>
                </a:cubicBezTo>
                <a:cubicBezTo>
                  <a:pt x="16709" y="7855"/>
                  <a:pt x="16718" y="7942"/>
                  <a:pt x="16718" y="8037"/>
                </a:cubicBezTo>
                <a:cubicBezTo>
                  <a:pt x="16718" y="8092"/>
                  <a:pt x="16737" y="8163"/>
                  <a:pt x="16768" y="8210"/>
                </a:cubicBezTo>
                <a:cubicBezTo>
                  <a:pt x="16776" y="8223"/>
                  <a:pt x="16811" y="8242"/>
                  <a:pt x="16842" y="8235"/>
                </a:cubicBezTo>
                <a:cubicBezTo>
                  <a:pt x="16888" y="8224"/>
                  <a:pt x="16927" y="8192"/>
                  <a:pt x="16966" y="8161"/>
                </a:cubicBezTo>
                <a:cubicBezTo>
                  <a:pt x="17007" y="8128"/>
                  <a:pt x="17043" y="8085"/>
                  <a:pt x="17090" y="8062"/>
                </a:cubicBezTo>
                <a:cubicBezTo>
                  <a:pt x="17172" y="8021"/>
                  <a:pt x="17212" y="8016"/>
                  <a:pt x="17289" y="8037"/>
                </a:cubicBezTo>
                <a:cubicBezTo>
                  <a:pt x="17363" y="8057"/>
                  <a:pt x="17459" y="8168"/>
                  <a:pt x="17487" y="8235"/>
                </a:cubicBezTo>
                <a:cubicBezTo>
                  <a:pt x="17544" y="8372"/>
                  <a:pt x="17544" y="8493"/>
                  <a:pt x="17537" y="8632"/>
                </a:cubicBezTo>
                <a:cubicBezTo>
                  <a:pt x="17529" y="8806"/>
                  <a:pt x="17496" y="8928"/>
                  <a:pt x="17413" y="9079"/>
                </a:cubicBezTo>
                <a:cubicBezTo>
                  <a:pt x="17357" y="9182"/>
                  <a:pt x="17304" y="9199"/>
                  <a:pt x="17190" y="9203"/>
                </a:cubicBezTo>
                <a:cubicBezTo>
                  <a:pt x="17094" y="9207"/>
                  <a:pt x="16924" y="9235"/>
                  <a:pt x="16842" y="9178"/>
                </a:cubicBezTo>
                <a:cubicBezTo>
                  <a:pt x="16818" y="9153"/>
                  <a:pt x="16810" y="9144"/>
                  <a:pt x="16793" y="9128"/>
                </a:cubicBezTo>
              </a:path>
              <a:path w="4738" h="1886">
                <a:moveTo>
                  <a:pt x="18107" y="7789"/>
                </a:moveTo>
                <a:cubicBezTo>
                  <a:pt x="18124" y="7906"/>
                  <a:pt x="18105" y="7994"/>
                  <a:pt x="18058" y="8111"/>
                </a:cubicBezTo>
                <a:cubicBezTo>
                  <a:pt x="17999" y="8258"/>
                  <a:pt x="17929" y="8381"/>
                  <a:pt x="17884" y="8533"/>
                </a:cubicBezTo>
                <a:cubicBezTo>
                  <a:pt x="17846" y="8660"/>
                  <a:pt x="17840" y="8785"/>
                  <a:pt x="17909" y="8905"/>
                </a:cubicBezTo>
                <a:cubicBezTo>
                  <a:pt x="17963" y="8998"/>
                  <a:pt x="18064" y="9023"/>
                  <a:pt x="18157" y="9054"/>
                </a:cubicBezTo>
                <a:cubicBezTo>
                  <a:pt x="18268" y="9091"/>
                  <a:pt x="18368" y="9086"/>
                  <a:pt x="18479" y="9054"/>
                </a:cubicBezTo>
                <a:cubicBezTo>
                  <a:pt x="18651" y="9005"/>
                  <a:pt x="18741" y="8920"/>
                  <a:pt x="18852" y="8781"/>
                </a:cubicBezTo>
                <a:cubicBezTo>
                  <a:pt x="18933" y="8679"/>
                  <a:pt x="18986" y="8539"/>
                  <a:pt x="19000" y="8409"/>
                </a:cubicBezTo>
                <a:cubicBezTo>
                  <a:pt x="19018" y="8240"/>
                  <a:pt x="18978" y="8051"/>
                  <a:pt x="18876" y="7913"/>
                </a:cubicBezTo>
                <a:cubicBezTo>
                  <a:pt x="18777" y="7779"/>
                  <a:pt x="18660" y="7731"/>
                  <a:pt x="18504" y="7689"/>
                </a:cubicBezTo>
                <a:cubicBezTo>
                  <a:pt x="18340" y="7645"/>
                  <a:pt x="18196" y="7680"/>
                  <a:pt x="18033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How many telephone numbers can exist within one area code?  (Note that a telephone number can’t begin with a 0 or 1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1240" y="3313080"/>
            <a:ext cx="7143840" cy="874800"/>
          </a:xfrm>
          <a:custGeom>
            <a:avLst/>
            <a:gdLst/>
            <a:ahLst/>
            <a:rect l="l" t="t" r="r" b="b"/>
            <a:pathLst>
              <a:path w="19845" h="2431">
                <a:moveTo>
                  <a:pt x="2059" y="10988"/>
                </a:moveTo>
                <a:cubicBezTo>
                  <a:pt x="2129" y="11015"/>
                  <a:pt x="2181" y="11013"/>
                  <a:pt x="2257" y="11013"/>
                </a:cubicBezTo>
                <a:cubicBezTo>
                  <a:pt x="2367" y="11013"/>
                  <a:pt x="2494" y="11025"/>
                  <a:pt x="2604" y="11038"/>
                </a:cubicBezTo>
                <a:cubicBezTo>
                  <a:pt x="2833" y="11066"/>
                  <a:pt x="3068" y="11084"/>
                  <a:pt x="3299" y="11088"/>
                </a:cubicBezTo>
                <a:cubicBezTo>
                  <a:pt x="3449" y="11091"/>
                  <a:pt x="3861" y="11110"/>
                  <a:pt x="3919" y="11088"/>
                </a:cubicBezTo>
                <a:cubicBezTo>
                  <a:pt x="3968" y="11069"/>
                  <a:pt x="4035" y="11044"/>
                  <a:pt x="4093" y="11038"/>
                </a:cubicBezTo>
                <a:cubicBezTo>
                  <a:pt x="4402" y="11008"/>
                  <a:pt x="4782" y="11083"/>
                  <a:pt x="5060" y="11112"/>
                </a:cubicBezTo>
              </a:path>
              <a:path w="19845" h="2431">
                <a:moveTo>
                  <a:pt x="4837" y="11212"/>
                </a:moveTo>
                <a:cubicBezTo>
                  <a:pt x="5334" y="11212"/>
                  <a:pt x="5831" y="11209"/>
                  <a:pt x="6325" y="11237"/>
                </a:cubicBezTo>
                <a:cubicBezTo>
                  <a:pt x="6483" y="11246"/>
                  <a:pt x="6780" y="11270"/>
                  <a:pt x="6896" y="11212"/>
                </a:cubicBezTo>
                <a:cubicBezTo>
                  <a:pt x="6871" y="11212"/>
                  <a:pt x="6863" y="11212"/>
                  <a:pt x="6896" y="11212"/>
                </a:cubicBezTo>
              </a:path>
              <a:path w="19845" h="2431">
                <a:moveTo>
                  <a:pt x="7962" y="11361"/>
                </a:moveTo>
                <a:cubicBezTo>
                  <a:pt x="8021" y="11382"/>
                  <a:pt x="8064" y="11385"/>
                  <a:pt x="8136" y="11385"/>
                </a:cubicBezTo>
                <a:cubicBezTo>
                  <a:pt x="8295" y="11385"/>
                  <a:pt x="9749" y="11410"/>
                  <a:pt x="9748" y="11361"/>
                </a:cubicBezTo>
                <a:cubicBezTo>
                  <a:pt x="9740" y="11361"/>
                  <a:pt x="9731" y="11361"/>
                  <a:pt x="9723" y="11361"/>
                </a:cubicBezTo>
              </a:path>
              <a:path w="19845" h="2431">
                <a:moveTo>
                  <a:pt x="10790" y="11460"/>
                </a:moveTo>
                <a:cubicBezTo>
                  <a:pt x="10899" y="11448"/>
                  <a:pt x="10999" y="11435"/>
                  <a:pt x="11112" y="11435"/>
                </a:cubicBezTo>
                <a:cubicBezTo>
                  <a:pt x="11288" y="11435"/>
                  <a:pt x="11459" y="11450"/>
                  <a:pt x="11633" y="11460"/>
                </a:cubicBezTo>
                <a:cubicBezTo>
                  <a:pt x="11808" y="11470"/>
                  <a:pt x="11980" y="11496"/>
                  <a:pt x="12154" y="11509"/>
                </a:cubicBezTo>
                <a:cubicBezTo>
                  <a:pt x="12225" y="11514"/>
                  <a:pt x="12368" y="11529"/>
                  <a:pt x="12402" y="11485"/>
                </a:cubicBezTo>
                <a:cubicBezTo>
                  <a:pt x="12402" y="11457"/>
                  <a:pt x="12404" y="11446"/>
                  <a:pt x="12427" y="11435"/>
                </a:cubicBezTo>
              </a:path>
              <a:path w="19845" h="2431">
                <a:moveTo>
                  <a:pt x="13246" y="11435"/>
                </a:moveTo>
                <a:cubicBezTo>
                  <a:pt x="13677" y="11435"/>
                  <a:pt x="14107" y="11434"/>
                  <a:pt x="14536" y="11460"/>
                </a:cubicBezTo>
                <a:cubicBezTo>
                  <a:pt x="14841" y="11479"/>
                  <a:pt x="15131" y="11506"/>
                  <a:pt x="15429" y="11534"/>
                </a:cubicBezTo>
                <a:cubicBezTo>
                  <a:pt x="15512" y="11542"/>
                  <a:pt x="15609" y="11535"/>
                  <a:pt x="15652" y="11509"/>
                </a:cubicBezTo>
              </a:path>
              <a:path w="19845" h="2431">
                <a:moveTo>
                  <a:pt x="16346" y="11534"/>
                </a:moveTo>
                <a:cubicBezTo>
                  <a:pt x="16452" y="11524"/>
                  <a:pt x="16514" y="11525"/>
                  <a:pt x="16619" y="11534"/>
                </a:cubicBezTo>
                <a:cubicBezTo>
                  <a:pt x="16798" y="11549"/>
                  <a:pt x="16986" y="11550"/>
                  <a:pt x="17165" y="11559"/>
                </a:cubicBezTo>
                <a:cubicBezTo>
                  <a:pt x="17373" y="11570"/>
                  <a:pt x="17578" y="11595"/>
                  <a:pt x="17785" y="11609"/>
                </a:cubicBezTo>
                <a:cubicBezTo>
                  <a:pt x="17912" y="11618"/>
                  <a:pt x="18170" y="11638"/>
                  <a:pt x="18256" y="11584"/>
                </a:cubicBezTo>
                <a:cubicBezTo>
                  <a:pt x="18287" y="11564"/>
                  <a:pt x="18283" y="11566"/>
                  <a:pt x="18331" y="11559"/>
                </a:cubicBezTo>
              </a:path>
              <a:path w="19845" h="2431">
                <a:moveTo>
                  <a:pt x="19323" y="11584"/>
                </a:moveTo>
                <a:cubicBezTo>
                  <a:pt x="19398" y="11555"/>
                  <a:pt x="19489" y="11520"/>
                  <a:pt x="19571" y="11509"/>
                </a:cubicBezTo>
                <a:cubicBezTo>
                  <a:pt x="19730" y="11487"/>
                  <a:pt x="19907" y="11488"/>
                  <a:pt x="20067" y="11485"/>
                </a:cubicBezTo>
                <a:cubicBezTo>
                  <a:pt x="20284" y="11481"/>
                  <a:pt x="20521" y="11490"/>
                  <a:pt x="20737" y="11509"/>
                </a:cubicBezTo>
                <a:cubicBezTo>
                  <a:pt x="20942" y="11527"/>
                  <a:pt x="21153" y="11534"/>
                  <a:pt x="21357" y="11559"/>
                </a:cubicBezTo>
                <a:cubicBezTo>
                  <a:pt x="21514" y="11578"/>
                  <a:pt x="21671" y="11625"/>
                  <a:pt x="21828" y="11633"/>
                </a:cubicBezTo>
                <a:cubicBezTo>
                  <a:pt x="21862" y="11635"/>
                  <a:pt x="21903" y="11648"/>
                  <a:pt x="21903" y="11609"/>
                </a:cubicBezTo>
                <a:cubicBezTo>
                  <a:pt x="21869" y="11575"/>
                  <a:pt x="21860" y="11553"/>
                  <a:pt x="21878" y="11509"/>
                </a:cubicBezTo>
              </a:path>
              <a:path w="19845" h="2431">
                <a:moveTo>
                  <a:pt x="3249" y="9252"/>
                </a:moveTo>
                <a:cubicBezTo>
                  <a:pt x="3207" y="9202"/>
                  <a:pt x="3211" y="9203"/>
                  <a:pt x="3125" y="9203"/>
                </a:cubicBezTo>
                <a:cubicBezTo>
                  <a:pt x="3030" y="9203"/>
                  <a:pt x="2918" y="9219"/>
                  <a:pt x="2828" y="9252"/>
                </a:cubicBezTo>
                <a:cubicBezTo>
                  <a:pt x="2744" y="9283"/>
                  <a:pt x="2663" y="9319"/>
                  <a:pt x="2580" y="9351"/>
                </a:cubicBezTo>
                <a:cubicBezTo>
                  <a:pt x="2488" y="9387"/>
                  <a:pt x="2483" y="9402"/>
                  <a:pt x="2431" y="9475"/>
                </a:cubicBezTo>
                <a:cubicBezTo>
                  <a:pt x="2391" y="9531"/>
                  <a:pt x="2438" y="9624"/>
                  <a:pt x="2480" y="9674"/>
                </a:cubicBezTo>
                <a:cubicBezTo>
                  <a:pt x="2567" y="9778"/>
                  <a:pt x="2682" y="9853"/>
                  <a:pt x="2778" y="9947"/>
                </a:cubicBezTo>
                <a:cubicBezTo>
                  <a:pt x="2934" y="10099"/>
                  <a:pt x="3101" y="10280"/>
                  <a:pt x="3150" y="10492"/>
                </a:cubicBezTo>
                <a:cubicBezTo>
                  <a:pt x="3171" y="10584"/>
                  <a:pt x="3152" y="10682"/>
                  <a:pt x="3076" y="10740"/>
                </a:cubicBezTo>
                <a:cubicBezTo>
                  <a:pt x="3041" y="10767"/>
                  <a:pt x="2944" y="10783"/>
                  <a:pt x="2902" y="10765"/>
                </a:cubicBezTo>
                <a:cubicBezTo>
                  <a:pt x="2834" y="10736"/>
                  <a:pt x="2810" y="10679"/>
                  <a:pt x="2778" y="10616"/>
                </a:cubicBezTo>
                <a:cubicBezTo>
                  <a:pt x="2745" y="10550"/>
                  <a:pt x="2736" y="10441"/>
                  <a:pt x="2753" y="10368"/>
                </a:cubicBezTo>
                <a:cubicBezTo>
                  <a:pt x="2774" y="10275"/>
                  <a:pt x="2812" y="10134"/>
                  <a:pt x="2853" y="10046"/>
                </a:cubicBezTo>
                <a:cubicBezTo>
                  <a:pt x="2904" y="9934"/>
                  <a:pt x="2984" y="9839"/>
                  <a:pt x="3026" y="9723"/>
                </a:cubicBezTo>
                <a:cubicBezTo>
                  <a:pt x="3061" y="9625"/>
                  <a:pt x="3086" y="9523"/>
                  <a:pt x="3125" y="9426"/>
                </a:cubicBezTo>
                <a:cubicBezTo>
                  <a:pt x="3153" y="9358"/>
                  <a:pt x="3171" y="9326"/>
                  <a:pt x="3175" y="9252"/>
                </a:cubicBezTo>
                <a:cubicBezTo>
                  <a:pt x="3175" y="9227"/>
                  <a:pt x="3175" y="9219"/>
                  <a:pt x="3175" y="9203"/>
                </a:cubicBezTo>
                <a:cubicBezTo>
                  <a:pt x="3077" y="9203"/>
                  <a:pt x="2993" y="9198"/>
                  <a:pt x="2902" y="9227"/>
                </a:cubicBezTo>
              </a:path>
              <a:path w="19845" h="2431">
                <a:moveTo>
                  <a:pt x="5283" y="9401"/>
                </a:moveTo>
                <a:cubicBezTo>
                  <a:pt x="5249" y="9413"/>
                  <a:pt x="5239" y="9527"/>
                  <a:pt x="5234" y="9575"/>
                </a:cubicBezTo>
                <a:cubicBezTo>
                  <a:pt x="5206" y="9871"/>
                  <a:pt x="5237" y="10174"/>
                  <a:pt x="5209" y="10468"/>
                </a:cubicBezTo>
                <a:cubicBezTo>
                  <a:pt x="5198" y="10581"/>
                  <a:pt x="5209" y="10701"/>
                  <a:pt x="5209" y="10815"/>
                </a:cubicBezTo>
                <a:cubicBezTo>
                  <a:pt x="5225" y="10736"/>
                  <a:pt x="5277" y="10668"/>
                  <a:pt x="5308" y="10592"/>
                </a:cubicBezTo>
                <a:cubicBezTo>
                  <a:pt x="5316" y="10567"/>
                  <a:pt x="5325" y="10542"/>
                  <a:pt x="5333" y="10517"/>
                </a:cubicBezTo>
              </a:path>
              <a:path w="19845" h="2431">
                <a:moveTo>
                  <a:pt x="5779" y="9575"/>
                </a:moveTo>
                <a:cubicBezTo>
                  <a:pt x="5742" y="9740"/>
                  <a:pt x="5675" y="9883"/>
                  <a:pt x="5631" y="10046"/>
                </a:cubicBezTo>
                <a:cubicBezTo>
                  <a:pt x="5596" y="10176"/>
                  <a:pt x="5582" y="10357"/>
                  <a:pt x="5606" y="10492"/>
                </a:cubicBezTo>
                <a:cubicBezTo>
                  <a:pt x="5622" y="10581"/>
                  <a:pt x="5659" y="10707"/>
                  <a:pt x="5730" y="10765"/>
                </a:cubicBezTo>
                <a:cubicBezTo>
                  <a:pt x="5789" y="10813"/>
                  <a:pt x="5893" y="10797"/>
                  <a:pt x="5953" y="10765"/>
                </a:cubicBezTo>
                <a:cubicBezTo>
                  <a:pt x="6060" y="10708"/>
                  <a:pt x="6139" y="10580"/>
                  <a:pt x="6176" y="10468"/>
                </a:cubicBezTo>
                <a:cubicBezTo>
                  <a:pt x="6221" y="10332"/>
                  <a:pt x="6247" y="10164"/>
                  <a:pt x="6226" y="10021"/>
                </a:cubicBezTo>
                <a:cubicBezTo>
                  <a:pt x="6205" y="9880"/>
                  <a:pt x="6127" y="9750"/>
                  <a:pt x="6003" y="9674"/>
                </a:cubicBezTo>
                <a:cubicBezTo>
                  <a:pt x="5950" y="9642"/>
                  <a:pt x="5887" y="9631"/>
                  <a:pt x="5829" y="9624"/>
                </a:cubicBezTo>
              </a:path>
              <a:path w="19845" h="2431">
                <a:moveTo>
                  <a:pt x="7863" y="9550"/>
                </a:moveTo>
                <a:cubicBezTo>
                  <a:pt x="7863" y="9844"/>
                  <a:pt x="7833" y="10156"/>
                  <a:pt x="7888" y="10443"/>
                </a:cubicBezTo>
                <a:cubicBezTo>
                  <a:pt x="7912" y="10569"/>
                  <a:pt x="7965" y="10690"/>
                  <a:pt x="7987" y="10815"/>
                </a:cubicBezTo>
                <a:cubicBezTo>
                  <a:pt x="7988" y="10821"/>
                  <a:pt x="8022" y="10970"/>
                  <a:pt x="8037" y="10889"/>
                </a:cubicBezTo>
                <a:cubicBezTo>
                  <a:pt x="8037" y="10864"/>
                  <a:pt x="8037" y="10840"/>
                  <a:pt x="8037" y="10815"/>
                </a:cubicBezTo>
              </a:path>
              <a:path w="19845" h="2431">
                <a:moveTo>
                  <a:pt x="8582" y="9699"/>
                </a:moveTo>
                <a:cubicBezTo>
                  <a:pt x="8528" y="9863"/>
                  <a:pt x="8428" y="10024"/>
                  <a:pt x="8409" y="10195"/>
                </a:cubicBezTo>
                <a:cubicBezTo>
                  <a:pt x="8392" y="10343"/>
                  <a:pt x="8396" y="10489"/>
                  <a:pt x="8458" y="10616"/>
                </a:cubicBezTo>
                <a:cubicBezTo>
                  <a:pt x="8514" y="10732"/>
                  <a:pt x="8590" y="10840"/>
                  <a:pt x="8706" y="10889"/>
                </a:cubicBezTo>
                <a:cubicBezTo>
                  <a:pt x="8795" y="10927"/>
                  <a:pt x="8847" y="10953"/>
                  <a:pt x="8930" y="10889"/>
                </a:cubicBezTo>
                <a:cubicBezTo>
                  <a:pt x="9042" y="10802"/>
                  <a:pt x="9095" y="10702"/>
                  <a:pt x="9128" y="10567"/>
                </a:cubicBezTo>
                <a:cubicBezTo>
                  <a:pt x="9173" y="10384"/>
                  <a:pt x="9195" y="10151"/>
                  <a:pt x="9103" y="9971"/>
                </a:cubicBezTo>
                <a:cubicBezTo>
                  <a:pt x="9048" y="9864"/>
                  <a:pt x="8956" y="9762"/>
                  <a:pt x="8855" y="9699"/>
                </a:cubicBezTo>
                <a:cubicBezTo>
                  <a:pt x="8803" y="9667"/>
                  <a:pt x="8764" y="9674"/>
                  <a:pt x="8706" y="9674"/>
                </a:cubicBezTo>
              </a:path>
              <a:path w="19845" h="2431">
                <a:moveTo>
                  <a:pt x="10889" y="9823"/>
                </a:moveTo>
                <a:cubicBezTo>
                  <a:pt x="10889" y="9917"/>
                  <a:pt x="10906" y="10002"/>
                  <a:pt x="10914" y="10096"/>
                </a:cubicBezTo>
                <a:cubicBezTo>
                  <a:pt x="10933" y="10314"/>
                  <a:pt x="10967" y="10524"/>
                  <a:pt x="10988" y="10740"/>
                </a:cubicBezTo>
                <a:cubicBezTo>
                  <a:pt x="10999" y="10857"/>
                  <a:pt x="11013" y="10969"/>
                  <a:pt x="11013" y="11088"/>
                </a:cubicBezTo>
                <a:cubicBezTo>
                  <a:pt x="11013" y="11107"/>
                  <a:pt x="11001" y="11250"/>
                  <a:pt x="11013" y="11187"/>
                </a:cubicBezTo>
                <a:cubicBezTo>
                  <a:pt x="11021" y="11146"/>
                  <a:pt x="11030" y="11104"/>
                  <a:pt x="11038" y="11063"/>
                </a:cubicBezTo>
              </a:path>
              <a:path w="19845" h="2431">
                <a:moveTo>
                  <a:pt x="11584" y="9947"/>
                </a:moveTo>
                <a:cubicBezTo>
                  <a:pt x="11521" y="10089"/>
                  <a:pt x="11454" y="10243"/>
                  <a:pt x="11410" y="10393"/>
                </a:cubicBezTo>
                <a:cubicBezTo>
                  <a:pt x="11367" y="10540"/>
                  <a:pt x="11340" y="10711"/>
                  <a:pt x="11361" y="10864"/>
                </a:cubicBezTo>
                <a:cubicBezTo>
                  <a:pt x="11379" y="10992"/>
                  <a:pt x="11478" y="11082"/>
                  <a:pt x="11584" y="11137"/>
                </a:cubicBezTo>
                <a:cubicBezTo>
                  <a:pt x="11678" y="11186"/>
                  <a:pt x="11791" y="11158"/>
                  <a:pt x="11881" y="11112"/>
                </a:cubicBezTo>
                <a:cubicBezTo>
                  <a:pt x="12022" y="11039"/>
                  <a:pt x="12135" y="10874"/>
                  <a:pt x="12154" y="10716"/>
                </a:cubicBezTo>
                <a:cubicBezTo>
                  <a:pt x="12174" y="10555"/>
                  <a:pt x="12140" y="10438"/>
                  <a:pt x="12080" y="10294"/>
                </a:cubicBezTo>
                <a:cubicBezTo>
                  <a:pt x="12009" y="10123"/>
                  <a:pt x="11932" y="10092"/>
                  <a:pt x="11782" y="9996"/>
                </a:cubicBezTo>
                <a:cubicBezTo>
                  <a:pt x="11698" y="9942"/>
                  <a:pt x="11654" y="9947"/>
                  <a:pt x="11559" y="9947"/>
                </a:cubicBezTo>
              </a:path>
              <a:path w="19845" h="2431">
                <a:moveTo>
                  <a:pt x="13196" y="9872"/>
                </a:moveTo>
                <a:cubicBezTo>
                  <a:pt x="13268" y="9961"/>
                  <a:pt x="13268" y="10029"/>
                  <a:pt x="13271" y="10145"/>
                </a:cubicBezTo>
                <a:cubicBezTo>
                  <a:pt x="13275" y="10306"/>
                  <a:pt x="13259" y="10459"/>
                  <a:pt x="13246" y="10616"/>
                </a:cubicBezTo>
                <a:cubicBezTo>
                  <a:pt x="13233" y="10775"/>
                  <a:pt x="13246" y="10938"/>
                  <a:pt x="13271" y="11088"/>
                </a:cubicBezTo>
                <a:cubicBezTo>
                  <a:pt x="13281" y="11147"/>
                  <a:pt x="13265" y="11209"/>
                  <a:pt x="13320" y="11112"/>
                </a:cubicBezTo>
                <a:cubicBezTo>
                  <a:pt x="13328" y="11096"/>
                  <a:pt x="13337" y="11079"/>
                  <a:pt x="13345" y="11063"/>
                </a:cubicBezTo>
              </a:path>
              <a:path w="19845" h="2431">
                <a:moveTo>
                  <a:pt x="13866" y="10021"/>
                </a:moveTo>
                <a:cubicBezTo>
                  <a:pt x="13796" y="10152"/>
                  <a:pt x="13714" y="10276"/>
                  <a:pt x="13667" y="10418"/>
                </a:cubicBezTo>
                <a:cubicBezTo>
                  <a:pt x="13624" y="10548"/>
                  <a:pt x="13596" y="10703"/>
                  <a:pt x="13618" y="10840"/>
                </a:cubicBezTo>
                <a:cubicBezTo>
                  <a:pt x="13637" y="10958"/>
                  <a:pt x="13755" y="11112"/>
                  <a:pt x="13866" y="11162"/>
                </a:cubicBezTo>
                <a:cubicBezTo>
                  <a:pt x="13969" y="11209"/>
                  <a:pt x="14107" y="11236"/>
                  <a:pt x="14213" y="11187"/>
                </a:cubicBezTo>
                <a:cubicBezTo>
                  <a:pt x="14338" y="11128"/>
                  <a:pt x="14418" y="11059"/>
                  <a:pt x="14486" y="10939"/>
                </a:cubicBezTo>
                <a:cubicBezTo>
                  <a:pt x="14555" y="10817"/>
                  <a:pt x="14599" y="10658"/>
                  <a:pt x="14585" y="10517"/>
                </a:cubicBezTo>
                <a:cubicBezTo>
                  <a:pt x="14570" y="10356"/>
                  <a:pt x="14520" y="10236"/>
                  <a:pt x="14412" y="10120"/>
                </a:cubicBezTo>
                <a:cubicBezTo>
                  <a:pt x="14306" y="10006"/>
                  <a:pt x="14167" y="9954"/>
                  <a:pt x="14015" y="9947"/>
                </a:cubicBezTo>
                <a:cubicBezTo>
                  <a:pt x="13956" y="9944"/>
                  <a:pt x="13954" y="9958"/>
                  <a:pt x="13915" y="9996"/>
                </a:cubicBezTo>
              </a:path>
              <a:path w="19845" h="2431">
                <a:moveTo>
                  <a:pt x="16743" y="9996"/>
                </a:moveTo>
                <a:cubicBezTo>
                  <a:pt x="16743" y="10066"/>
                  <a:pt x="16723" y="10129"/>
                  <a:pt x="16718" y="10195"/>
                </a:cubicBezTo>
                <a:cubicBezTo>
                  <a:pt x="16704" y="10371"/>
                  <a:pt x="16733" y="10543"/>
                  <a:pt x="16743" y="10716"/>
                </a:cubicBezTo>
                <a:cubicBezTo>
                  <a:pt x="16753" y="10891"/>
                  <a:pt x="16768" y="11061"/>
                  <a:pt x="16768" y="11237"/>
                </a:cubicBezTo>
                <a:cubicBezTo>
                  <a:pt x="16768" y="11344"/>
                  <a:pt x="16776" y="11436"/>
                  <a:pt x="16793" y="11534"/>
                </a:cubicBezTo>
                <a:cubicBezTo>
                  <a:pt x="16814" y="11660"/>
                  <a:pt x="16849" y="11510"/>
                  <a:pt x="16867" y="11460"/>
                </a:cubicBezTo>
              </a:path>
              <a:path w="19845" h="2431">
                <a:moveTo>
                  <a:pt x="17239" y="10195"/>
                </a:moveTo>
                <a:cubicBezTo>
                  <a:pt x="17227" y="10297"/>
                  <a:pt x="17179" y="10389"/>
                  <a:pt x="17165" y="10492"/>
                </a:cubicBezTo>
                <a:cubicBezTo>
                  <a:pt x="17135" y="10709"/>
                  <a:pt x="17120" y="10878"/>
                  <a:pt x="17140" y="11088"/>
                </a:cubicBezTo>
                <a:cubicBezTo>
                  <a:pt x="17153" y="11229"/>
                  <a:pt x="17176" y="11358"/>
                  <a:pt x="17289" y="11460"/>
                </a:cubicBezTo>
                <a:cubicBezTo>
                  <a:pt x="17345" y="11510"/>
                  <a:pt x="17430" y="11486"/>
                  <a:pt x="17487" y="11460"/>
                </a:cubicBezTo>
                <a:cubicBezTo>
                  <a:pt x="17588" y="11415"/>
                  <a:pt x="17650" y="11261"/>
                  <a:pt x="17686" y="11162"/>
                </a:cubicBezTo>
                <a:cubicBezTo>
                  <a:pt x="17741" y="11012"/>
                  <a:pt x="17753" y="10824"/>
                  <a:pt x="17735" y="10666"/>
                </a:cubicBezTo>
                <a:cubicBezTo>
                  <a:pt x="17720" y="10534"/>
                  <a:pt x="17646" y="10372"/>
                  <a:pt x="17562" y="10269"/>
                </a:cubicBezTo>
                <a:cubicBezTo>
                  <a:pt x="17471" y="10159"/>
                  <a:pt x="17383" y="10153"/>
                  <a:pt x="17264" y="10120"/>
                </a:cubicBezTo>
                <a:cubicBezTo>
                  <a:pt x="17236" y="10120"/>
                  <a:pt x="17225" y="10118"/>
                  <a:pt x="17214" y="10096"/>
                </a:cubicBezTo>
              </a:path>
              <a:path w="19845" h="2431">
                <a:moveTo>
                  <a:pt x="19496" y="10120"/>
                </a:moveTo>
                <a:cubicBezTo>
                  <a:pt x="19496" y="10441"/>
                  <a:pt x="19440" y="10825"/>
                  <a:pt x="19521" y="11137"/>
                </a:cubicBezTo>
                <a:cubicBezTo>
                  <a:pt x="19540" y="11210"/>
                  <a:pt x="19564" y="11286"/>
                  <a:pt x="19571" y="11361"/>
                </a:cubicBezTo>
                <a:cubicBezTo>
                  <a:pt x="19578" y="11438"/>
                  <a:pt x="19614" y="11327"/>
                  <a:pt x="19621" y="11311"/>
                </a:cubicBezTo>
                <a:cubicBezTo>
                  <a:pt x="19629" y="11294"/>
                  <a:pt x="19637" y="11278"/>
                  <a:pt x="19645" y="11261"/>
                </a:cubicBezTo>
              </a:path>
              <a:path w="19845" h="2431">
                <a:moveTo>
                  <a:pt x="20067" y="10269"/>
                </a:moveTo>
                <a:cubicBezTo>
                  <a:pt x="20018" y="10439"/>
                  <a:pt x="19940" y="10613"/>
                  <a:pt x="19918" y="10790"/>
                </a:cubicBezTo>
                <a:cubicBezTo>
                  <a:pt x="19907" y="10876"/>
                  <a:pt x="19947" y="10990"/>
                  <a:pt x="19993" y="11063"/>
                </a:cubicBezTo>
                <a:cubicBezTo>
                  <a:pt x="20041" y="11139"/>
                  <a:pt x="20096" y="11138"/>
                  <a:pt x="20166" y="11162"/>
                </a:cubicBezTo>
                <a:cubicBezTo>
                  <a:pt x="20266" y="11196"/>
                  <a:pt x="20440" y="11130"/>
                  <a:pt x="20513" y="11038"/>
                </a:cubicBezTo>
                <a:cubicBezTo>
                  <a:pt x="20590" y="10940"/>
                  <a:pt x="20682" y="10759"/>
                  <a:pt x="20712" y="10641"/>
                </a:cubicBezTo>
                <a:cubicBezTo>
                  <a:pt x="20737" y="10544"/>
                  <a:pt x="20757" y="10415"/>
                  <a:pt x="20712" y="10319"/>
                </a:cubicBezTo>
                <a:cubicBezTo>
                  <a:pt x="20670" y="10228"/>
                  <a:pt x="20555" y="10111"/>
                  <a:pt x="20464" y="10071"/>
                </a:cubicBezTo>
                <a:cubicBezTo>
                  <a:pt x="20344" y="10018"/>
                  <a:pt x="20195" y="10004"/>
                  <a:pt x="20067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8200" y="4554360"/>
            <a:ext cx="2320920" cy="687600"/>
          </a:xfrm>
          <a:custGeom>
            <a:avLst/>
            <a:gdLst/>
            <a:ahLst/>
            <a:rect l="l" t="t" r="r" b="b"/>
            <a:pathLst>
              <a:path w="6450" h="1911">
                <a:moveTo>
                  <a:pt x="4936" y="12824"/>
                </a:moveTo>
                <a:cubicBezTo>
                  <a:pt x="4856" y="12724"/>
                  <a:pt x="4811" y="12702"/>
                  <a:pt x="4688" y="12675"/>
                </a:cubicBezTo>
                <a:cubicBezTo>
                  <a:pt x="4535" y="12641"/>
                  <a:pt x="4418" y="12659"/>
                  <a:pt x="4266" y="12700"/>
                </a:cubicBezTo>
                <a:cubicBezTo>
                  <a:pt x="4167" y="12726"/>
                  <a:pt x="4070" y="12734"/>
                  <a:pt x="4018" y="12824"/>
                </a:cubicBezTo>
                <a:cubicBezTo>
                  <a:pt x="3961" y="12922"/>
                  <a:pt x="4023" y="13006"/>
                  <a:pt x="4068" y="13097"/>
                </a:cubicBezTo>
                <a:cubicBezTo>
                  <a:pt x="4143" y="13251"/>
                  <a:pt x="4273" y="13373"/>
                  <a:pt x="4366" y="13519"/>
                </a:cubicBezTo>
                <a:cubicBezTo>
                  <a:pt x="4445" y="13642"/>
                  <a:pt x="4518" y="13793"/>
                  <a:pt x="4539" y="13940"/>
                </a:cubicBezTo>
                <a:cubicBezTo>
                  <a:pt x="4549" y="14013"/>
                  <a:pt x="4528" y="14035"/>
                  <a:pt x="4514" y="14089"/>
                </a:cubicBezTo>
                <a:cubicBezTo>
                  <a:pt x="4414" y="14099"/>
                  <a:pt x="4352" y="14097"/>
                  <a:pt x="4266" y="13990"/>
                </a:cubicBezTo>
                <a:cubicBezTo>
                  <a:pt x="4187" y="13892"/>
                  <a:pt x="4184" y="13804"/>
                  <a:pt x="4217" y="13692"/>
                </a:cubicBezTo>
                <a:cubicBezTo>
                  <a:pt x="4259" y="13553"/>
                  <a:pt x="4344" y="13428"/>
                  <a:pt x="4440" y="13320"/>
                </a:cubicBezTo>
                <a:cubicBezTo>
                  <a:pt x="4569" y="13174"/>
                  <a:pt x="4705" y="13039"/>
                  <a:pt x="4837" y="12898"/>
                </a:cubicBezTo>
                <a:cubicBezTo>
                  <a:pt x="4907" y="12823"/>
                  <a:pt x="4946" y="12784"/>
                  <a:pt x="4986" y="12700"/>
                </a:cubicBezTo>
                <a:cubicBezTo>
                  <a:pt x="5009" y="12677"/>
                  <a:pt x="5017" y="12673"/>
                  <a:pt x="5011" y="12650"/>
                </a:cubicBezTo>
              </a:path>
              <a:path w="6450" h="1911">
                <a:moveTo>
                  <a:pt x="4837" y="13940"/>
                </a:moveTo>
                <a:cubicBezTo>
                  <a:pt x="4786" y="14084"/>
                  <a:pt x="4738" y="14236"/>
                  <a:pt x="4713" y="14387"/>
                </a:cubicBezTo>
                <a:cubicBezTo>
                  <a:pt x="4713" y="14436"/>
                  <a:pt x="4713" y="14453"/>
                  <a:pt x="4713" y="14486"/>
                </a:cubicBezTo>
              </a:path>
              <a:path w="6450" h="1911">
                <a:moveTo>
                  <a:pt x="5482" y="12948"/>
                </a:moveTo>
                <a:cubicBezTo>
                  <a:pt x="5401" y="13079"/>
                  <a:pt x="5328" y="13207"/>
                  <a:pt x="5259" y="13345"/>
                </a:cubicBezTo>
                <a:cubicBezTo>
                  <a:pt x="5200" y="13462"/>
                  <a:pt x="5160" y="13583"/>
                  <a:pt x="5184" y="13717"/>
                </a:cubicBezTo>
                <a:cubicBezTo>
                  <a:pt x="5200" y="13806"/>
                  <a:pt x="5294" y="13977"/>
                  <a:pt x="5407" y="13915"/>
                </a:cubicBezTo>
                <a:cubicBezTo>
                  <a:pt x="5513" y="13857"/>
                  <a:pt x="5601" y="13723"/>
                  <a:pt x="5655" y="13618"/>
                </a:cubicBezTo>
                <a:cubicBezTo>
                  <a:pt x="5719" y="13493"/>
                  <a:pt x="5797" y="13341"/>
                  <a:pt x="5779" y="13196"/>
                </a:cubicBezTo>
                <a:cubicBezTo>
                  <a:pt x="5763" y="13068"/>
                  <a:pt x="5711" y="13023"/>
                  <a:pt x="5606" y="12973"/>
                </a:cubicBezTo>
                <a:cubicBezTo>
                  <a:pt x="5524" y="12934"/>
                  <a:pt x="5481" y="12948"/>
                  <a:pt x="5407" y="12998"/>
                </a:cubicBezTo>
              </a:path>
              <a:path w="6450" h="1911">
                <a:moveTo>
                  <a:pt x="6077" y="13196"/>
                </a:moveTo>
                <a:cubicBezTo>
                  <a:pt x="6007" y="13347"/>
                  <a:pt x="5885" y="13516"/>
                  <a:pt x="5904" y="13692"/>
                </a:cubicBezTo>
                <a:cubicBezTo>
                  <a:pt x="5918" y="13821"/>
                  <a:pt x="5997" y="13900"/>
                  <a:pt x="6102" y="13965"/>
                </a:cubicBezTo>
                <a:cubicBezTo>
                  <a:pt x="6194" y="14022"/>
                  <a:pt x="6253" y="13990"/>
                  <a:pt x="6325" y="13940"/>
                </a:cubicBezTo>
                <a:cubicBezTo>
                  <a:pt x="6451" y="13853"/>
                  <a:pt x="6514" y="13714"/>
                  <a:pt x="6524" y="13568"/>
                </a:cubicBezTo>
                <a:cubicBezTo>
                  <a:pt x="6531" y="13463"/>
                  <a:pt x="6505" y="13341"/>
                  <a:pt x="6424" y="13271"/>
                </a:cubicBezTo>
                <a:cubicBezTo>
                  <a:pt x="6356" y="13212"/>
                  <a:pt x="6292" y="13151"/>
                  <a:pt x="6201" y="13146"/>
                </a:cubicBezTo>
                <a:cubicBezTo>
                  <a:pt x="6146" y="13143"/>
                  <a:pt x="6140" y="13133"/>
                  <a:pt x="6127" y="13171"/>
                </a:cubicBezTo>
              </a:path>
              <a:path w="6450" h="1911">
                <a:moveTo>
                  <a:pt x="6945" y="13271"/>
                </a:moveTo>
                <a:cubicBezTo>
                  <a:pt x="6813" y="13394"/>
                  <a:pt x="6564" y="13566"/>
                  <a:pt x="6598" y="13791"/>
                </a:cubicBezTo>
                <a:cubicBezTo>
                  <a:pt x="6614" y="13896"/>
                  <a:pt x="6728" y="13923"/>
                  <a:pt x="6821" y="13940"/>
                </a:cubicBezTo>
                <a:cubicBezTo>
                  <a:pt x="6904" y="13955"/>
                  <a:pt x="7017" y="13901"/>
                  <a:pt x="7069" y="13841"/>
                </a:cubicBezTo>
                <a:cubicBezTo>
                  <a:pt x="7133" y="13768"/>
                  <a:pt x="7179" y="13617"/>
                  <a:pt x="7193" y="13519"/>
                </a:cubicBezTo>
                <a:cubicBezTo>
                  <a:pt x="7214" y="13374"/>
                  <a:pt x="7108" y="13266"/>
                  <a:pt x="6995" y="13196"/>
                </a:cubicBezTo>
                <a:cubicBezTo>
                  <a:pt x="6943" y="13164"/>
                  <a:pt x="6904" y="13171"/>
                  <a:pt x="6846" y="13171"/>
                </a:cubicBezTo>
              </a:path>
              <a:path w="6450" h="1911">
                <a:moveTo>
                  <a:pt x="7317" y="14089"/>
                </a:moveTo>
                <a:cubicBezTo>
                  <a:pt x="7269" y="14224"/>
                  <a:pt x="7179" y="14390"/>
                  <a:pt x="7169" y="14536"/>
                </a:cubicBezTo>
                <a:cubicBezTo>
                  <a:pt x="7169" y="14544"/>
                  <a:pt x="7169" y="14552"/>
                  <a:pt x="7169" y="14560"/>
                </a:cubicBezTo>
              </a:path>
              <a:path w="6450" h="1911">
                <a:moveTo>
                  <a:pt x="7987" y="13370"/>
                </a:moveTo>
                <a:cubicBezTo>
                  <a:pt x="7863" y="13461"/>
                  <a:pt x="7741" y="13556"/>
                  <a:pt x="7714" y="13717"/>
                </a:cubicBezTo>
                <a:cubicBezTo>
                  <a:pt x="7697" y="13817"/>
                  <a:pt x="7754" y="13977"/>
                  <a:pt x="7838" y="14039"/>
                </a:cubicBezTo>
                <a:cubicBezTo>
                  <a:pt x="7929" y="14106"/>
                  <a:pt x="8007" y="14121"/>
                  <a:pt x="8111" y="14089"/>
                </a:cubicBezTo>
                <a:cubicBezTo>
                  <a:pt x="8216" y="14057"/>
                  <a:pt x="8302" y="13936"/>
                  <a:pt x="8359" y="13841"/>
                </a:cubicBezTo>
                <a:cubicBezTo>
                  <a:pt x="8418" y="13743"/>
                  <a:pt x="8470" y="13585"/>
                  <a:pt x="8434" y="13469"/>
                </a:cubicBezTo>
                <a:cubicBezTo>
                  <a:pt x="8404" y="13370"/>
                  <a:pt x="8306" y="13239"/>
                  <a:pt x="8210" y="13196"/>
                </a:cubicBezTo>
                <a:cubicBezTo>
                  <a:pt x="8128" y="13159"/>
                  <a:pt x="7992" y="13151"/>
                  <a:pt x="7913" y="13196"/>
                </a:cubicBezTo>
                <a:cubicBezTo>
                  <a:pt x="7872" y="13237"/>
                  <a:pt x="7880" y="13262"/>
                  <a:pt x="7962" y="13295"/>
                </a:cubicBezTo>
              </a:path>
              <a:path w="6450" h="1911">
                <a:moveTo>
                  <a:pt x="8781" y="13271"/>
                </a:moveTo>
                <a:cubicBezTo>
                  <a:pt x="8669" y="13392"/>
                  <a:pt x="8554" y="13546"/>
                  <a:pt x="8533" y="13717"/>
                </a:cubicBezTo>
                <a:cubicBezTo>
                  <a:pt x="8517" y="13848"/>
                  <a:pt x="8598" y="14009"/>
                  <a:pt x="8706" y="14089"/>
                </a:cubicBezTo>
                <a:cubicBezTo>
                  <a:pt x="8826" y="14178"/>
                  <a:pt x="8910" y="14174"/>
                  <a:pt x="9029" y="14114"/>
                </a:cubicBezTo>
                <a:cubicBezTo>
                  <a:pt x="9170" y="14043"/>
                  <a:pt x="9280" y="13944"/>
                  <a:pt x="9327" y="13791"/>
                </a:cubicBezTo>
                <a:cubicBezTo>
                  <a:pt x="9365" y="13667"/>
                  <a:pt x="9327" y="13525"/>
                  <a:pt x="9252" y="13419"/>
                </a:cubicBezTo>
                <a:cubicBezTo>
                  <a:pt x="9172" y="13306"/>
                  <a:pt x="9054" y="13295"/>
                  <a:pt x="8930" y="13295"/>
                </a:cubicBezTo>
                <a:cubicBezTo>
                  <a:pt x="8837" y="13295"/>
                  <a:pt x="8896" y="13309"/>
                  <a:pt x="8905" y="13370"/>
                </a:cubicBezTo>
              </a:path>
              <a:path w="6450" h="1911">
                <a:moveTo>
                  <a:pt x="9723" y="13370"/>
                </a:moveTo>
                <a:cubicBezTo>
                  <a:pt x="9629" y="13507"/>
                  <a:pt x="9481" y="13680"/>
                  <a:pt x="9525" y="13866"/>
                </a:cubicBezTo>
                <a:cubicBezTo>
                  <a:pt x="9569" y="14049"/>
                  <a:pt x="9676" y="14143"/>
                  <a:pt x="9823" y="14238"/>
                </a:cubicBezTo>
                <a:cubicBezTo>
                  <a:pt x="9955" y="14323"/>
                  <a:pt x="10034" y="14329"/>
                  <a:pt x="10170" y="14263"/>
                </a:cubicBezTo>
                <a:cubicBezTo>
                  <a:pt x="10281" y="14209"/>
                  <a:pt x="10414" y="14119"/>
                  <a:pt x="10443" y="13990"/>
                </a:cubicBezTo>
                <a:cubicBezTo>
                  <a:pt x="10478" y="13834"/>
                  <a:pt x="10394" y="13720"/>
                  <a:pt x="10319" y="13593"/>
                </a:cubicBezTo>
                <a:cubicBezTo>
                  <a:pt x="10220" y="13426"/>
                  <a:pt x="10104" y="13320"/>
                  <a:pt x="9922" y="13246"/>
                </a:cubicBezTo>
                <a:cubicBezTo>
                  <a:pt x="9762" y="13181"/>
                  <a:pt x="9644" y="13178"/>
                  <a:pt x="9475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In how many different ways can five girls and three boys enter a room single file if the girls must all go in before the boy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680" y="4081320"/>
            <a:ext cx="7510320" cy="125640"/>
          </a:xfrm>
          <a:custGeom>
            <a:avLst/>
            <a:gdLst/>
            <a:ahLst/>
            <a:rect l="l" t="t" r="r" b="b"/>
            <a:pathLst>
              <a:path w="20862" h="348">
                <a:moveTo>
                  <a:pt x="1364" y="11410"/>
                </a:moveTo>
                <a:cubicBezTo>
                  <a:pt x="1492" y="11410"/>
                  <a:pt x="1610" y="11422"/>
                  <a:pt x="1736" y="11435"/>
                </a:cubicBezTo>
                <a:cubicBezTo>
                  <a:pt x="1877" y="11450"/>
                  <a:pt x="2038" y="11410"/>
                  <a:pt x="2183" y="11410"/>
                </a:cubicBezTo>
                <a:cubicBezTo>
                  <a:pt x="2437" y="11410"/>
                  <a:pt x="2845" y="11466"/>
                  <a:pt x="3051" y="11385"/>
                </a:cubicBezTo>
                <a:cubicBezTo>
                  <a:pt x="3090" y="11370"/>
                  <a:pt x="3134" y="11356"/>
                  <a:pt x="3175" y="11336"/>
                </a:cubicBezTo>
              </a:path>
              <a:path w="20862" h="348">
                <a:moveTo>
                  <a:pt x="3721" y="11485"/>
                </a:moveTo>
                <a:cubicBezTo>
                  <a:pt x="3751" y="11467"/>
                  <a:pt x="3778" y="11460"/>
                  <a:pt x="3845" y="11460"/>
                </a:cubicBezTo>
                <a:cubicBezTo>
                  <a:pt x="4053" y="11460"/>
                  <a:pt x="5653" y="11495"/>
                  <a:pt x="5655" y="11435"/>
                </a:cubicBezTo>
                <a:cubicBezTo>
                  <a:pt x="5647" y="11435"/>
                  <a:pt x="5639" y="11435"/>
                  <a:pt x="5631" y="11435"/>
                </a:cubicBezTo>
              </a:path>
              <a:path w="20862" h="348">
                <a:moveTo>
                  <a:pt x="6424" y="11534"/>
                </a:moveTo>
                <a:cubicBezTo>
                  <a:pt x="6506" y="11534"/>
                  <a:pt x="6567" y="11512"/>
                  <a:pt x="6648" y="11509"/>
                </a:cubicBezTo>
                <a:cubicBezTo>
                  <a:pt x="6793" y="11504"/>
                  <a:pt x="6927" y="11524"/>
                  <a:pt x="7069" y="11534"/>
                </a:cubicBezTo>
                <a:cubicBezTo>
                  <a:pt x="7276" y="11548"/>
                  <a:pt x="7484" y="11544"/>
                  <a:pt x="7689" y="11559"/>
                </a:cubicBezTo>
                <a:cubicBezTo>
                  <a:pt x="7808" y="11568"/>
                  <a:pt x="7880" y="11481"/>
                  <a:pt x="7987" y="11534"/>
                </a:cubicBezTo>
                <a:cubicBezTo>
                  <a:pt x="8033" y="11580"/>
                  <a:pt x="8072" y="11583"/>
                  <a:pt x="8136" y="11534"/>
                </a:cubicBezTo>
              </a:path>
              <a:path w="20862" h="348">
                <a:moveTo>
                  <a:pt x="8756" y="11633"/>
                </a:moveTo>
                <a:cubicBezTo>
                  <a:pt x="9146" y="11633"/>
                  <a:pt x="9537" y="11626"/>
                  <a:pt x="9922" y="11658"/>
                </a:cubicBezTo>
                <a:cubicBezTo>
                  <a:pt x="10036" y="11667"/>
                  <a:pt x="10139" y="11657"/>
                  <a:pt x="10244" y="11633"/>
                </a:cubicBezTo>
                <a:cubicBezTo>
                  <a:pt x="10274" y="11626"/>
                  <a:pt x="10289" y="11616"/>
                  <a:pt x="10319" y="11609"/>
                </a:cubicBezTo>
              </a:path>
              <a:path w="20862" h="348">
                <a:moveTo>
                  <a:pt x="10864" y="11559"/>
                </a:moveTo>
                <a:cubicBezTo>
                  <a:pt x="10856" y="11559"/>
                  <a:pt x="10848" y="11559"/>
                  <a:pt x="10840" y="11559"/>
                </a:cubicBezTo>
                <a:cubicBezTo>
                  <a:pt x="10881" y="11534"/>
                  <a:pt x="10912" y="11534"/>
                  <a:pt x="10988" y="11534"/>
                </a:cubicBezTo>
                <a:cubicBezTo>
                  <a:pt x="11262" y="11534"/>
                  <a:pt x="11535" y="11545"/>
                  <a:pt x="11807" y="11559"/>
                </a:cubicBezTo>
                <a:cubicBezTo>
                  <a:pt x="11974" y="11568"/>
                  <a:pt x="12134" y="11584"/>
                  <a:pt x="12303" y="11584"/>
                </a:cubicBezTo>
                <a:cubicBezTo>
                  <a:pt x="12405" y="11584"/>
                  <a:pt x="12481" y="11597"/>
                  <a:pt x="12576" y="11584"/>
                </a:cubicBezTo>
                <a:cubicBezTo>
                  <a:pt x="12631" y="11577"/>
                  <a:pt x="12694" y="11584"/>
                  <a:pt x="12750" y="11584"/>
                </a:cubicBezTo>
              </a:path>
              <a:path w="20862" h="348">
                <a:moveTo>
                  <a:pt x="13791" y="11609"/>
                </a:moveTo>
                <a:cubicBezTo>
                  <a:pt x="13819" y="11599"/>
                  <a:pt x="13930" y="11564"/>
                  <a:pt x="13990" y="11559"/>
                </a:cubicBezTo>
                <a:cubicBezTo>
                  <a:pt x="14293" y="11532"/>
                  <a:pt x="14608" y="11565"/>
                  <a:pt x="14908" y="11584"/>
                </a:cubicBezTo>
                <a:cubicBezTo>
                  <a:pt x="15111" y="11596"/>
                  <a:pt x="15341" y="11595"/>
                  <a:pt x="15528" y="11559"/>
                </a:cubicBezTo>
                <a:cubicBezTo>
                  <a:pt x="15544" y="11559"/>
                  <a:pt x="15561" y="11559"/>
                  <a:pt x="15577" y="11559"/>
                </a:cubicBezTo>
              </a:path>
              <a:path w="20862" h="348">
                <a:moveTo>
                  <a:pt x="16570" y="11584"/>
                </a:moveTo>
                <a:cubicBezTo>
                  <a:pt x="16646" y="11565"/>
                  <a:pt x="16710" y="11559"/>
                  <a:pt x="16793" y="11559"/>
                </a:cubicBezTo>
                <a:cubicBezTo>
                  <a:pt x="16976" y="11559"/>
                  <a:pt x="17153" y="11517"/>
                  <a:pt x="17338" y="11534"/>
                </a:cubicBezTo>
                <a:cubicBezTo>
                  <a:pt x="17585" y="11557"/>
                  <a:pt x="17836" y="11570"/>
                  <a:pt x="18083" y="11584"/>
                </a:cubicBezTo>
                <a:cubicBezTo>
                  <a:pt x="18239" y="11593"/>
                  <a:pt x="18398" y="11584"/>
                  <a:pt x="18554" y="11584"/>
                </a:cubicBezTo>
              </a:path>
              <a:path w="20862" h="348">
                <a:moveTo>
                  <a:pt x="19521" y="11683"/>
                </a:moveTo>
                <a:lnTo>
                  <a:pt x="19670" y="11633"/>
                </a:lnTo>
                <a:lnTo>
                  <a:pt x="19745" y="11633"/>
                </a:lnTo>
                <a:lnTo>
                  <a:pt x="19844" y="11633"/>
                </a:lnTo>
                <a:lnTo>
                  <a:pt x="19943" y="11609"/>
                </a:lnTo>
                <a:lnTo>
                  <a:pt x="20067" y="11609"/>
                </a:lnTo>
                <a:lnTo>
                  <a:pt x="20166" y="11609"/>
                </a:lnTo>
                <a:lnTo>
                  <a:pt x="20315" y="11609"/>
                </a:lnTo>
                <a:lnTo>
                  <a:pt x="20464" y="11609"/>
                </a:lnTo>
                <a:lnTo>
                  <a:pt x="20613" y="11609"/>
                </a:lnTo>
                <a:lnTo>
                  <a:pt x="20762" y="11609"/>
                </a:lnTo>
                <a:lnTo>
                  <a:pt x="21084" y="11633"/>
                </a:lnTo>
                <a:lnTo>
                  <a:pt x="21208" y="11633"/>
                </a:lnTo>
                <a:lnTo>
                  <a:pt x="21357" y="11633"/>
                </a:lnTo>
                <a:lnTo>
                  <a:pt x="21506" y="11658"/>
                </a:lnTo>
                <a:lnTo>
                  <a:pt x="21630" y="11658"/>
                </a:lnTo>
                <a:lnTo>
                  <a:pt x="21729" y="11683"/>
                </a:lnTo>
                <a:lnTo>
                  <a:pt x="21828" y="11683"/>
                </a:lnTo>
                <a:lnTo>
                  <a:pt x="21903" y="11683"/>
                </a:lnTo>
                <a:lnTo>
                  <a:pt x="21977" y="11683"/>
                </a:lnTo>
                <a:lnTo>
                  <a:pt x="22051" y="11683"/>
                </a:lnTo>
                <a:lnTo>
                  <a:pt x="22101" y="11683"/>
                </a:lnTo>
                <a:lnTo>
                  <a:pt x="22151" y="11658"/>
                </a:lnTo>
                <a:lnTo>
                  <a:pt x="22175" y="11658"/>
                </a:lnTo>
                <a:lnTo>
                  <a:pt x="22200" y="11658"/>
                </a:lnTo>
                <a:lnTo>
                  <a:pt x="22225" y="11658"/>
                </a:lnTo>
                <a:lnTo>
                  <a:pt x="22225" y="11633"/>
                </a:lnTo>
                <a:lnTo>
                  <a:pt x="22225" y="11658"/>
                </a:lnTo>
                <a:lnTo>
                  <a:pt x="22225" y="11633"/>
                </a:lnTo>
                <a:lnTo>
                  <a:pt x="22225" y="11658"/>
                </a:lnTo>
                <a:lnTo>
                  <a:pt x="22225" y="1165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960" y="3286080"/>
            <a:ext cx="339840" cy="608040"/>
          </a:xfrm>
          <a:custGeom>
            <a:avLst/>
            <a:gdLst/>
            <a:ahLst/>
            <a:rect l="l" t="t" r="r" b="b"/>
            <a:pathLst>
              <a:path w="944" h="1688">
                <a:moveTo>
                  <a:pt x="2009" y="9178"/>
                </a:moveTo>
                <a:cubicBezTo>
                  <a:pt x="2111" y="9169"/>
                  <a:pt x="2202" y="9153"/>
                  <a:pt x="2307" y="9153"/>
                </a:cubicBezTo>
                <a:cubicBezTo>
                  <a:pt x="2348" y="9153"/>
                  <a:pt x="2439" y="9153"/>
                  <a:pt x="2406" y="9128"/>
                </a:cubicBezTo>
                <a:cubicBezTo>
                  <a:pt x="2398" y="9128"/>
                  <a:pt x="2389" y="9128"/>
                  <a:pt x="2381" y="9128"/>
                </a:cubicBezTo>
              </a:path>
              <a:path w="944" h="1688">
                <a:moveTo>
                  <a:pt x="1687" y="9277"/>
                </a:moveTo>
                <a:cubicBezTo>
                  <a:pt x="1671" y="9426"/>
                  <a:pt x="1662" y="9553"/>
                  <a:pt x="1662" y="9699"/>
                </a:cubicBezTo>
                <a:cubicBezTo>
                  <a:pt x="1662" y="9786"/>
                  <a:pt x="1646" y="9876"/>
                  <a:pt x="1637" y="9947"/>
                </a:cubicBezTo>
                <a:cubicBezTo>
                  <a:pt x="1631" y="9992"/>
                  <a:pt x="1653" y="9986"/>
                  <a:pt x="1662" y="10021"/>
                </a:cubicBezTo>
                <a:cubicBezTo>
                  <a:pt x="1696" y="9976"/>
                  <a:pt x="1700" y="9956"/>
                  <a:pt x="1761" y="9922"/>
                </a:cubicBezTo>
                <a:cubicBezTo>
                  <a:pt x="1811" y="9894"/>
                  <a:pt x="1846" y="9876"/>
                  <a:pt x="1910" y="9872"/>
                </a:cubicBezTo>
                <a:cubicBezTo>
                  <a:pt x="1999" y="9867"/>
                  <a:pt x="2078" y="9879"/>
                  <a:pt x="2158" y="9922"/>
                </a:cubicBezTo>
                <a:cubicBezTo>
                  <a:pt x="2283" y="9989"/>
                  <a:pt x="2373" y="10081"/>
                  <a:pt x="2456" y="10195"/>
                </a:cubicBezTo>
                <a:cubicBezTo>
                  <a:pt x="2530" y="10296"/>
                  <a:pt x="2575" y="10393"/>
                  <a:pt x="2580" y="10517"/>
                </a:cubicBezTo>
                <a:cubicBezTo>
                  <a:pt x="2584" y="10612"/>
                  <a:pt x="2559" y="10705"/>
                  <a:pt x="2480" y="10765"/>
                </a:cubicBezTo>
                <a:cubicBezTo>
                  <a:pt x="2414" y="10816"/>
                  <a:pt x="2312" y="10833"/>
                  <a:pt x="2232" y="10815"/>
                </a:cubicBezTo>
                <a:cubicBezTo>
                  <a:pt x="2149" y="10796"/>
                  <a:pt x="2062" y="10755"/>
                  <a:pt x="1984" y="10716"/>
                </a:cubicBezTo>
                <a:cubicBezTo>
                  <a:pt x="1973" y="10710"/>
                  <a:pt x="1861" y="10645"/>
                  <a:pt x="1860" y="10641"/>
                </a:cubicBezTo>
                <a:cubicBezTo>
                  <a:pt x="1839" y="10588"/>
                  <a:pt x="1904" y="10638"/>
                  <a:pt x="1910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0840" y="3348000"/>
            <a:ext cx="457200" cy="600120"/>
          </a:xfrm>
          <a:custGeom>
            <a:avLst/>
            <a:gdLst/>
            <a:ahLst/>
            <a:rect l="l" t="t" r="r" b="b"/>
            <a:pathLst>
              <a:path w="1266" h="1663">
                <a:moveTo>
                  <a:pt x="4142" y="9500"/>
                </a:moveTo>
                <a:cubicBezTo>
                  <a:pt x="4142" y="9599"/>
                  <a:pt x="4139" y="9703"/>
                  <a:pt x="4118" y="9798"/>
                </a:cubicBezTo>
                <a:cubicBezTo>
                  <a:pt x="4097" y="9892"/>
                  <a:pt x="4051" y="9981"/>
                  <a:pt x="4018" y="10071"/>
                </a:cubicBezTo>
                <a:cubicBezTo>
                  <a:pt x="3996" y="10131"/>
                  <a:pt x="3955" y="10215"/>
                  <a:pt x="3944" y="10269"/>
                </a:cubicBezTo>
                <a:cubicBezTo>
                  <a:pt x="3939" y="10293"/>
                  <a:pt x="3947" y="10320"/>
                  <a:pt x="3944" y="10344"/>
                </a:cubicBezTo>
                <a:cubicBezTo>
                  <a:pt x="4056" y="10344"/>
                  <a:pt x="4157" y="10353"/>
                  <a:pt x="4266" y="10368"/>
                </a:cubicBezTo>
                <a:cubicBezTo>
                  <a:pt x="4372" y="10383"/>
                  <a:pt x="4594" y="10399"/>
                  <a:pt x="4688" y="10344"/>
                </a:cubicBezTo>
                <a:cubicBezTo>
                  <a:pt x="4772" y="10295"/>
                  <a:pt x="4892" y="10170"/>
                  <a:pt x="4911" y="10071"/>
                </a:cubicBezTo>
                <a:cubicBezTo>
                  <a:pt x="4930" y="9972"/>
                  <a:pt x="4952" y="9851"/>
                  <a:pt x="4936" y="9748"/>
                </a:cubicBezTo>
                <a:cubicBezTo>
                  <a:pt x="4928" y="9715"/>
                  <a:pt x="4919" y="9682"/>
                  <a:pt x="4911" y="9649"/>
                </a:cubicBezTo>
              </a:path>
              <a:path w="1266" h="1663">
                <a:moveTo>
                  <a:pt x="4713" y="9302"/>
                </a:moveTo>
                <a:cubicBezTo>
                  <a:pt x="4628" y="9330"/>
                  <a:pt x="4656" y="9401"/>
                  <a:pt x="4638" y="9500"/>
                </a:cubicBezTo>
                <a:cubicBezTo>
                  <a:pt x="4608" y="9662"/>
                  <a:pt x="4626" y="9786"/>
                  <a:pt x="4638" y="9947"/>
                </a:cubicBezTo>
                <a:cubicBezTo>
                  <a:pt x="4649" y="10088"/>
                  <a:pt x="4627" y="10225"/>
                  <a:pt x="4638" y="10368"/>
                </a:cubicBezTo>
                <a:cubicBezTo>
                  <a:pt x="4649" y="10514"/>
                  <a:pt x="4670" y="10644"/>
                  <a:pt x="4688" y="10790"/>
                </a:cubicBezTo>
                <a:cubicBezTo>
                  <a:pt x="4697" y="10860"/>
                  <a:pt x="4729" y="10899"/>
                  <a:pt x="4738" y="10964"/>
                </a:cubicBezTo>
              </a:path>
              <a:path w="1266" h="1663">
                <a:moveTo>
                  <a:pt x="3696" y="10344"/>
                </a:moveTo>
                <a:cubicBezTo>
                  <a:pt x="3696" y="10372"/>
                  <a:pt x="3693" y="10382"/>
                  <a:pt x="3671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24080" y="3402000"/>
            <a:ext cx="463680" cy="615960"/>
          </a:xfrm>
          <a:custGeom>
            <a:avLst/>
            <a:gdLst/>
            <a:ahLst/>
            <a:rect l="l" t="t" r="r" b="b"/>
            <a:pathLst>
              <a:path w="1291" h="1712">
                <a:moveTo>
                  <a:pt x="6598" y="9773"/>
                </a:moveTo>
                <a:cubicBezTo>
                  <a:pt x="6652" y="9680"/>
                  <a:pt x="6698" y="9576"/>
                  <a:pt x="6796" y="9525"/>
                </a:cubicBezTo>
                <a:cubicBezTo>
                  <a:pt x="6884" y="9479"/>
                  <a:pt x="6997" y="9454"/>
                  <a:pt x="7094" y="9451"/>
                </a:cubicBezTo>
                <a:cubicBezTo>
                  <a:pt x="7203" y="9447"/>
                  <a:pt x="7288" y="9480"/>
                  <a:pt x="7367" y="9550"/>
                </a:cubicBezTo>
                <a:cubicBezTo>
                  <a:pt x="7456" y="9629"/>
                  <a:pt x="7449" y="9689"/>
                  <a:pt x="7417" y="9798"/>
                </a:cubicBezTo>
                <a:cubicBezTo>
                  <a:pt x="7387" y="9901"/>
                  <a:pt x="7312" y="9991"/>
                  <a:pt x="7243" y="10071"/>
                </a:cubicBezTo>
                <a:cubicBezTo>
                  <a:pt x="7172" y="10154"/>
                  <a:pt x="7062" y="10217"/>
                  <a:pt x="6995" y="10294"/>
                </a:cubicBezTo>
                <a:cubicBezTo>
                  <a:pt x="6952" y="10344"/>
                  <a:pt x="6953" y="10340"/>
                  <a:pt x="6896" y="10368"/>
                </a:cubicBezTo>
                <a:cubicBezTo>
                  <a:pt x="6928" y="10354"/>
                  <a:pt x="6982" y="10326"/>
                  <a:pt x="7020" y="10319"/>
                </a:cubicBezTo>
                <a:cubicBezTo>
                  <a:pt x="7082" y="10308"/>
                  <a:pt x="7138" y="10320"/>
                  <a:pt x="7193" y="10344"/>
                </a:cubicBezTo>
                <a:cubicBezTo>
                  <a:pt x="7281" y="10383"/>
                  <a:pt x="7347" y="10427"/>
                  <a:pt x="7392" y="10517"/>
                </a:cubicBezTo>
                <a:cubicBezTo>
                  <a:pt x="7448" y="10629"/>
                  <a:pt x="7449" y="10727"/>
                  <a:pt x="7441" y="10840"/>
                </a:cubicBezTo>
                <a:cubicBezTo>
                  <a:pt x="7432" y="10966"/>
                  <a:pt x="7382" y="10989"/>
                  <a:pt x="7293" y="11063"/>
                </a:cubicBezTo>
                <a:cubicBezTo>
                  <a:pt x="7183" y="11154"/>
                  <a:pt x="7133" y="11182"/>
                  <a:pt x="6970" y="11162"/>
                </a:cubicBezTo>
                <a:cubicBezTo>
                  <a:pt x="6911" y="11155"/>
                  <a:pt x="6849" y="11089"/>
                  <a:pt x="6821" y="11063"/>
                </a:cubicBezTo>
                <a:cubicBezTo>
                  <a:pt x="6777" y="11021"/>
                  <a:pt x="6790" y="11011"/>
                  <a:pt x="6772" y="10964"/>
                </a:cubicBezTo>
                <a:cubicBezTo>
                  <a:pt x="6772" y="10936"/>
                  <a:pt x="6770" y="10925"/>
                  <a:pt x="6747" y="10914"/>
                </a:cubicBezTo>
              </a:path>
              <a:path w="1291" h="1712">
                <a:moveTo>
                  <a:pt x="6201" y="10468"/>
                </a:moveTo>
                <a:cubicBezTo>
                  <a:pt x="6162" y="10468"/>
                  <a:pt x="6176" y="10451"/>
                  <a:pt x="617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09960" y="3419640"/>
            <a:ext cx="446040" cy="652320"/>
          </a:xfrm>
          <a:custGeom>
            <a:avLst/>
            <a:gdLst/>
            <a:ahLst/>
            <a:rect l="l" t="t" r="r" b="b"/>
            <a:pathLst>
              <a:path w="1241" h="1812">
                <a:moveTo>
                  <a:pt x="8930" y="9823"/>
                </a:moveTo>
                <a:cubicBezTo>
                  <a:pt x="8954" y="9749"/>
                  <a:pt x="8970" y="9714"/>
                  <a:pt x="9004" y="9649"/>
                </a:cubicBezTo>
                <a:cubicBezTo>
                  <a:pt x="9029" y="9602"/>
                  <a:pt x="9060" y="9559"/>
                  <a:pt x="9103" y="9525"/>
                </a:cubicBezTo>
                <a:cubicBezTo>
                  <a:pt x="9148" y="9490"/>
                  <a:pt x="9248" y="9488"/>
                  <a:pt x="9302" y="9500"/>
                </a:cubicBezTo>
                <a:cubicBezTo>
                  <a:pt x="9396" y="9521"/>
                  <a:pt x="9454" y="9594"/>
                  <a:pt x="9500" y="9674"/>
                </a:cubicBezTo>
                <a:cubicBezTo>
                  <a:pt x="9578" y="9811"/>
                  <a:pt x="9595" y="9942"/>
                  <a:pt x="9599" y="10096"/>
                </a:cubicBezTo>
                <a:cubicBezTo>
                  <a:pt x="9603" y="10227"/>
                  <a:pt x="9596" y="10364"/>
                  <a:pt x="9575" y="10492"/>
                </a:cubicBezTo>
                <a:cubicBezTo>
                  <a:pt x="9554" y="10618"/>
                  <a:pt x="9482" y="10765"/>
                  <a:pt x="9401" y="10864"/>
                </a:cubicBezTo>
                <a:cubicBezTo>
                  <a:pt x="9321" y="10962"/>
                  <a:pt x="9181" y="11056"/>
                  <a:pt x="9054" y="11063"/>
                </a:cubicBezTo>
                <a:cubicBezTo>
                  <a:pt x="9006" y="11066"/>
                  <a:pt x="8953" y="11067"/>
                  <a:pt x="8930" y="11013"/>
                </a:cubicBezTo>
                <a:cubicBezTo>
                  <a:pt x="8906" y="10958"/>
                  <a:pt x="8933" y="10865"/>
                  <a:pt x="8954" y="10815"/>
                </a:cubicBezTo>
                <a:cubicBezTo>
                  <a:pt x="8989" y="10731"/>
                  <a:pt x="9008" y="10727"/>
                  <a:pt x="9079" y="10691"/>
                </a:cubicBezTo>
                <a:cubicBezTo>
                  <a:pt x="9152" y="10654"/>
                  <a:pt x="9179" y="10690"/>
                  <a:pt x="9227" y="10740"/>
                </a:cubicBezTo>
                <a:cubicBezTo>
                  <a:pt x="9282" y="10798"/>
                  <a:pt x="9316" y="10842"/>
                  <a:pt x="9351" y="10914"/>
                </a:cubicBezTo>
                <a:cubicBezTo>
                  <a:pt x="9388" y="10989"/>
                  <a:pt x="9422" y="11061"/>
                  <a:pt x="9451" y="11137"/>
                </a:cubicBezTo>
                <a:cubicBezTo>
                  <a:pt x="9468" y="11181"/>
                  <a:pt x="9480" y="11222"/>
                  <a:pt x="9500" y="11261"/>
                </a:cubicBezTo>
                <a:cubicBezTo>
                  <a:pt x="9533" y="11328"/>
                  <a:pt x="9521" y="11293"/>
                  <a:pt x="9550" y="11286"/>
                </a:cubicBezTo>
              </a:path>
              <a:path w="1241" h="1812">
                <a:moveTo>
                  <a:pt x="8458" y="10468"/>
                </a:moveTo>
                <a:cubicBezTo>
                  <a:pt x="8450" y="10468"/>
                  <a:pt x="8442" y="10468"/>
                  <a:pt x="8434" y="10468"/>
                </a:cubicBezTo>
                <a:cubicBezTo>
                  <a:pt x="8421" y="10507"/>
                  <a:pt x="8422" y="10478"/>
                  <a:pt x="8409" y="10517"/>
                </a:cubicBezTo>
                <a:cubicBezTo>
                  <a:pt x="8384" y="10517"/>
                  <a:pt x="8376" y="10517"/>
                  <a:pt x="8359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8840" y="378612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10666" y="10567"/>
                </a:moveTo>
                <a:cubicBezTo>
                  <a:pt x="10619" y="10567"/>
                  <a:pt x="10603" y="10550"/>
                  <a:pt x="10567" y="10542"/>
                </a:cubicBezTo>
                <a:cubicBezTo>
                  <a:pt x="10515" y="10542"/>
                  <a:pt x="10497" y="10541"/>
                  <a:pt x="10468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9960" y="3411360"/>
            <a:ext cx="44280" cy="731880"/>
          </a:xfrm>
          <a:custGeom>
            <a:avLst/>
            <a:gdLst/>
            <a:ahLst/>
            <a:rect l="l" t="t" r="r" b="b"/>
            <a:pathLst>
              <a:path w="125" h="2035">
                <a:moveTo>
                  <a:pt x="11683" y="9500"/>
                </a:moveTo>
                <a:cubicBezTo>
                  <a:pt x="11683" y="9492"/>
                  <a:pt x="11683" y="9483"/>
                  <a:pt x="11683" y="9475"/>
                </a:cubicBezTo>
                <a:cubicBezTo>
                  <a:pt x="11704" y="9496"/>
                  <a:pt x="11722" y="9503"/>
                  <a:pt x="11733" y="9550"/>
                </a:cubicBezTo>
                <a:cubicBezTo>
                  <a:pt x="11743" y="9594"/>
                  <a:pt x="11714" y="9611"/>
                  <a:pt x="11708" y="9649"/>
                </a:cubicBezTo>
                <a:cubicBezTo>
                  <a:pt x="11697" y="9717"/>
                  <a:pt x="11700" y="9781"/>
                  <a:pt x="11683" y="9847"/>
                </a:cubicBezTo>
                <a:cubicBezTo>
                  <a:pt x="11654" y="9956"/>
                  <a:pt x="11618" y="10057"/>
                  <a:pt x="11609" y="10170"/>
                </a:cubicBezTo>
                <a:cubicBezTo>
                  <a:pt x="11598" y="10306"/>
                  <a:pt x="11630" y="10433"/>
                  <a:pt x="11633" y="10567"/>
                </a:cubicBezTo>
                <a:cubicBezTo>
                  <a:pt x="11637" y="10744"/>
                  <a:pt x="11641" y="10914"/>
                  <a:pt x="11658" y="11088"/>
                </a:cubicBezTo>
                <a:cubicBezTo>
                  <a:pt x="11668" y="11188"/>
                  <a:pt x="11678" y="11286"/>
                  <a:pt x="11683" y="11385"/>
                </a:cubicBezTo>
                <a:cubicBezTo>
                  <a:pt x="11685" y="11434"/>
                  <a:pt x="11654" y="11445"/>
                  <a:pt x="11683" y="11485"/>
                </a:cubicBezTo>
                <a:cubicBezTo>
                  <a:pt x="11708" y="11485"/>
                  <a:pt x="11716" y="11485"/>
                  <a:pt x="11708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375000"/>
            <a:ext cx="561960" cy="689040"/>
          </a:xfrm>
          <a:custGeom>
            <a:avLst/>
            <a:gdLst/>
            <a:ahLst/>
            <a:rect l="l" t="t" r="r" b="b"/>
            <a:pathLst>
              <a:path w="1563" h="1911">
                <a:moveTo>
                  <a:pt x="13742" y="9451"/>
                </a:moveTo>
                <a:cubicBezTo>
                  <a:pt x="13847" y="9398"/>
                  <a:pt x="13943" y="9357"/>
                  <a:pt x="14064" y="9376"/>
                </a:cubicBezTo>
                <a:cubicBezTo>
                  <a:pt x="14220" y="9401"/>
                  <a:pt x="14373" y="9467"/>
                  <a:pt x="14461" y="9599"/>
                </a:cubicBezTo>
                <a:cubicBezTo>
                  <a:pt x="14523" y="9693"/>
                  <a:pt x="14480" y="9771"/>
                  <a:pt x="14436" y="9847"/>
                </a:cubicBezTo>
                <a:cubicBezTo>
                  <a:pt x="14395" y="9919"/>
                  <a:pt x="14288" y="10005"/>
                  <a:pt x="14213" y="10046"/>
                </a:cubicBezTo>
                <a:cubicBezTo>
                  <a:pt x="14133" y="10089"/>
                  <a:pt x="14044" y="10121"/>
                  <a:pt x="13965" y="10170"/>
                </a:cubicBezTo>
                <a:cubicBezTo>
                  <a:pt x="13928" y="10193"/>
                  <a:pt x="13884" y="10230"/>
                  <a:pt x="13866" y="10244"/>
                </a:cubicBezTo>
                <a:cubicBezTo>
                  <a:pt x="13919" y="10227"/>
                  <a:pt x="13954" y="10198"/>
                  <a:pt x="14015" y="10195"/>
                </a:cubicBezTo>
                <a:cubicBezTo>
                  <a:pt x="14115" y="10191"/>
                  <a:pt x="14206" y="10238"/>
                  <a:pt x="14288" y="10294"/>
                </a:cubicBezTo>
                <a:cubicBezTo>
                  <a:pt x="14497" y="10438"/>
                  <a:pt x="14648" y="10661"/>
                  <a:pt x="14684" y="10914"/>
                </a:cubicBezTo>
                <a:cubicBezTo>
                  <a:pt x="14700" y="11025"/>
                  <a:pt x="14683" y="11106"/>
                  <a:pt x="14610" y="11187"/>
                </a:cubicBezTo>
                <a:cubicBezTo>
                  <a:pt x="14527" y="11280"/>
                  <a:pt x="14472" y="11269"/>
                  <a:pt x="14362" y="11261"/>
                </a:cubicBezTo>
                <a:cubicBezTo>
                  <a:pt x="14275" y="11254"/>
                  <a:pt x="14166" y="11250"/>
                  <a:pt x="14114" y="11162"/>
                </a:cubicBezTo>
                <a:cubicBezTo>
                  <a:pt x="14046" y="11046"/>
                  <a:pt x="14080" y="10965"/>
                  <a:pt x="14163" y="10864"/>
                </a:cubicBezTo>
                <a:cubicBezTo>
                  <a:pt x="14188" y="10839"/>
                  <a:pt x="14213" y="10815"/>
                  <a:pt x="14238" y="10790"/>
                </a:cubicBezTo>
              </a:path>
              <a:path w="1563" h="1911">
                <a:moveTo>
                  <a:pt x="13146" y="10592"/>
                </a:moveTo>
                <a:cubicBezTo>
                  <a:pt x="13138" y="10600"/>
                  <a:pt x="13130" y="10608"/>
                  <a:pt x="13122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768840"/>
            <a:ext cx="54000" cy="17280"/>
          </a:xfrm>
          <a:custGeom>
            <a:avLst/>
            <a:gdLst/>
            <a:ahLst/>
            <a:rect l="l" t="t" r="r" b="b"/>
            <a:pathLst>
              <a:path w="150" h="50">
                <a:moveTo>
                  <a:pt x="15602" y="10517"/>
                </a:moveTo>
                <a:cubicBezTo>
                  <a:pt x="15540" y="10508"/>
                  <a:pt x="15519" y="10494"/>
                  <a:pt x="1545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6200" y="3463920"/>
            <a:ext cx="509760" cy="59040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6545" y="9922"/>
                </a:moveTo>
                <a:cubicBezTo>
                  <a:pt x="16617" y="9822"/>
                  <a:pt x="16685" y="9763"/>
                  <a:pt x="16793" y="9699"/>
                </a:cubicBezTo>
                <a:cubicBezTo>
                  <a:pt x="16897" y="9637"/>
                  <a:pt x="16984" y="9642"/>
                  <a:pt x="17090" y="9649"/>
                </a:cubicBezTo>
                <a:cubicBezTo>
                  <a:pt x="17248" y="9659"/>
                  <a:pt x="17337" y="9722"/>
                  <a:pt x="17438" y="9847"/>
                </a:cubicBezTo>
                <a:cubicBezTo>
                  <a:pt x="17514" y="9940"/>
                  <a:pt x="17561" y="10126"/>
                  <a:pt x="17537" y="10244"/>
                </a:cubicBezTo>
                <a:cubicBezTo>
                  <a:pt x="17503" y="10409"/>
                  <a:pt x="17408" y="10586"/>
                  <a:pt x="17338" y="10740"/>
                </a:cubicBezTo>
                <a:cubicBezTo>
                  <a:pt x="17263" y="10905"/>
                  <a:pt x="17158" y="11016"/>
                  <a:pt x="16991" y="11088"/>
                </a:cubicBezTo>
                <a:cubicBezTo>
                  <a:pt x="16888" y="11132"/>
                  <a:pt x="16865" y="11136"/>
                  <a:pt x="16768" y="11088"/>
                </a:cubicBezTo>
                <a:cubicBezTo>
                  <a:pt x="16687" y="11048"/>
                  <a:pt x="16638" y="10979"/>
                  <a:pt x="16619" y="10889"/>
                </a:cubicBezTo>
                <a:cubicBezTo>
                  <a:pt x="16607" y="10835"/>
                  <a:pt x="16614" y="10768"/>
                  <a:pt x="16669" y="10740"/>
                </a:cubicBezTo>
                <a:cubicBezTo>
                  <a:pt x="16731" y="10708"/>
                  <a:pt x="16863" y="10766"/>
                  <a:pt x="16917" y="10790"/>
                </a:cubicBezTo>
                <a:cubicBezTo>
                  <a:pt x="17034" y="10841"/>
                  <a:pt x="17135" y="10938"/>
                  <a:pt x="17239" y="11013"/>
                </a:cubicBezTo>
                <a:cubicBezTo>
                  <a:pt x="17338" y="11084"/>
                  <a:pt x="17426" y="11184"/>
                  <a:pt x="17537" y="11237"/>
                </a:cubicBezTo>
                <a:cubicBezTo>
                  <a:pt x="17698" y="11314"/>
                  <a:pt x="17816" y="11231"/>
                  <a:pt x="17959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384804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9000" y="10691"/>
                </a:moveTo>
                <a:cubicBezTo>
                  <a:pt x="19000" y="10730"/>
                  <a:pt x="19017" y="10716"/>
                  <a:pt x="1905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50040" y="3340080"/>
            <a:ext cx="63720" cy="687240"/>
          </a:xfrm>
          <a:custGeom>
            <a:avLst/>
            <a:gdLst/>
            <a:ahLst/>
            <a:rect l="l" t="t" r="r" b="b"/>
            <a:pathLst>
              <a:path w="175" h="1911">
                <a:moveTo>
                  <a:pt x="20141" y="9277"/>
                </a:moveTo>
                <a:cubicBezTo>
                  <a:pt x="20183" y="9402"/>
                  <a:pt x="20169" y="9494"/>
                  <a:pt x="20166" y="9624"/>
                </a:cubicBezTo>
                <a:cubicBezTo>
                  <a:pt x="20160" y="9901"/>
                  <a:pt x="20166" y="10127"/>
                  <a:pt x="20216" y="10393"/>
                </a:cubicBezTo>
                <a:cubicBezTo>
                  <a:pt x="20247" y="10559"/>
                  <a:pt x="20265" y="10724"/>
                  <a:pt x="20290" y="10889"/>
                </a:cubicBezTo>
                <a:cubicBezTo>
                  <a:pt x="20295" y="10924"/>
                  <a:pt x="20357" y="11154"/>
                  <a:pt x="20315" y="11187"/>
                </a:cubicBezTo>
                <a:cubicBezTo>
                  <a:pt x="20298" y="11187"/>
                  <a:pt x="20282" y="11187"/>
                  <a:pt x="20265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6160" y="4633920"/>
            <a:ext cx="2233800" cy="947880"/>
          </a:xfrm>
          <a:custGeom>
            <a:avLst/>
            <a:gdLst/>
            <a:ahLst/>
            <a:rect l="l" t="t" r="r" b="b"/>
            <a:pathLst>
              <a:path w="6202" h="2630">
                <a:moveTo>
                  <a:pt x="2158" y="12898"/>
                </a:moveTo>
                <a:cubicBezTo>
                  <a:pt x="2203" y="12884"/>
                  <a:pt x="2174" y="12888"/>
                  <a:pt x="2257" y="12898"/>
                </a:cubicBezTo>
                <a:cubicBezTo>
                  <a:pt x="2363" y="12911"/>
                  <a:pt x="2474" y="12920"/>
                  <a:pt x="2580" y="12923"/>
                </a:cubicBezTo>
                <a:cubicBezTo>
                  <a:pt x="2700" y="12927"/>
                  <a:pt x="2809" y="12943"/>
                  <a:pt x="2927" y="12948"/>
                </a:cubicBezTo>
                <a:cubicBezTo>
                  <a:pt x="2988" y="12950"/>
                  <a:pt x="3067" y="12957"/>
                  <a:pt x="3125" y="12973"/>
                </a:cubicBezTo>
                <a:cubicBezTo>
                  <a:pt x="3148" y="12996"/>
                  <a:pt x="3152" y="13004"/>
                  <a:pt x="3175" y="12998"/>
                </a:cubicBezTo>
                <a:cubicBezTo>
                  <a:pt x="3158" y="13048"/>
                  <a:pt x="3142" y="13099"/>
                  <a:pt x="3125" y="13146"/>
                </a:cubicBezTo>
                <a:cubicBezTo>
                  <a:pt x="3096" y="13226"/>
                  <a:pt x="3039" y="13310"/>
                  <a:pt x="3026" y="13395"/>
                </a:cubicBezTo>
                <a:cubicBezTo>
                  <a:pt x="3003" y="13540"/>
                  <a:pt x="2967" y="13694"/>
                  <a:pt x="2952" y="13841"/>
                </a:cubicBezTo>
                <a:cubicBezTo>
                  <a:pt x="2930" y="14059"/>
                  <a:pt x="2952" y="14292"/>
                  <a:pt x="2952" y="14511"/>
                </a:cubicBezTo>
                <a:cubicBezTo>
                  <a:pt x="2969" y="14473"/>
                  <a:pt x="2986" y="14380"/>
                  <a:pt x="3001" y="14312"/>
                </a:cubicBezTo>
                <a:cubicBezTo>
                  <a:pt x="3027" y="14197"/>
                  <a:pt x="3068" y="14078"/>
                  <a:pt x="3101" y="13965"/>
                </a:cubicBezTo>
                <a:cubicBezTo>
                  <a:pt x="3109" y="13940"/>
                  <a:pt x="3117" y="13916"/>
                  <a:pt x="3125" y="13891"/>
                </a:cubicBezTo>
              </a:path>
              <a:path w="6202" h="2630">
                <a:moveTo>
                  <a:pt x="3349" y="13246"/>
                </a:moveTo>
                <a:cubicBezTo>
                  <a:pt x="3412" y="13148"/>
                  <a:pt x="3446" y="13075"/>
                  <a:pt x="3547" y="13022"/>
                </a:cubicBezTo>
                <a:cubicBezTo>
                  <a:pt x="3621" y="12984"/>
                  <a:pt x="3664" y="12973"/>
                  <a:pt x="3746" y="12973"/>
                </a:cubicBezTo>
                <a:cubicBezTo>
                  <a:pt x="3825" y="12973"/>
                  <a:pt x="3837" y="12974"/>
                  <a:pt x="3894" y="13022"/>
                </a:cubicBezTo>
                <a:cubicBezTo>
                  <a:pt x="3945" y="13065"/>
                  <a:pt x="3965" y="13133"/>
                  <a:pt x="3969" y="13196"/>
                </a:cubicBezTo>
                <a:cubicBezTo>
                  <a:pt x="3973" y="13271"/>
                  <a:pt x="3968" y="13326"/>
                  <a:pt x="3944" y="13395"/>
                </a:cubicBezTo>
                <a:cubicBezTo>
                  <a:pt x="3914" y="13479"/>
                  <a:pt x="3876" y="13560"/>
                  <a:pt x="3845" y="13643"/>
                </a:cubicBezTo>
                <a:cubicBezTo>
                  <a:pt x="3808" y="13741"/>
                  <a:pt x="3747" y="13821"/>
                  <a:pt x="3696" y="13915"/>
                </a:cubicBezTo>
                <a:cubicBezTo>
                  <a:pt x="3626" y="14044"/>
                  <a:pt x="3548" y="14169"/>
                  <a:pt x="3473" y="14288"/>
                </a:cubicBezTo>
                <a:cubicBezTo>
                  <a:pt x="3443" y="14335"/>
                  <a:pt x="3407" y="14414"/>
                  <a:pt x="3398" y="14461"/>
                </a:cubicBezTo>
                <a:cubicBezTo>
                  <a:pt x="3398" y="14486"/>
                  <a:pt x="3398" y="14494"/>
                  <a:pt x="3398" y="14511"/>
                </a:cubicBezTo>
                <a:cubicBezTo>
                  <a:pt x="3437" y="14506"/>
                  <a:pt x="3467" y="14492"/>
                  <a:pt x="3497" y="14486"/>
                </a:cubicBezTo>
                <a:cubicBezTo>
                  <a:pt x="3590" y="14467"/>
                  <a:pt x="3685" y="14500"/>
                  <a:pt x="3770" y="14511"/>
                </a:cubicBezTo>
                <a:cubicBezTo>
                  <a:pt x="3859" y="14523"/>
                  <a:pt x="3994" y="14490"/>
                  <a:pt x="4068" y="14436"/>
                </a:cubicBezTo>
                <a:cubicBezTo>
                  <a:pt x="4085" y="14420"/>
                  <a:pt x="4101" y="14403"/>
                  <a:pt x="4118" y="14387"/>
                </a:cubicBezTo>
              </a:path>
              <a:path w="6202" h="2630">
                <a:moveTo>
                  <a:pt x="4366" y="13097"/>
                </a:moveTo>
                <a:cubicBezTo>
                  <a:pt x="4359" y="13153"/>
                  <a:pt x="4356" y="13218"/>
                  <a:pt x="4341" y="13271"/>
                </a:cubicBezTo>
                <a:cubicBezTo>
                  <a:pt x="4314" y="13364"/>
                  <a:pt x="4289" y="13449"/>
                  <a:pt x="4266" y="13543"/>
                </a:cubicBezTo>
                <a:cubicBezTo>
                  <a:pt x="4238" y="13658"/>
                  <a:pt x="4221" y="13774"/>
                  <a:pt x="4217" y="13891"/>
                </a:cubicBezTo>
                <a:cubicBezTo>
                  <a:pt x="4213" y="13999"/>
                  <a:pt x="4238" y="14170"/>
                  <a:pt x="4291" y="14263"/>
                </a:cubicBezTo>
                <a:cubicBezTo>
                  <a:pt x="4321" y="14316"/>
                  <a:pt x="4412" y="14412"/>
                  <a:pt x="4465" y="14436"/>
                </a:cubicBezTo>
                <a:cubicBezTo>
                  <a:pt x="4542" y="14471"/>
                  <a:pt x="4626" y="14503"/>
                  <a:pt x="4713" y="14486"/>
                </a:cubicBezTo>
                <a:cubicBezTo>
                  <a:pt x="4806" y="14468"/>
                  <a:pt x="4885" y="14448"/>
                  <a:pt x="4961" y="14387"/>
                </a:cubicBezTo>
                <a:cubicBezTo>
                  <a:pt x="5021" y="14339"/>
                  <a:pt x="5101" y="14231"/>
                  <a:pt x="5135" y="14163"/>
                </a:cubicBezTo>
                <a:cubicBezTo>
                  <a:pt x="5187" y="14058"/>
                  <a:pt x="5184" y="13954"/>
                  <a:pt x="5184" y="13841"/>
                </a:cubicBezTo>
                <a:cubicBezTo>
                  <a:pt x="5184" y="13706"/>
                  <a:pt x="5154" y="13594"/>
                  <a:pt x="5110" y="13469"/>
                </a:cubicBezTo>
                <a:cubicBezTo>
                  <a:pt x="5062" y="13333"/>
                  <a:pt x="5010" y="13232"/>
                  <a:pt x="4911" y="13122"/>
                </a:cubicBezTo>
                <a:cubicBezTo>
                  <a:pt x="4856" y="13061"/>
                  <a:pt x="4722" y="12986"/>
                  <a:pt x="4638" y="12998"/>
                </a:cubicBezTo>
                <a:cubicBezTo>
                  <a:pt x="4573" y="13007"/>
                  <a:pt x="4491" y="13066"/>
                  <a:pt x="4465" y="13122"/>
                </a:cubicBezTo>
                <a:cubicBezTo>
                  <a:pt x="4414" y="13235"/>
                  <a:pt x="4370" y="13372"/>
                  <a:pt x="4366" y="13494"/>
                </a:cubicBezTo>
                <a:cubicBezTo>
                  <a:pt x="4366" y="13577"/>
                  <a:pt x="4368" y="13611"/>
                  <a:pt x="4390" y="13667"/>
                </a:cubicBezTo>
              </a:path>
              <a:path w="6202" h="2630">
                <a:moveTo>
                  <a:pt x="5531" y="13841"/>
                </a:moveTo>
                <a:cubicBezTo>
                  <a:pt x="5531" y="13889"/>
                  <a:pt x="5560" y="13980"/>
                  <a:pt x="5556" y="14015"/>
                </a:cubicBezTo>
                <a:cubicBezTo>
                  <a:pt x="5547" y="14095"/>
                  <a:pt x="5552" y="14151"/>
                  <a:pt x="5581" y="14238"/>
                </a:cubicBezTo>
                <a:cubicBezTo>
                  <a:pt x="5603" y="14303"/>
                  <a:pt x="5629" y="14336"/>
                  <a:pt x="5680" y="14387"/>
                </a:cubicBezTo>
                <a:cubicBezTo>
                  <a:pt x="5705" y="14412"/>
                  <a:pt x="5742" y="14424"/>
                  <a:pt x="5779" y="14412"/>
                </a:cubicBezTo>
                <a:cubicBezTo>
                  <a:pt x="5849" y="14390"/>
                  <a:pt x="5888" y="14316"/>
                  <a:pt x="5928" y="14263"/>
                </a:cubicBezTo>
                <a:cubicBezTo>
                  <a:pt x="5950" y="14233"/>
                  <a:pt x="5971" y="14155"/>
                  <a:pt x="5978" y="14114"/>
                </a:cubicBezTo>
                <a:cubicBezTo>
                  <a:pt x="5982" y="14089"/>
                  <a:pt x="5970" y="14113"/>
                  <a:pt x="5978" y="14089"/>
                </a:cubicBezTo>
                <a:cubicBezTo>
                  <a:pt x="5978" y="14163"/>
                  <a:pt x="5972" y="14220"/>
                  <a:pt x="6003" y="14288"/>
                </a:cubicBezTo>
                <a:cubicBezTo>
                  <a:pt x="6028" y="14344"/>
                  <a:pt x="6076" y="14402"/>
                  <a:pt x="6127" y="14436"/>
                </a:cubicBezTo>
                <a:cubicBezTo>
                  <a:pt x="6172" y="14466"/>
                  <a:pt x="6247" y="14474"/>
                  <a:pt x="6300" y="14461"/>
                </a:cubicBezTo>
                <a:cubicBezTo>
                  <a:pt x="6331" y="14454"/>
                  <a:pt x="6439" y="14344"/>
                  <a:pt x="6449" y="14312"/>
                </a:cubicBezTo>
                <a:cubicBezTo>
                  <a:pt x="6488" y="14190"/>
                  <a:pt x="6466" y="14060"/>
                  <a:pt x="6449" y="13940"/>
                </a:cubicBezTo>
                <a:cubicBezTo>
                  <a:pt x="6439" y="13868"/>
                  <a:pt x="6397" y="13755"/>
                  <a:pt x="6350" y="13692"/>
                </a:cubicBezTo>
                <a:cubicBezTo>
                  <a:pt x="6314" y="13644"/>
                  <a:pt x="6237" y="13579"/>
                  <a:pt x="6176" y="13568"/>
                </a:cubicBezTo>
                <a:cubicBezTo>
                  <a:pt x="6108" y="13556"/>
                  <a:pt x="6074" y="13577"/>
                  <a:pt x="6052" y="13643"/>
                </a:cubicBezTo>
                <a:cubicBezTo>
                  <a:pt x="6052" y="13651"/>
                  <a:pt x="6052" y="13659"/>
                  <a:pt x="6052" y="13667"/>
                </a:cubicBezTo>
              </a:path>
              <a:path w="6202" h="2630">
                <a:moveTo>
                  <a:pt x="6921" y="14015"/>
                </a:moveTo>
                <a:cubicBezTo>
                  <a:pt x="6852" y="14015"/>
                  <a:pt x="6786" y="14007"/>
                  <a:pt x="6722" y="14039"/>
                </a:cubicBezTo>
                <a:cubicBezTo>
                  <a:pt x="6682" y="14059"/>
                  <a:pt x="6609" y="14141"/>
                  <a:pt x="6598" y="14188"/>
                </a:cubicBezTo>
                <a:cubicBezTo>
                  <a:pt x="6585" y="14241"/>
                  <a:pt x="6590" y="14323"/>
                  <a:pt x="6623" y="14362"/>
                </a:cubicBezTo>
                <a:cubicBezTo>
                  <a:pt x="6647" y="14390"/>
                  <a:pt x="6700" y="14438"/>
                  <a:pt x="6747" y="14412"/>
                </a:cubicBezTo>
                <a:cubicBezTo>
                  <a:pt x="6799" y="14383"/>
                  <a:pt x="6844" y="14314"/>
                  <a:pt x="6871" y="14263"/>
                </a:cubicBezTo>
                <a:cubicBezTo>
                  <a:pt x="6881" y="14245"/>
                  <a:pt x="6975" y="14091"/>
                  <a:pt x="6970" y="14064"/>
                </a:cubicBezTo>
                <a:cubicBezTo>
                  <a:pt x="6962" y="14056"/>
                  <a:pt x="6953" y="14047"/>
                  <a:pt x="6945" y="14039"/>
                </a:cubicBezTo>
                <a:cubicBezTo>
                  <a:pt x="6905" y="14109"/>
                  <a:pt x="6934" y="14141"/>
                  <a:pt x="6970" y="14213"/>
                </a:cubicBezTo>
                <a:cubicBezTo>
                  <a:pt x="7005" y="14284"/>
                  <a:pt x="7046" y="14350"/>
                  <a:pt x="7094" y="14412"/>
                </a:cubicBezTo>
                <a:cubicBezTo>
                  <a:pt x="7119" y="14444"/>
                  <a:pt x="7134" y="14436"/>
                  <a:pt x="7169" y="14436"/>
                </a:cubicBezTo>
              </a:path>
              <a:path w="6202" h="2630">
                <a:moveTo>
                  <a:pt x="7243" y="14238"/>
                </a:moveTo>
                <a:cubicBezTo>
                  <a:pt x="7243" y="14221"/>
                  <a:pt x="7243" y="14205"/>
                  <a:pt x="7243" y="14188"/>
                </a:cubicBezTo>
                <a:cubicBezTo>
                  <a:pt x="7227" y="14167"/>
                  <a:pt x="7196" y="14112"/>
                  <a:pt x="7218" y="14188"/>
                </a:cubicBezTo>
                <a:cubicBezTo>
                  <a:pt x="7231" y="14233"/>
                  <a:pt x="7283" y="14330"/>
                  <a:pt x="7317" y="14362"/>
                </a:cubicBezTo>
                <a:cubicBezTo>
                  <a:pt x="7365" y="14407"/>
                  <a:pt x="7406" y="14408"/>
                  <a:pt x="7466" y="14412"/>
                </a:cubicBezTo>
                <a:cubicBezTo>
                  <a:pt x="7521" y="14416"/>
                  <a:pt x="7574" y="14403"/>
                  <a:pt x="7615" y="14362"/>
                </a:cubicBezTo>
                <a:cubicBezTo>
                  <a:pt x="7663" y="14314"/>
                  <a:pt x="7744" y="14143"/>
                  <a:pt x="7764" y="14089"/>
                </a:cubicBezTo>
                <a:cubicBezTo>
                  <a:pt x="7764" y="14064"/>
                  <a:pt x="7764" y="14056"/>
                  <a:pt x="7764" y="14039"/>
                </a:cubicBezTo>
                <a:cubicBezTo>
                  <a:pt x="7745" y="14076"/>
                  <a:pt x="7729" y="14147"/>
                  <a:pt x="7714" y="14213"/>
                </a:cubicBezTo>
                <a:cubicBezTo>
                  <a:pt x="7683" y="14345"/>
                  <a:pt x="7686" y="14476"/>
                  <a:pt x="7665" y="14610"/>
                </a:cubicBezTo>
                <a:cubicBezTo>
                  <a:pt x="7642" y="14760"/>
                  <a:pt x="7588" y="14892"/>
                  <a:pt x="7541" y="15032"/>
                </a:cubicBezTo>
                <a:cubicBezTo>
                  <a:pt x="7496" y="15167"/>
                  <a:pt x="7441" y="15295"/>
                  <a:pt x="7392" y="15429"/>
                </a:cubicBezTo>
                <a:cubicBezTo>
                  <a:pt x="7373" y="15486"/>
                  <a:pt x="7382" y="15511"/>
                  <a:pt x="7342" y="15503"/>
                </a:cubicBezTo>
                <a:cubicBezTo>
                  <a:pt x="7370" y="15437"/>
                  <a:pt x="7406" y="15371"/>
                  <a:pt x="7441" y="15304"/>
                </a:cubicBezTo>
                <a:cubicBezTo>
                  <a:pt x="7503" y="15185"/>
                  <a:pt x="7591" y="15079"/>
                  <a:pt x="7640" y="14957"/>
                </a:cubicBezTo>
                <a:cubicBezTo>
                  <a:pt x="7690" y="14832"/>
                  <a:pt x="7767" y="14713"/>
                  <a:pt x="7813" y="14585"/>
                </a:cubicBezTo>
                <a:cubicBezTo>
                  <a:pt x="7857" y="14464"/>
                  <a:pt x="7912" y="14356"/>
                  <a:pt x="7962" y="14238"/>
                </a:cubicBezTo>
                <a:cubicBezTo>
                  <a:pt x="8001" y="14147"/>
                  <a:pt x="8018" y="14055"/>
                  <a:pt x="8062" y="13965"/>
                </a:cubicBezTo>
                <a:cubicBezTo>
                  <a:pt x="8084" y="13919"/>
                  <a:pt x="8110" y="13882"/>
                  <a:pt x="8136" y="13841"/>
                </a:cubicBezTo>
                <a:cubicBezTo>
                  <a:pt x="8190" y="13856"/>
                  <a:pt x="8176" y="13837"/>
                  <a:pt x="8210" y="13891"/>
                </a:cubicBezTo>
                <a:cubicBezTo>
                  <a:pt x="8263" y="13975"/>
                  <a:pt x="8289" y="14092"/>
                  <a:pt x="8310" y="14188"/>
                </a:cubicBezTo>
                <a:cubicBezTo>
                  <a:pt x="8342" y="14334"/>
                  <a:pt x="8359" y="14461"/>
                  <a:pt x="8359" y="14610"/>
                </a:cubicBezTo>
                <a:cubicBezTo>
                  <a:pt x="8359" y="14689"/>
                  <a:pt x="8349" y="14674"/>
                  <a:pt x="8310" y="14734"/>
                </a:cubicBezTo>
                <a:cubicBezTo>
                  <a:pt x="8231" y="14716"/>
                  <a:pt x="8206" y="14687"/>
                  <a:pt x="8136" y="14635"/>
                </a:cubicBezTo>
                <a:cubicBezTo>
                  <a:pt x="8023" y="14551"/>
                  <a:pt x="7941" y="14448"/>
                  <a:pt x="7813" y="14387"/>
                </a:cubicBezTo>
                <a:cubicBezTo>
                  <a:pt x="7772" y="14370"/>
                  <a:pt x="7730" y="14354"/>
                  <a:pt x="7689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s and Combi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27Z</dcterms:created>
  <dc:creator>jnewman</dc:creator>
  <dc:description/>
  <dc:language>en-US</dc:language>
  <cp:lastModifiedBy>abeason</cp:lastModifiedBy>
  <dcterms:modified xsi:type="dcterms:W3CDTF">2009-03-31T14:31:41Z</dcterms:modified>
  <cp:revision>7</cp:revision>
  <dc:subject/>
  <dc:title>Lesson 9.6 part one</dc:title>
</cp:coreProperties>
</file>